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7AE-217C-4100-A232-9841CF4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07A-FFE9-4A04-AE02-7B6C256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ED3-03DF-4D74-BF49-C7B97CC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526-555E-4BDA-9802-B836787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7269-2934-47C8-ABAA-A62CA054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45A-C9DE-4F19-9154-D71E5803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E73-6A28-4E67-94E5-5343EEC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84BA-8E3A-4FB7-952D-053A6468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426-E96C-4829-9286-0912671D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8487-7E19-46F1-8151-C98105EA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CC8D-585A-4A70-B6CE-C7C38209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372-934C-462C-A557-293E698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937-C98A-4A26-B445-D5DB0C1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A943-FC23-4D45-9B17-88F7208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F4B-9A64-43BA-8AF8-F69A8E4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E86-430A-434F-ACDA-EFBAB041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405-097B-4704-8D84-018E55D5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366-F741-499A-B0CE-2F826E2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985-1BAF-42E7-B547-CC888BE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A0B-EC67-4658-A8CA-8E71B7E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CCD-1EE6-480C-B968-0D8A8253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93C-32CF-4EA5-9F5A-1480B50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91C-5820-4686-A061-4C27FC0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938-5C29-4842-9423-C8370B9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D0D-DB62-4399-A753-52138729F0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B85-FDB1-4F26-AB49-3041AF71CA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58920" y="0"/>
            <a:ext cx="64198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таблицы умно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5084640"/>
            <a:ext cx="482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одготовил М.С. Наум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5516640"/>
            <a:ext cx="266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ник 7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877000"/>
            <a:ext cx="4498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: Поспелова Г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6308640"/>
            <a:ext cx="41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БОУ "СОШ №20" г. Новомосков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35280" y="620640"/>
            <a:ext cx="525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сиб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 внимание !!!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95672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4581"/>
                </a:moveTo>
                <a:lnTo>
                  <a:pt x="13376" y="7192"/>
                </a:ln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lnTo>
                  <a:pt x="17763" y="11544"/>
                </a:lnTo>
                <a:lnTo>
                  <a:pt x="16109" y="11544"/>
                </a:lnTo>
                <a:lnTo>
                  <a:pt x="16109" y="18733"/>
                </a:lnTo>
                <a:lnTo>
                  <a:pt x="5491" y="18733"/>
                </a:lnTo>
                <a:lnTo>
                  <a:pt x="5491" y="11544"/>
                </a:lnTo>
                <a:lnTo>
                  <a:pt x="3837" y="11544"/>
                </a:lnTo>
                <a:close/>
              </a:path>
              <a:path fill="darkenLess" w="21600" h="23088">
                <a:moveTo>
                  <a:pt x="13376" y="7192"/>
                </a:move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close/>
              </a:path>
              <a:path fill="darkenLess" w="21600" h="23088">
                <a:moveTo>
                  <a:pt x="9877" y="15043"/>
                </a:moveTo>
                <a:lnTo>
                  <a:pt x="11723" y="15043"/>
                </a:lnTo>
                <a:lnTo>
                  <a:pt x="11723" y="18733"/>
                </a:lnTo>
                <a:lnTo>
                  <a:pt x="16109" y="18733"/>
                </a:lnTo>
                <a:lnTo>
                  <a:pt x="16109" y="11544"/>
                </a:lnTo>
                <a:lnTo>
                  <a:pt x="5491" y="11544"/>
                </a:lnTo>
                <a:lnTo>
                  <a:pt x="5491" y="18733"/>
                </a:lnTo>
                <a:lnTo>
                  <a:pt x="9877" y="187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24000" y="260280"/>
            <a:ext cx="51627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те свои зн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умнож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557360"/>
            <a:ext cx="6886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4-х предложен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63640" y="328464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ётся на слайд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авильн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чеза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348000" y="26028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x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060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1128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4036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56720" y="2205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x 8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 : 7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1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4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3284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a500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х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328840" y="388800"/>
            <a:ext cx="46195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1970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сайта «http://nashol.com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ashol.com/2013091473519/uchim-tablicu-umnojeniya-aleksandrova-o-v-2012.htm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1:33:19Z</dcterms:created>
  <dc:creator>ученик</dc:creator>
  <dc:description/>
  <dc:language>en-US</dc:language>
  <cp:lastModifiedBy>Галина</cp:lastModifiedBy>
  <dcterms:modified xsi:type="dcterms:W3CDTF">2018-10-28T12:50:46Z</dcterms:modified>
  <cp:revision>9</cp:revision>
  <dc:subject/>
  <dc:title>Слайд 1</dc:title>
</cp:coreProperties>
</file>