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387-E96A-4674-BF28-B21A99C1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DA2-BE5C-4039-9688-1A10C489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AB9-BDCC-4007-A8AA-C94405C9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41E-26A8-4D91-A724-D79AAFC1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5C11-B3D7-46BA-8460-6ECA7976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957C-C78A-4750-BC47-0C345996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02D8-9AF6-4E8C-ADED-4F41EA13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E070-F834-47E3-A19D-950C301E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2403-6615-4624-872C-962EA0A0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8F98-AE35-4AA8-B1EA-40F09603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0513-219A-4B9F-8DB0-0A06975B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3F6-074A-47A1-B013-71D98185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BF16-C7B4-4872-9A4A-51CF6493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2FB4-DB66-45FA-A1C2-3AE67C1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60F1-BF5A-4DE4-AA49-2295857D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21D8-69D6-414A-9220-F93ECB45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6213-F906-40E0-923D-E003017B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7022-014F-4D31-846A-A2116437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B699-2608-4213-A4F3-E51ED3A4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27DE-1CF8-4165-B17E-1E23D25D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BE43-D727-44BF-A8C3-E5878995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D60A-9E7E-4E8F-8AD8-EFC4ECD3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DB6-8C33-4C8A-89D7-1D88CC8C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6FEC-4237-4724-9C20-8B813D3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A6AC-8F77-43E2-938C-E1F26853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59FF-59C9-473A-8B59-83998284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2493-6034-47A6-99C9-38F3653E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0FDE-2C67-42C4-9321-35604F78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DA82-882B-4A55-9562-C681DDDB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CEA7-C8D3-4DED-8B05-B4B29B33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E40E-7051-440E-A5F4-D5E64D81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CB092-9B19-41FF-9D6B-2826A4C4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61C8-24C7-4BCD-80FE-767DC40A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756-A8F6-4928-B7B8-520B0CC3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E561A-4F60-4562-8116-E361AC39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DCDA-CEE2-423E-A5F7-B2F529DA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5F91-3EB2-4994-9B15-12D56725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C3419-C07B-427F-B8F5-BEDDF8EA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B41C-0957-4B91-9A49-D8EECED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FEF0-9B5C-4CE1-BD0C-4F9D4A03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B5685-0807-4111-AAD8-B981E3E4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6B733-A065-41FE-8438-AAA0A83D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E2FA8-2C9D-4E79-BE0E-7D926297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B078B-7635-4AB1-83B3-E732BB44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4BF-D12C-404B-BA69-810BEA26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61690-0DD2-490E-B492-7EFE99C3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1E87-DC30-40BE-9BBD-005BEC16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31A7-044E-4AA4-8DD7-CAD3B5F0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C46A7-8BE4-4CE3-977D-A30A92D0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F23B-9272-4F5F-8648-7CAE7160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6826-81F3-4434-8565-85962E43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0D0A-E33B-42B3-9871-EB400E7F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A75ED-7FB5-480F-9F33-34C7A46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FE12-2D99-4484-AD6D-D455FADB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2ED25-71B6-4C13-802E-6018EC85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C7D-0E5F-4DDA-AC1D-6978E880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46C89-5CC1-4100-9026-6F41FA73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39F-52C8-443E-84E9-D49ADDA5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1BD-0D3A-44B7-9D2A-C6CC069E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ECE-0B21-4FBC-AF57-9EA795B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2F1-7D26-487D-BF0B-E8A15C7508E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48A3-2A91-41DF-88A5-CED47A65B7F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9455-7404-4193-BA0D-A3C0BA8DC74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0D7F-8A18-41DE-B490-DF6D3345F515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DC2-518D-46F1-9C8D-89E5BFCC461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109440"/>
            <a:ext cx="479736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5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5533920" cy="11397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2"/>
          <p:cNvSpPr/>
          <p:nvPr/>
        </p:nvSpPr>
        <p:spPr>
          <a:xfrm>
            <a:off x="395280" y="5013360"/>
            <a:ext cx="496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Работу выполнил: Александр Поп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ченик 7Б клас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Руководитель: Поспелова Г.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БОУ «СОШ №20» г. Новомосковс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817236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-3095280" y="3429000"/>
            <a:ext cx="652464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2268360" y="26028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яснение  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4000" y="2565360"/>
            <a:ext cx="75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иант ответа, который вы выбрали поменял цвет на крас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ыскочил, то он ошиб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иант ответа поменял цвет на зелёный, то он 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>
            <a:hlinkClick r:id="" action="ppaction://hlinkshowjump?jump=nextslide"/>
          </p:cNvPr>
          <p:cNvSpPr/>
          <p:nvPr/>
        </p:nvSpPr>
        <p:spPr>
          <a:xfrm>
            <a:off x="6804000" y="5734080"/>
            <a:ext cx="1370160" cy="1123920"/>
          </a:xfrm>
          <a:custGeom>
            <a:avLst/>
            <a:gdLst>
              <a:gd name="textAreaLeft" fmla="*/ 72720 w 1370160"/>
              <a:gd name="textAreaRight" fmla="*/ 1297440 w 13701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331" h="21600">
                <a:moveTo>
                  <a:pt x="0" y="0"/>
                </a:moveTo>
                <a:lnTo>
                  <a:pt x="26331" y="0"/>
                </a:lnTo>
                <a:lnTo>
                  <a:pt x="26331" y="21600"/>
                </a:lnTo>
                <a:lnTo>
                  <a:pt x="0" y="21600"/>
                </a:lnTo>
                <a:close/>
              </a:path>
              <a:path fill="lightenLess" w="26331" h="21600">
                <a:moveTo>
                  <a:pt x="0" y="0"/>
                </a:moveTo>
                <a:lnTo>
                  <a:pt x="26331" y="0"/>
                </a:lnTo>
                <a:lnTo>
                  <a:pt x="24931" y="1400"/>
                </a:lnTo>
                <a:lnTo>
                  <a:pt x="1400" y="1400"/>
                </a:lnTo>
                <a:close/>
              </a:path>
              <a:path fill="darken" w="26331" h="21600">
                <a:moveTo>
                  <a:pt x="26331" y="0"/>
                </a:moveTo>
                <a:lnTo>
                  <a:pt x="26331" y="21600"/>
                </a:lnTo>
                <a:lnTo>
                  <a:pt x="24931" y="20200"/>
                </a:lnTo>
                <a:lnTo>
                  <a:pt x="24931" y="1400"/>
                </a:lnTo>
                <a:close/>
              </a:path>
              <a:path fill="darkenLess" w="26331" h="21600">
                <a:moveTo>
                  <a:pt x="26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1" y="20200"/>
                </a:lnTo>
                <a:close/>
              </a:path>
              <a:path fill="lighten" w="26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1" h="21600">
                <a:moveTo>
                  <a:pt x="6159" y="3794"/>
                </a:moveTo>
                <a:lnTo>
                  <a:pt x="20172" y="10800"/>
                </a:lnTo>
                <a:lnTo>
                  <a:pt x="615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1547640" y="189000"/>
            <a:ext cx="554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лько   будет   5  x  12 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684360" y="2852640"/>
            <a:ext cx="51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5</a:t>
            </a:r>
            <a:endParaRPr b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268360" y="4149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9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3851280" y="2781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0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084720" y="3860640"/>
            <a:ext cx="77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5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AutoShape 9">
            <a:hlinkClick r:id="" action="ppaction://hlinkshowjump?jump=nextslide"/>
          </p:cNvPr>
          <p:cNvSpPr/>
          <p:nvPr/>
        </p:nvSpPr>
        <p:spPr>
          <a:xfrm>
            <a:off x="6804000" y="5805360"/>
            <a:ext cx="1366920" cy="1052640"/>
          </a:xfrm>
          <a:custGeom>
            <a:avLst/>
            <a:gdLst>
              <a:gd name="textAreaLeft" fmla="*/ 68040 w 1366920"/>
              <a:gd name="textAreaRight" fmla="*/ 1298880 w 13669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047" h="21600">
                <a:moveTo>
                  <a:pt x="0" y="0"/>
                </a:moveTo>
                <a:lnTo>
                  <a:pt x="28047" y="0"/>
                </a:lnTo>
                <a:lnTo>
                  <a:pt x="28047" y="21600"/>
                </a:lnTo>
                <a:lnTo>
                  <a:pt x="0" y="21600"/>
                </a:lnTo>
                <a:close/>
              </a:path>
              <a:path fill="lightenLess" w="28047" h="21600">
                <a:moveTo>
                  <a:pt x="0" y="0"/>
                </a:moveTo>
                <a:lnTo>
                  <a:pt x="28047" y="0"/>
                </a:lnTo>
                <a:lnTo>
                  <a:pt x="26647" y="1400"/>
                </a:lnTo>
                <a:lnTo>
                  <a:pt x="1400" y="1400"/>
                </a:lnTo>
                <a:close/>
              </a:path>
              <a:path fill="darken" w="28047" h="21600">
                <a:moveTo>
                  <a:pt x="28047" y="0"/>
                </a:moveTo>
                <a:lnTo>
                  <a:pt x="28047" y="21600"/>
                </a:lnTo>
                <a:lnTo>
                  <a:pt x="26647" y="20200"/>
                </a:lnTo>
                <a:lnTo>
                  <a:pt x="26647" y="1400"/>
                </a:lnTo>
                <a:close/>
              </a:path>
              <a:path fill="darkenLess" w="28047" h="21600">
                <a:moveTo>
                  <a:pt x="28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7" y="20200"/>
                </a:lnTo>
                <a:close/>
              </a:path>
              <a:path fill="lighten" w="28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47" h="21600">
                <a:moveTo>
                  <a:pt x="7017" y="3794"/>
                </a:moveTo>
                <a:lnTo>
                  <a:pt x="21030" y="10800"/>
                </a:lnTo>
                <a:lnTo>
                  <a:pt x="701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12"/>
          <p:cNvSpPr txBox="1"/>
          <p:nvPr/>
        </p:nvSpPr>
        <p:spPr>
          <a:xfrm>
            <a:off x="1619280" y="0"/>
            <a:ext cx="547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йдите   НОК   2 - х    чисел  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  и  12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1116000" y="2708280"/>
            <a:ext cx="934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6300720" y="2421000"/>
            <a:ext cx="79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3780000" y="4149720"/>
            <a:ext cx="86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AutoShape 9">
            <a:hlinkClick r:id="" action="ppaction://hlinkshowjump?jump=nextslide"/>
          </p:cNvPr>
          <p:cNvSpPr/>
          <p:nvPr/>
        </p:nvSpPr>
        <p:spPr>
          <a:xfrm>
            <a:off x="6804000" y="5805360"/>
            <a:ext cx="1366920" cy="1052640"/>
          </a:xfrm>
          <a:custGeom>
            <a:avLst/>
            <a:gdLst>
              <a:gd name="textAreaLeft" fmla="*/ 68040 w 1366920"/>
              <a:gd name="textAreaRight" fmla="*/ 1298880 w 13669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047" h="21600">
                <a:moveTo>
                  <a:pt x="0" y="0"/>
                </a:moveTo>
                <a:lnTo>
                  <a:pt x="28047" y="0"/>
                </a:lnTo>
                <a:lnTo>
                  <a:pt x="28047" y="21600"/>
                </a:lnTo>
                <a:lnTo>
                  <a:pt x="0" y="21600"/>
                </a:lnTo>
                <a:close/>
              </a:path>
              <a:path fill="lightenLess" w="28047" h="21600">
                <a:moveTo>
                  <a:pt x="0" y="0"/>
                </a:moveTo>
                <a:lnTo>
                  <a:pt x="28047" y="0"/>
                </a:lnTo>
                <a:lnTo>
                  <a:pt x="26647" y="1400"/>
                </a:lnTo>
                <a:lnTo>
                  <a:pt x="1400" y="1400"/>
                </a:lnTo>
                <a:close/>
              </a:path>
              <a:path fill="darken" w="28047" h="21600">
                <a:moveTo>
                  <a:pt x="28047" y="0"/>
                </a:moveTo>
                <a:lnTo>
                  <a:pt x="28047" y="21600"/>
                </a:lnTo>
                <a:lnTo>
                  <a:pt x="26647" y="20200"/>
                </a:lnTo>
                <a:lnTo>
                  <a:pt x="26647" y="1400"/>
                </a:lnTo>
                <a:close/>
              </a:path>
              <a:path fill="darkenLess" w="28047" h="21600">
                <a:moveTo>
                  <a:pt x="28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7" y="20200"/>
                </a:lnTo>
                <a:close/>
              </a:path>
              <a:path fill="lighten" w="28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47" h="21600">
                <a:moveTo>
                  <a:pt x="7017" y="3794"/>
                </a:moveTo>
                <a:lnTo>
                  <a:pt x="21030" y="10800"/>
                </a:lnTo>
                <a:lnTo>
                  <a:pt x="701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>
            <a:off x="1258920" y="333360"/>
            <a:ext cx="590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  бывают   дроби  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900000" y="2421000"/>
            <a:ext cx="38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ые   и   сложные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3708360" y="3429000"/>
            <a:ext cx="316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лько   лёгк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971640" y="4581360"/>
            <a:ext cx="5100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ые   и   десятич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755640" y="333360"/>
            <a:ext cx="6972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83d68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   невыполнимый   вопрос!</a:t>
            </a:r>
            <a:endParaRPr b="0" lang="en-US" sz="1800" spc="1" strike="noStrike">
              <a:ln w="9360">
                <a:solidFill>
                  <a:srgbClr val="b83d68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3"/>
          <p:cNvSpPr txBox="1"/>
          <p:nvPr/>
        </p:nvSpPr>
        <p:spPr>
          <a:xfrm>
            <a:off x="179280" y="5373720"/>
            <a:ext cx="782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83d68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бы   перейти   к   вопросу   нажмите   на   кнопку</a:t>
            </a:r>
            <a:endParaRPr b="0" lang="en-US" sz="1800" spc="1" strike="noStrike">
              <a:ln w="9360">
                <a:solidFill>
                  <a:srgbClr val="b83d68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4">
            <a:hlinkClick r:id="" action="ppaction://hlinkshowjump?jump=nextslide"/>
          </p:cNvPr>
          <p:cNvSpPr/>
          <p:nvPr/>
        </p:nvSpPr>
        <p:spPr>
          <a:xfrm>
            <a:off x="539640" y="1557360"/>
            <a:ext cx="7056720" cy="3527280"/>
          </a:xfrm>
          <a:custGeom>
            <a:avLst/>
            <a:gdLst>
              <a:gd name="textAreaLeft" fmla="*/ 228600 w 7056720"/>
              <a:gd name="textAreaRight" fmla="*/ 6828120 w 7056720"/>
              <a:gd name="textAreaTop" fmla="*/ 228600 h 3527280"/>
              <a:gd name="textAreaBottom" fmla="*/ 3298680 h 3527280"/>
            </a:gdLst>
            <a:ahLst/>
            <a:rect l="textAreaLeft" t="textAreaTop" r="textAreaRight" b="textAreaBottom"/>
            <a:pathLst>
              <a:path w="43211" h="21600">
                <a:moveTo>
                  <a:pt x="0" y="0"/>
                </a:moveTo>
                <a:lnTo>
                  <a:pt x="43211" y="0"/>
                </a:lnTo>
                <a:lnTo>
                  <a:pt x="43211" y="21600"/>
                </a:lnTo>
                <a:lnTo>
                  <a:pt x="0" y="21600"/>
                </a:lnTo>
                <a:close/>
              </a:path>
              <a:path fill="lightenLess" w="43211" h="21600">
                <a:moveTo>
                  <a:pt x="0" y="0"/>
                </a:moveTo>
                <a:lnTo>
                  <a:pt x="43211" y="0"/>
                </a:lnTo>
                <a:lnTo>
                  <a:pt x="41811" y="1400"/>
                </a:lnTo>
                <a:lnTo>
                  <a:pt x="1400" y="1400"/>
                </a:lnTo>
                <a:close/>
              </a:path>
              <a:path fill="darken" w="43211" h="21600">
                <a:moveTo>
                  <a:pt x="43211" y="0"/>
                </a:moveTo>
                <a:lnTo>
                  <a:pt x="43211" y="21600"/>
                </a:lnTo>
                <a:lnTo>
                  <a:pt x="41811" y="20200"/>
                </a:lnTo>
                <a:lnTo>
                  <a:pt x="41811" y="1400"/>
                </a:lnTo>
                <a:close/>
              </a:path>
              <a:path fill="darkenLess" w="43211" h="21600">
                <a:moveTo>
                  <a:pt x="432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1" y="20200"/>
                </a:lnTo>
                <a:close/>
              </a:path>
              <a:path fill="lighten" w="432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1" h="21600">
                <a:moveTo>
                  <a:pt x="14599" y="3794"/>
                </a:moveTo>
                <a:lnTo>
                  <a:pt x="28612" y="10800"/>
                </a:lnTo>
                <a:lnTo>
                  <a:pt x="1459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6"/>
          <p:cNvSpPr txBox="1"/>
          <p:nvPr/>
        </p:nvSpPr>
        <p:spPr>
          <a:xfrm>
            <a:off x="1116000" y="260280"/>
            <a:ext cx="61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лько   будет   3201 +  633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1042920" y="2708280"/>
            <a:ext cx="18003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66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WordArt 8"/>
          <p:cNvSpPr txBox="1"/>
          <p:nvPr/>
        </p:nvSpPr>
        <p:spPr>
          <a:xfrm>
            <a:off x="2484360" y="4508640"/>
            <a:ext cx="2232000" cy="92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36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WordArt 9"/>
          <p:cNvSpPr txBox="1"/>
          <p:nvPr/>
        </p:nvSpPr>
        <p:spPr>
          <a:xfrm>
            <a:off x="5148360" y="2708280"/>
            <a:ext cx="20160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53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5"/>
          <p:cNvSpPr txBox="1"/>
          <p:nvPr/>
        </p:nvSpPr>
        <p:spPr>
          <a:xfrm>
            <a:off x="755640" y="2143080"/>
            <a:ext cx="71294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 за   внимание !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>
            <a:hlinkClick r:id="" action="ppaction://hlinkshowjump?jump=endshow"/>
          </p:cNvPr>
          <p:cNvSpPr/>
          <p:nvPr/>
        </p:nvSpPr>
        <p:spPr>
          <a:xfrm>
            <a:off x="6804000" y="6021360"/>
            <a:ext cx="1368360" cy="836640"/>
          </a:xfrm>
          <a:custGeom>
            <a:avLst/>
            <a:gdLst>
              <a:gd name="textAreaLeft" fmla="*/ 54000 w 1368360"/>
              <a:gd name="textAreaRight" fmla="*/ 1314360 w 136836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5322" h="21600">
                <a:moveTo>
                  <a:pt x="0" y="0"/>
                </a:moveTo>
                <a:lnTo>
                  <a:pt x="35322" y="0"/>
                </a:lnTo>
                <a:lnTo>
                  <a:pt x="35322" y="21600"/>
                </a:lnTo>
                <a:lnTo>
                  <a:pt x="0" y="21600"/>
                </a:lnTo>
                <a:close/>
              </a:path>
              <a:path fill="lightenLess" w="35322" h="21600">
                <a:moveTo>
                  <a:pt x="0" y="0"/>
                </a:moveTo>
                <a:lnTo>
                  <a:pt x="35322" y="0"/>
                </a:lnTo>
                <a:lnTo>
                  <a:pt x="33922" y="1400"/>
                </a:lnTo>
                <a:lnTo>
                  <a:pt x="1400" y="1400"/>
                </a:lnTo>
                <a:close/>
              </a:path>
              <a:path fill="darken" w="35322" h="21600">
                <a:moveTo>
                  <a:pt x="35322" y="0"/>
                </a:moveTo>
                <a:lnTo>
                  <a:pt x="35322" y="21600"/>
                </a:lnTo>
                <a:lnTo>
                  <a:pt x="33922" y="20200"/>
                </a:lnTo>
                <a:lnTo>
                  <a:pt x="33922" y="1400"/>
                </a:lnTo>
                <a:close/>
              </a:path>
              <a:path fill="darkenLess" w="35322" h="21600">
                <a:moveTo>
                  <a:pt x="35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2" y="20200"/>
                </a:lnTo>
                <a:close/>
              </a:path>
              <a:path fill="lighten" w="35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2" h="21600">
                <a:moveTo>
                  <a:pt x="17661" y="3837"/>
                </a:moveTo>
                <a:lnTo>
                  <a:pt x="20237" y="6448"/>
                </a:lnTo>
                <a:lnTo>
                  <a:pt x="20237" y="4707"/>
                </a:lnTo>
                <a:lnTo>
                  <a:pt x="22013" y="4707"/>
                </a:lnTo>
                <a:lnTo>
                  <a:pt x="22013" y="8224"/>
                </a:lnTo>
                <a:lnTo>
                  <a:pt x="24624" y="10800"/>
                </a:lnTo>
                <a:lnTo>
                  <a:pt x="22970" y="10800"/>
                </a:lnTo>
                <a:lnTo>
                  <a:pt x="22970" y="17989"/>
                </a:lnTo>
                <a:lnTo>
                  <a:pt x="12352" y="17989"/>
                </a:lnTo>
                <a:lnTo>
                  <a:pt x="12352" y="10800"/>
                </a:lnTo>
                <a:lnTo>
                  <a:pt x="10698" y="10800"/>
                </a:lnTo>
                <a:close/>
              </a:path>
              <a:path fill="darkenLess" w="35322" h="21600">
                <a:moveTo>
                  <a:pt x="20237" y="6448"/>
                </a:moveTo>
                <a:lnTo>
                  <a:pt x="20237" y="4707"/>
                </a:lnTo>
                <a:lnTo>
                  <a:pt x="22013" y="4707"/>
                </a:lnTo>
                <a:lnTo>
                  <a:pt x="22013" y="8224"/>
                </a:lnTo>
                <a:close/>
              </a:path>
              <a:path fill="darkenLess" w="35322" h="21600">
                <a:moveTo>
                  <a:pt x="16738" y="14299"/>
                </a:moveTo>
                <a:lnTo>
                  <a:pt x="18583" y="14299"/>
                </a:lnTo>
                <a:lnTo>
                  <a:pt x="18583" y="17989"/>
                </a:lnTo>
                <a:lnTo>
                  <a:pt x="22970" y="17989"/>
                </a:lnTo>
                <a:lnTo>
                  <a:pt x="22970" y="10800"/>
                </a:lnTo>
                <a:lnTo>
                  <a:pt x="12352" y="10800"/>
                </a:lnTo>
                <a:lnTo>
                  <a:pt x="12352" y="17989"/>
                </a:lnTo>
                <a:lnTo>
                  <a:pt x="16738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1:40:50Z</dcterms:created>
  <dc:creator>ученик</dc:creator>
  <dc:description/>
  <dc:language>en-US</dc:language>
  <cp:lastModifiedBy>Галина</cp:lastModifiedBy>
  <dcterms:modified xsi:type="dcterms:W3CDTF">2018-10-28T12:45:55Z</dcterms:modified>
  <cp:revision>18</cp:revision>
  <dc:subject/>
  <dc:title>Слайд 1</dc:title>
</cp:coreProperties>
</file>