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A1D-68ED-4922-AA47-BB93A4A8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943-C26E-4D7D-B7CD-B4F9EA3C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BB2-17B7-403A-B27E-86725AFE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E12-E047-46E6-9155-F630CCBE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97FE-636E-48D4-9CAE-0F33CC0E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761B-4A62-4F31-B7CE-CD11312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BFE2-C5F2-4DBD-A814-5C2CB929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775B-F48F-4767-86BF-48E3B192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CF98-9DC3-43A1-A8B8-A48C364D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F36B-6A12-4938-9D03-4562E28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DCEA-72D1-44C5-BBB4-0E8E998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BB9-7F73-49F7-849F-AA035A5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E15F-4A81-41F7-B084-C2089DB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281B-26CE-44FE-9461-B626C96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FBF5-7122-4C18-ACEA-E9458BA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AAB-3F72-40A7-9E2B-915AA99F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2F4F-89DF-4143-8A71-C9156D94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BAF-83A5-4526-B747-F909DB2C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E77-E049-4F71-90BF-3E8EADC5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7E7-B5FF-4504-B4F7-3D8B5C8F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5BD-5A1A-4C3A-A064-361117D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9E1-CCD5-448D-BD1C-7055993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4C5-2613-429B-9536-7F138A9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FB6-3A51-4EF7-BD23-9240F62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B51C-CA79-4D81-B361-3F3319CCA8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9424-52E0-4BE3-9B52-7CC8004913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549360"/>
            <a:ext cx="77425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Тест 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"Безопасность в сети Интернет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29240"/>
            <a:ext cx="74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аботу выполнил: Чистяков Илья, ученик 7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уководитель: Поспелов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МБОУ «СОШ №20» г. Новомоск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2411280" y="3500280"/>
            <a:ext cx="5185080" cy="1081080"/>
          </a:xfrm>
          <a:custGeom>
            <a:avLst/>
            <a:gdLst>
              <a:gd name="textAreaLeft" fmla="*/ 69840 w 5185080"/>
              <a:gd name="textAreaRight" fmla="*/ 5115240 w 51850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103571" h="21600">
                <a:moveTo>
                  <a:pt x="0" y="0"/>
                </a:moveTo>
                <a:lnTo>
                  <a:pt x="103571" y="0"/>
                </a:lnTo>
                <a:lnTo>
                  <a:pt x="103571" y="21600"/>
                </a:lnTo>
                <a:lnTo>
                  <a:pt x="0" y="21600"/>
                </a:lnTo>
                <a:close/>
              </a:path>
              <a:path fill="lightenLess" w="103571" h="21600">
                <a:moveTo>
                  <a:pt x="0" y="0"/>
                </a:moveTo>
                <a:lnTo>
                  <a:pt x="103571" y="0"/>
                </a:lnTo>
                <a:lnTo>
                  <a:pt x="102171" y="1400"/>
                </a:lnTo>
                <a:lnTo>
                  <a:pt x="1400" y="1400"/>
                </a:lnTo>
                <a:close/>
              </a:path>
              <a:path fill="darken" w="103571" h="21600">
                <a:moveTo>
                  <a:pt x="103571" y="0"/>
                </a:moveTo>
                <a:lnTo>
                  <a:pt x="103571" y="21600"/>
                </a:lnTo>
                <a:lnTo>
                  <a:pt x="102171" y="20200"/>
                </a:lnTo>
                <a:lnTo>
                  <a:pt x="102171" y="1400"/>
                </a:lnTo>
                <a:close/>
              </a:path>
              <a:path fill="darkenLess" w="103571" h="21600">
                <a:moveTo>
                  <a:pt x="103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71" y="20200"/>
                </a:lnTo>
                <a:close/>
              </a:path>
              <a:path fill="lighten" w="103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571" h="21600">
                <a:moveTo>
                  <a:pt x="44779" y="3794"/>
                </a:moveTo>
                <a:lnTo>
                  <a:pt x="58792" y="10800"/>
                </a:lnTo>
                <a:lnTo>
                  <a:pt x="447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32000" y="26028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Инстру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1914120"/>
            <a:ext cx="460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слайде будет вопрос и несколько ответов. Один из них правильный, а все остальные неправильные. При нажатии на неправильный - ответ он исчезает, а при нажатии на правильный – остается на слай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4360" y="549360"/>
            <a:ext cx="813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Какие данные относятся к персональным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42100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421000"/>
            <a:ext cx="83534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крови,     отпечатки   пальцев,     медицинские диагноз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3429000"/>
            <a:ext cx="6480000" cy="79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дения   об   образовании,     фотогра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0920" y="4437000"/>
            <a:ext cx="53150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    вышеперечислен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Можешь ли ты контролировать размещение своих фотографий в сети Интернет,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если выкладываешь их в социальные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2924280"/>
            <a:ext cx="2448000" cy="1871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640" y="2997360"/>
            <a:ext cx="3279960" cy="172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76536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Друг устраивает вечеринку в выходные, и все ваши друзья приглашены. Правильно ли будет разместить дату, время и место на сайте, потому что тогда у каждого будут детали этой вст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2924280"/>
            <a:ext cx="216072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80000" y="2924280"/>
            <a:ext cx="230508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1640" y="4017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Может ли твой друг заходить в твой аккаунт и отправлять от твоего имени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844640"/>
            <a:ext cx="7810560" cy="13683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,  потому  что  он  мой  друг,  и  я  ему  доверяю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95640" y="3789360"/>
            <a:ext cx="1500120" cy="10033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090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ри заполнении онлайн–формы для ввода данных, которые будут опубликованы, какие данные не стоит указывать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2492280"/>
            <a:ext cx="58338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нейм  или  псевдони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48360" y="2637000"/>
            <a:ext cx="1582920" cy="115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0" y="4508640"/>
            <a:ext cx="4038480" cy="7729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учишьс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3933720"/>
            <a:ext cx="4448160" cy="874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живе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8920" y="1844640"/>
            <a:ext cx="6551640" cy="460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erdana"/>
              </a:rPr>
              <a:t>Всё)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89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692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 сайта «Лига безопасного Интернета» - http://www.ligainternet.ru/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7740720" y="5805360"/>
            <a:ext cx="934920" cy="7905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42" h="21600">
                <a:moveTo>
                  <a:pt x="0" y="0"/>
                </a:moveTo>
                <a:lnTo>
                  <a:pt x="25542" y="0"/>
                </a:lnTo>
                <a:lnTo>
                  <a:pt x="25542" y="21600"/>
                </a:lnTo>
                <a:lnTo>
                  <a:pt x="0" y="21600"/>
                </a:lnTo>
                <a:close/>
              </a:path>
              <a:path fill="lightenLess" w="25542" h="21600">
                <a:moveTo>
                  <a:pt x="0" y="0"/>
                </a:moveTo>
                <a:lnTo>
                  <a:pt x="25542" y="0"/>
                </a:lnTo>
                <a:lnTo>
                  <a:pt x="24142" y="1400"/>
                </a:lnTo>
                <a:lnTo>
                  <a:pt x="1400" y="1400"/>
                </a:lnTo>
                <a:close/>
              </a:path>
              <a:path fill="darken" w="25542" h="21600">
                <a:moveTo>
                  <a:pt x="25542" y="0"/>
                </a:moveTo>
                <a:lnTo>
                  <a:pt x="25542" y="21600"/>
                </a:lnTo>
                <a:lnTo>
                  <a:pt x="24142" y="20200"/>
                </a:lnTo>
                <a:lnTo>
                  <a:pt x="24142" y="1400"/>
                </a:lnTo>
                <a:close/>
              </a:path>
              <a:path fill="darkenLess" w="25542" h="21600">
                <a:moveTo>
                  <a:pt x="25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2" y="20200"/>
                </a:lnTo>
                <a:close/>
              </a:path>
              <a:path fill="lighten" w="25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2" h="21600">
                <a:moveTo>
                  <a:pt x="12771" y="3837"/>
                </a:moveTo>
                <a:lnTo>
                  <a:pt x="15348" y="6448"/>
                </a:ln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lnTo>
                  <a:pt x="19734" y="10800"/>
                </a:lnTo>
                <a:lnTo>
                  <a:pt x="18080" y="10800"/>
                </a:lnTo>
                <a:lnTo>
                  <a:pt x="18080" y="17989"/>
                </a:lnTo>
                <a:lnTo>
                  <a:pt x="7462" y="17989"/>
                </a:lnTo>
                <a:lnTo>
                  <a:pt x="7462" y="10800"/>
                </a:lnTo>
                <a:lnTo>
                  <a:pt x="5808" y="10800"/>
                </a:lnTo>
                <a:close/>
              </a:path>
              <a:path fill="darkenLess" w="25542" h="21600">
                <a:moveTo>
                  <a:pt x="15348" y="6448"/>
                </a:move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close/>
              </a:path>
              <a:path fill="darkenLess" w="25542" h="21600">
                <a:moveTo>
                  <a:pt x="11849" y="14299"/>
                </a:moveTo>
                <a:lnTo>
                  <a:pt x="13694" y="14299"/>
                </a:lnTo>
                <a:lnTo>
                  <a:pt x="13694" y="17989"/>
                </a:lnTo>
                <a:lnTo>
                  <a:pt x="18080" y="17989"/>
                </a:lnTo>
                <a:lnTo>
                  <a:pt x="18080" y="10800"/>
                </a:lnTo>
                <a:lnTo>
                  <a:pt x="7462" y="10800"/>
                </a:lnTo>
                <a:lnTo>
                  <a:pt x="7462" y="17989"/>
                </a:lnTo>
                <a:lnTo>
                  <a:pt x="11849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0:43:19Z</dcterms:created>
  <dc:creator>Ученик</dc:creator>
  <dc:description/>
  <dc:language>en-US</dc:language>
  <cp:lastModifiedBy>Галина</cp:lastModifiedBy>
  <dcterms:modified xsi:type="dcterms:W3CDTF">2018-10-28T12:38:24Z</dcterms:modified>
  <cp:revision>20</cp:revision>
  <dc:subject/>
  <dc:title>Слайд 1</dc:title>
</cp:coreProperties>
</file>