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64D-A598-4BF4-B649-A3CFD8F4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297-E855-446E-BD71-6D51C9D4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067-CEE8-4457-BC65-86282613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154-54D8-4A3B-A01E-06408CE2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8F92-D6A3-460E-B53E-6ACC5F9B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D2BA-5754-4D10-8B71-7E63F5E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B835-C09F-4B57-964A-762148E7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425B-85C2-48F2-83F4-56068C41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890C-4B99-444E-BBF1-90F5ED6E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7A03-9190-4459-9381-A67BA579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2608-3BA5-4A8D-8A15-66A1277F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3A4-329D-4E07-AFF5-EB73099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5E21-D847-46ED-B6EE-713670FC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5F22-E6E4-4C17-BBD5-522765B0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CA74-ECBC-4A64-98CD-8B536E5C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4316-B34B-4E6F-B14E-2B608749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BDFB-DD6C-4388-9ADE-B77C7E1B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332-2AAD-47C2-946C-C29CAE2F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375-144C-461D-8676-5561DFF1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437-429B-499A-9D5A-ABA75899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B02-6D0F-4F0D-ABA1-11A0F12B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961-D7AE-4E86-9DD5-C780D781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381-3370-4CE5-9E0C-0DE4E2EB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AF9-8100-430F-A91B-D230D477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661F9E-D3D5-49F0-B908-B8BDD4E6ACB6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25D1092-EC3D-4AC7-A98B-854BC6ED7FFF}" type="slidenum">
              <a:rPr b="0" lang="ru-RU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vremyaitb.ru/d/211874/d/193226606_6.jpg" TargetMode="External"/><Relationship Id="rId3" Type="http://schemas.openxmlformats.org/officeDocument/2006/relationships/hyperlink" Target="http://www.klyaksa.net/htm/pc_and_health/images/worker_place.jpg" TargetMode="External"/><Relationship Id="rId4" Type="http://schemas.openxmlformats.org/officeDocument/2006/relationships/hyperlink" Target="http://www.klyaksa.net/htm/pc_and_health/images/worker_place_displey.jpg" TargetMode="External"/><Relationship Id="rId5" Type="http://schemas.openxmlformats.org/officeDocument/2006/relationships/hyperlink" Target="http://images.myshared.ru/660940/slide_7.jpg" TargetMode="External"/><Relationship Id="rId6" Type="http://schemas.openxmlformats.org/officeDocument/2006/relationships/hyperlink" Target="http://images.myshared.ru/660940/slide_7.jpg" TargetMode="Externa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zrenielib.ru/tw_refs/6/5978/5978_html_m4e0aab22.png" TargetMode="External"/><Relationship Id="rId3" Type="http://schemas.openxmlformats.org/officeDocument/2006/relationships/hyperlink" Target="http://zrenielib.ru/tw_refs/6/5978/5978_html_m4e0aab22.png" TargetMode="External"/><Relationship Id="rId4" Type="http://schemas.openxmlformats.org/officeDocument/2006/relationships/hyperlink" Target="http://zrenielib.ru/tw_refs/6/5978/5978_html_m4e0aab22.png" TargetMode="External"/><Relationship Id="rId5" Type="http://schemas.openxmlformats.org/officeDocument/2006/relationships/hyperlink" Target="http://zrenielib.ru/tw_refs/6/5978/5978_html_m4e0aab22.png" TargetMode="External"/><Relationship Id="rId6" Type="http://schemas.openxmlformats.org/officeDocument/2006/relationships/hyperlink" Target="http://zrenielib.ru/tw_refs/6/5978/5978_html_m4e0aab22.png" TargetMode="External"/><Relationship Id="rId7" Type="http://schemas.openxmlformats.org/officeDocument/2006/relationships/hyperlink" Target="http://www.pressa.tv/uploads/posts/2012-07/1342071185_pomosch.png" TargetMode="External"/><Relationship Id="rId8" Type="http://schemas.openxmlformats.org/officeDocument/2006/relationships/hyperlink" Target="http://photoshopia.su/uploads/posts/2011-09/h6luwij5ig.jpg" TargetMode="External"/><Relationship Id="rId9" Type="http://schemas.openxmlformats.org/officeDocument/2006/relationships/hyperlink" Target="http://elib.org.ua/medecine/special/ihelpers/pdnp-images/big/image009.jpg" TargetMode="External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1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slide" Target="slide10.xml"/><Relationship Id="rId8" Type="http://schemas.openxmlformats.org/officeDocument/2006/relationships/image" Target="../media/image5.jpeg"/><Relationship Id="rId9" Type="http://schemas.openxmlformats.org/officeDocument/2006/relationships/slide" Target="slide6.xml"/><Relationship Id="rId10" Type="http://schemas.openxmlformats.org/officeDocument/2006/relationships/image" Target="../media/image6.jpeg"/><Relationship Id="rId11" Type="http://schemas.openxmlformats.org/officeDocument/2006/relationships/slide" Target="slide9.xml"/><Relationship Id="rId12" Type="http://schemas.openxmlformats.org/officeDocument/2006/relationships/image" Target="../media/image7.jpeg"/><Relationship Id="rId13" Type="http://schemas.openxmlformats.org/officeDocument/2006/relationships/slide" Target="slide10.xml"/><Relationship Id="rId14" Type="http://schemas.openxmlformats.org/officeDocument/2006/relationships/image" Target="../media/image8.jpeg"/><Relationship Id="rId15" Type="http://schemas.openxmlformats.org/officeDocument/2006/relationships/slide" Target="slide12.xml"/><Relationship Id="rId16" Type="http://schemas.openxmlformats.org/officeDocument/2006/relationships/image" Target="../media/image9.jpeg"/><Relationship Id="rId17" Type="http://schemas.openxmlformats.org/officeDocument/2006/relationships/slide" Target="slide14.xml"/><Relationship Id="rId18" Type="http://schemas.openxmlformats.org/officeDocument/2006/relationships/image" Target="../media/image10.jpeg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9.xml"/><Relationship Id="rId22" Type="http://schemas.openxmlformats.org/officeDocument/2006/relationships/slide" Target="slide3.xml"/><Relationship Id="rId23" Type="http://schemas.openxmlformats.org/officeDocument/2006/relationships/slide" Target="slide3.xml"/><Relationship Id="rId2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4"/>
          <p:cNvSpPr/>
          <p:nvPr/>
        </p:nvSpPr>
        <p:spPr>
          <a:xfrm>
            <a:off x="285840" y="285840"/>
            <a:ext cx="85006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Техника безопасности и организация рабочего места в кабинете инфор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unycomp.chat.ru/img/acer_aspire_t310.jpg"/>
          <p:cNvPicPr/>
          <p:nvPr/>
        </p:nvPicPr>
        <p:blipFill>
          <a:blip r:embed="rId1"/>
          <a:stretch/>
        </p:blipFill>
        <p:spPr>
          <a:xfrm>
            <a:off x="5429160" y="3838680"/>
            <a:ext cx="3524040" cy="3018960"/>
          </a:xfrm>
          <a:prstGeom prst="rect">
            <a:avLst/>
          </a:prstGeom>
          <a:ln w="9525">
            <a:noFill/>
          </a:ln>
        </p:spPr>
      </p:pic>
      <p:sp>
        <p:nvSpPr>
          <p:cNvPr id="117" name="TextBox 3"/>
          <p:cNvSpPr/>
          <p:nvPr/>
        </p:nvSpPr>
        <p:spPr>
          <a:xfrm>
            <a:off x="428760" y="3214800"/>
            <a:ext cx="471456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Казахстан, Павлодарская область, г.Экибасту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«КГУ СОШ№9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Суворова К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3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8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3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8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85840" y="4965840"/>
            <a:ext cx="492876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указанию преподава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лючить аппар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357120" y="293040"/>
            <a:ext cx="842940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после окончания работы на П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3"/>
          <a:stretch/>
        </p:blipFill>
        <p:spPr>
          <a:xfrm>
            <a:off x="857160" y="1963080"/>
            <a:ext cx="2642760" cy="308484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3" descr="Computer Lab"/>
          <p:cNvPicPr/>
          <p:nvPr/>
        </p:nvPicPr>
        <p:blipFill>
          <a:blip r:embed="rId4"/>
          <a:stretch/>
        </p:blipFill>
        <p:spPr>
          <a:xfrm>
            <a:off x="5000760" y="2000160"/>
            <a:ext cx="3870360" cy="2838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"/>
          <p:cNvSpPr/>
          <p:nvPr/>
        </p:nvSpPr>
        <p:spPr>
          <a:xfrm>
            <a:off x="5643720" y="4965840"/>
            <a:ext cx="314280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Навести 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рабочем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571320" y="290160"/>
            <a:ext cx="792936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Разм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500040" y="1143000"/>
            <a:ext cx="78577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«Кто быстрее ответит на вопрос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числите правила ТБ при работе с вычислительной техн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числите правила поведения в компьютер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ие опасные моменты могут возникнуть в процесс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чему предъявляют требования в правилах «Организация рабочего мес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право 5">
            <a:hlinkClick r:id="rId1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лево 7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642960" y="214200"/>
            <a:ext cx="8214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Приёмы оказания первой медицинск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285840" y="1386720"/>
            <a:ext cx="8643600" cy="48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Оказание помощи при поражении электрическим током </a:t>
            </a: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тключить ток (выключать тумблер на распределительном щит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свободить пострадавшего от воздействия тока (провода), используя подручные, средства, которые не являются проводниками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смотреть пострадавшего и оказать ему помощь в зависимости от тяжести пор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Вызвать врача (из школьного медпункта, «скорую помощь» по телефону 103 или из ближайшего лечебного учреждения)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ea typeface="Calibri"/>
                <a:hlinkClick r:id="rId1" action="ppaction://hlinksldjump"/>
              </a:rPr>
              <a:t>Рисунок 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право 6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лево 7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4214880" y="2394000"/>
            <a:ext cx="464328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. Освобождение от 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ического 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3"/>
          <p:cNvSpPr/>
          <p:nvPr/>
        </p:nvSpPr>
        <p:spPr>
          <a:xfrm>
            <a:off x="3748680" y="6000840"/>
            <a:ext cx="133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исунок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Первая помощь лицам, пострадавшим от электрического тока I. Общие положения"/>
          <p:cNvPicPr/>
          <p:nvPr/>
        </p:nvPicPr>
        <p:blipFill>
          <a:blip r:embed="rId1"/>
          <a:stretch/>
        </p:blipFill>
        <p:spPr>
          <a:xfrm>
            <a:off x="428760" y="571320"/>
            <a:ext cx="3494880" cy="2571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Освобождение от действия электрического тока"/>
          <p:cNvPicPr/>
          <p:nvPr/>
        </p:nvPicPr>
        <p:blipFill>
          <a:blip r:embed="rId2"/>
          <a:stretch/>
        </p:blipFill>
        <p:spPr>
          <a:xfrm>
            <a:off x="5072040" y="357120"/>
            <a:ext cx="3071520" cy="209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Оказание первой помощи"/>
          <p:cNvPicPr/>
          <p:nvPr/>
        </p:nvPicPr>
        <p:blipFill>
          <a:blip r:embed="rId3"/>
          <a:stretch/>
        </p:blipFill>
        <p:spPr>
          <a:xfrm>
            <a:off x="1071360" y="3286080"/>
            <a:ext cx="2142720" cy="21427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285840" y="5433840"/>
            <a:ext cx="36428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Оказ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кафе &quot; Копипаст.ру"/>
          <p:cNvPicPr/>
          <p:nvPr/>
        </p:nvPicPr>
        <p:blipFill>
          <a:blip r:embed="rId4"/>
          <a:stretch/>
        </p:blipFill>
        <p:spPr>
          <a:xfrm>
            <a:off x="5143680" y="3429000"/>
            <a:ext cx="3085200" cy="2228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5143680" y="5648400"/>
            <a:ext cx="34286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.Вызвать врача и скорую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трелка вправо 10">
            <a:hlinkClick r:id="rId5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трелка влево 11">
            <a:hlinkClick r:id="rId6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7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142920" y="218520"/>
            <a:ext cx="900072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ж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428760" y="5078520"/>
            <a:ext cx="828648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 из школьного медпункта, «скорую помощь» по телефону 103 или из ближайшего лечебного учреждени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428840" y="1071720"/>
            <a:ext cx="5786280" cy="3923640"/>
          </a:xfrm>
          <a:prstGeom prst="rect">
            <a:avLst/>
          </a:prstGeom>
          <a:ln w="9525">
            <a:noFill/>
          </a:ln>
        </p:spPr>
      </p:pic>
      <p:sp>
        <p:nvSpPr>
          <p:cNvPr id="193" name="Стрелка вправо 5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лево 6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571320" y="36432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бмо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428760" y="1756440"/>
            <a:ext cx="828648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ить пострадавшей на ровную поверхность на спину, повернув его голову на 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из школьно медпункта, «скорую помощь» по телефону 103 или из  ближайшего лечебного учреж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6715080" y="3786120"/>
            <a:ext cx="2184840" cy="2517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98" name="Стрелка вправо 5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лево 6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571320" y="36432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становке дых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428760" y="1736640"/>
            <a:ext cx="8286480" cy="3431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рить положение языка во рту, если он запал - руками вернуть язык в нормальное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из школьного медпункта, «скорую помощь» по телефону 103 или из ближайшего лечебного учреж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лать искусственное дыхание (рот в рот), (рот в нос) до восстановления дыхания или прибытия врачей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Рисунок 4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трелка влево 3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трелка вправо 5">
            <a:hlinkClick r:id="rId4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500040" y="22140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кусственное дыхание «Рот в рот», «Рот в нос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"/>
          <p:cNvSpPr/>
          <p:nvPr/>
        </p:nvSpPr>
        <p:spPr>
          <a:xfrm>
            <a:off x="214200" y="4185360"/>
            <a:ext cx="400032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дыхайте по 10 раз в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днимите подборо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3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ржите голову запрокинут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0234344889"/>
          <p:cNvPicPr/>
          <p:nvPr/>
        </p:nvPicPr>
        <p:blipFill>
          <a:blip r:embed="rId1"/>
          <a:stretch/>
        </p:blipFill>
        <p:spPr>
          <a:xfrm>
            <a:off x="714240" y="1571760"/>
            <a:ext cx="2857320" cy="2633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f_clip_image002"/>
          <p:cNvPicPr/>
          <p:nvPr/>
        </p:nvPicPr>
        <p:blipFill>
          <a:blip r:embed="rId2"/>
          <a:stretch/>
        </p:blipFill>
        <p:spPr>
          <a:xfrm>
            <a:off x="5214960" y="1643040"/>
            <a:ext cx="2877840" cy="2784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4357800" y="4345920"/>
            <a:ext cx="4928760" cy="206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т пострадавшего з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отно обхватите губ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с и д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 startAt="3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ройте ему рот для выдо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 startAt="4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должайте эту процед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3893400" y="6357960"/>
            <a:ext cx="133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исунок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трелка вправо 9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трелка влево 10">
            <a:hlinkClick r:id="rId4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357120" y="219240"/>
            <a:ext cx="8357760" cy="97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7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14200" y="928800"/>
            <a:ext cx="5000400" cy="52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ты хороший мальчик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То не суй в розетку пальчик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Проводами не играй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известно есть ли ра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Если где- то заискрит, 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Или что-нибудь дымит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ремя попусту не трать -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Нужно взрослого позвать.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едь из искры знаем сами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озгореться может плам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Бережливым быть умей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И по клавишам не бей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Там учтите этот факт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Электрический контак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643280" y="1000080"/>
            <a:ext cx="4285800" cy="204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Мышка может другом стать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Коль ее не обижать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Дрессируй ее умело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крути в руках без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Computer Lab"/>
          <p:cNvPicPr/>
          <p:nvPr/>
        </p:nvPicPr>
        <p:blipFill>
          <a:blip r:embed="rId4"/>
          <a:stretch/>
        </p:blipFill>
        <p:spPr>
          <a:xfrm flipH="1">
            <a:off x="4858200" y="3357720"/>
            <a:ext cx="387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право 7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>
            <a:off x="357120" y="500040"/>
            <a:ext cx="4643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вводишь ты "ответ"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а компьютер скажет "нет"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по дисплею не стучи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лучше правила у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сбой дает машина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терпение Вам необходимо,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бывает без проблем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Даже с умной ЭВ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Остальное всем известно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Чтоб не вскакивали с места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кричали, не толкались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За компьютеры не др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куртках шубах и пальто,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приходит к нам ник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4857840" y="500040"/>
            <a:ext cx="40716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грязной обуви, друзья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кабинете бы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Разрешать работу строго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с разрешения педагога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И учтите: Вы в ответе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за порядок в кабинет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omputer Lab"/>
          <p:cNvPicPr/>
          <p:nvPr/>
        </p:nvPicPr>
        <p:blipFill>
          <a:blip r:embed="rId3"/>
          <a:stretch/>
        </p:blipFill>
        <p:spPr>
          <a:xfrm flipH="1">
            <a:off x="4858200" y="3357720"/>
            <a:ext cx="387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571320" y="500040"/>
            <a:ext cx="1999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285840" y="1297800"/>
            <a:ext cx="864360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Образов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знакомить учащихся с правилами поведения в кабинете ВТ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Воспитательная: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оспитывает у учащихся умение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Развивающая: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звить правильное поведение в кабинете В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357120" y="222120"/>
            <a:ext cx="8357760" cy="158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пользова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571320" y="1571760"/>
            <a:ext cx="814356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форматика 7 кл. Атамура 2012 г. (Ермеков Н., Стифутина 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ремя работы на ПК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vremyaitb.ru/d/211874/d/193226606_6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ильная рабочая поза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http://www.klyaksa.net/htm/pc_and_health/images/worker_plac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4"/>
              </a:rPr>
              <a:t>http://www.klyaksa.net/htm/pc_and_health/images/worker_place_displey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Б после оканчания работы на ПК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5"/>
              </a:rPr>
              <a:t>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6"/>
              </a:rPr>
              <a:t>http://images.myshared.ru/660940/slide_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право 7">
            <a:hlinkClick r:id="rId7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428760" y="428760"/>
            <a:ext cx="821484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6. Приемы оказания первой медицинской помощ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himik-best.ru/pars_docs/refs/5/4400/4400_html_2f815df5.png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4"/>
              </a:rPr>
              <a:t>http://forca.ru/images/instrukcii/ot/raznoe/pervaya-pomosch-74.jpg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5"/>
              </a:rPr>
              <a:t> ,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6"/>
              </a:rPr>
              <a:t>http://zrenielib.ru/tw_refs/6/5978/5978_html_m4e0aab22.png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,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7"/>
              </a:rPr>
              <a:t>http://www.pressa.tv/uploads/posts/2012-7/1342071185_pomosch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7. Скорая помощь и медсестра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8"/>
              </a:rPr>
              <a:t>http://photoshopia.su/uploads/posts/2011-09/h6luwij5ig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8. Искуственное дыхание 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9"/>
              </a:rPr>
              <a:t>http://elib.org.ua/medecine/special/ihelpers/pdnp-images/big/image009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. Заключение: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school10-rasskazovo.narod.ru/INFO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357120" y="571320"/>
            <a:ext cx="8530920" cy="5714640"/>
          </a:xfrm>
          <a:prstGeom prst="rect">
            <a:avLst/>
          </a:prstGeom>
          <a:ln w="9525">
            <a:noFill/>
          </a:ln>
        </p:spPr>
      </p:pic>
      <p:sp>
        <p:nvSpPr>
          <p:cNvPr id="230" name="Прямоугольник 3"/>
          <p:cNvSpPr/>
          <p:nvPr/>
        </p:nvSpPr>
        <p:spPr>
          <a:xfrm>
            <a:off x="7082640" y="214200"/>
            <a:ext cx="186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ложе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трелка влево 4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642960" y="285840"/>
            <a:ext cx="392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500040" y="1577880"/>
            <a:ext cx="8072280" cy="508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" action="ppaction://hlinksldjump"/>
              </a:rPr>
              <a:t>Общие требования техники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2" action="ppaction://hlinksldjump"/>
              </a:rPr>
              <a:t>ТБ перед началом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3" action="ppaction://hlinksldjump"/>
              </a:rPr>
              <a:t>ТБ во время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4" action="ppaction://hlinksldjump"/>
              </a:rPr>
              <a:t>ТБ в аварийн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5" action="ppaction://hlinksldjump"/>
              </a:rPr>
              <a:t>ТБ после окончании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6" action="ppaction://hlinksldjump"/>
              </a:rPr>
              <a:t>Приемы оказания перв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7" action="ppaction://hlinksldjump"/>
              </a:rPr>
              <a:t>Оказание помощи при ожог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8" action="ppaction://hlinksldjump"/>
              </a:rPr>
              <a:t>Оказание помощи при обмо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9" action="ppaction://hlinksldjump"/>
              </a:rPr>
              <a:t>Оказание помощи при остановке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0" action="ppaction://hlinksldjump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1" action="ppaction://hlinksldjump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2" action="ppaction://hlinksldjump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428760" y="1004760"/>
            <a:ext cx="7929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Правила по технике безопасности можно разделить на следующие пун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285840" y="151200"/>
            <a:ext cx="8572320" cy="6672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Общие требования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трогать провода, вилки, розетки, штекеры, передвигать без разрешения учителя оборуд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входить и выходить из класса без разреше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без разрешения учителя ходить по кла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работать на ПК мокрыми руками и в мокрой одеж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работать на ПК, имеющих нарушение целостности корпуса или про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класть на стол рядом с ПК портфели, сумки, книги. На столе должны лежать только ручки и тетр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ничего класть на клави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компьютерном классе запрещается бегать, играть, отвлекать товарищей, заниматься посторонней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лево 2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3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57120" y="1488960"/>
            <a:ext cx="8572320" cy="270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выключенном питании осмотреть ПК и убедиться, что нет нарушения изоляции и целостности корпуса ПК и про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тить внимание, не свешиваются ли провода так, что возможно их задеть во время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делать отметку в Журнале учета использования рабочего места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см. приложение 1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214200" y="361440"/>
            <a:ext cx="86436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перед началом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4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лево 5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0"/>
            <a:ext cx="9143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ТБ во время работы на П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85840" y="5072040"/>
            <a:ext cx="1213920" cy="107136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85840" y="364320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85840" y="221472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285840" y="78588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785960" y="785880"/>
            <a:ext cx="12128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286080" y="785880"/>
            <a:ext cx="12128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7429680" y="785880"/>
            <a:ext cx="1213920" cy="115380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072120" y="785880"/>
            <a:ext cx="11426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4643280" y="78588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Picture 17" descr="9">
            <a:hlinkClick r:id="rId1" action="ppaction://hlinksldjump"/>
          </p:cNvPr>
          <p:cNvPicPr/>
          <p:nvPr/>
        </p:nvPicPr>
        <p:blipFill>
          <a:blip r:embed="rId2"/>
          <a:srcRect l="2371" t="0" r="0" b="0"/>
          <a:stretch/>
        </p:blipFill>
        <p:spPr>
          <a:xfrm>
            <a:off x="7572240" y="857160"/>
            <a:ext cx="999720" cy="1018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760" y="5072040"/>
            <a:ext cx="928440" cy="96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8760" y="3714840"/>
            <a:ext cx="928440" cy="99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8760" y="2286000"/>
            <a:ext cx="999720" cy="1018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28760" y="857160"/>
            <a:ext cx="944640" cy="99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928880" y="857160"/>
            <a:ext cx="910800" cy="928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29000" y="857160"/>
            <a:ext cx="888120" cy="928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714920" y="857160"/>
            <a:ext cx="1001160" cy="999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8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215040" y="857160"/>
            <a:ext cx="928440" cy="988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6"/>
          <p:cNvSpPr/>
          <p:nvPr/>
        </p:nvSpPr>
        <p:spPr>
          <a:xfrm>
            <a:off x="1571760" y="2000160"/>
            <a:ext cx="7429320" cy="4848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ремя работы на ЭВМ необходимо соблюдать оптимальное расстояние глаз от экрана (60-70 см). Допустимое расстояние -50 см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9" action="ppaction://hlinksldjump"/>
              </a:rPr>
              <a:t>рисунок 1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случае возникновения зрительного напряжения или усталости можно, не вставая с места, выполнить несколько упражнений для снятия напряжения или усталости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( </a:t>
            </a:r>
            <a:r>
              <a:rPr b="0" lang="ru-RU" sz="2200" spc="-1" strike="noStrike" u="sng">
                <a:solidFill>
                  <a:srgbClr val="00a3d6"/>
                </a:solidFill>
                <a:uFillTx/>
                <a:latin typeface="Georgia"/>
                <a:hlinkClick r:id="rId20" action="ppaction://hlinksldjump"/>
              </a:rPr>
              <a:t>упражнения для глаз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щиеся должны знать приемы оказания первой медицинской помощи при электротравме, приемы работы с огнетушителем и приемы тушения пожара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28"/>
          <p:cNvSpPr txBox="1"/>
          <p:nvPr/>
        </p:nvSpPr>
        <p:spPr>
          <a:xfrm>
            <a:off x="1400040" y="6046920"/>
            <a:ext cx="502920" cy="68400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1" lang="ru-RU" sz="3600" spc="-1" strike="noStrike">
              <a:ln w="0">
                <a:noFill/>
              </a:ln>
              <a:solidFill>
                <a:srgbClr val="729fcf"/>
              </a:solidFill>
              <a:latin typeface="Arial Black"/>
            </a:endParaRPr>
          </a:p>
        </p:txBody>
      </p:sp>
      <p:sp>
        <p:nvSpPr>
          <p:cNvPr id="151" name="Стрелка вправо 23">
            <a:hlinkClick r:id="rId21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лево 24">
            <a:hlinkClick r:id="rId2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14200" y="1025640"/>
            <a:ext cx="8715240" cy="5832000"/>
          </a:xfrm>
          <a:prstGeom prst="rect">
            <a:avLst/>
          </a:prstGeom>
          <a:solidFill>
            <a:schemeClr val="bg1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3000"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Упражнения выполняются сидя или стоя, отвернувшись от экрана при ритмичном дыхании, с максимальной амплитудой движения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моргать, на напрягая глазные мышцы, на счет 10-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поворачивая головы(голова прямо), с закрытыми глазами посмотреть направо на счет 1-4, затем налево на счет 1-4 и прямо на счет 1-6. Поднять глаза вверх на счет 1-4, опустить вниз на счет 1-4 и перевести взгляд прямо на счет 1-6. Повторить 4-5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мотреть на указательный палец, удаленный от глаз на расстояние 25-зо см, на счет 1-4, затем перевести взор вдаль на счет 1-6. Повторить 4-5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реднем темпе проделать 3-4 круговых движения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ую сторону, столько же в левую сторону, и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71280" y="290160"/>
            <a:ext cx="907236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Комплекс упражнения для гла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57120" y="290160"/>
            <a:ext cx="84294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Правильная рабочая по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664800" cy="4000320"/>
          </a:xfrm>
          <a:prstGeom prst="rect">
            <a:avLst/>
          </a:prstGeom>
          <a:ln w="9525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4929120" y="1000080"/>
            <a:ext cx="3218760" cy="1856880"/>
          </a:xfrm>
          <a:prstGeom prst="rect">
            <a:avLst/>
          </a:prstGeom>
          <a:ln w="9525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3929040" y="2857320"/>
            <a:ext cx="500040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нитор необходимо установить на такой высоте, чтобы центр экрана был на 15-20 см ниже уровня глаз, угол наклона до 1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кран монитора должен находиться от глаз пользователя на оптимальном расстоянии 60-70 см, но не ближе 50 см с учетом размеров алфавитно-цифровых знаков и сим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1289520" y="5357880"/>
            <a:ext cx="1719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исунок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0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11">
            <a:hlinkClick r:id="rId4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214200" y="346320"/>
            <a:ext cx="8715240" cy="693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обнаружении дефектов ПК в процессе работы, появлении гари или необычных звуков необходимо немедленно прекратить работу на ПК, выключить аппаратуру и сообщить преподава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необходимости следует оказать помощь в тушении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необходимости уметь оказать первую доврачебную помощь пострадавшим от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обходимо знать, что нельзя тушить пожар в компьютерном классе водой. Можно использовать песок или пенный огнетуш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обходимо знать, что если пострадавший находится под воздействием электротока, то его нельзя трогать голыми руками. Освободить пострадавшего можно, используя материалы, которые не являются проводникам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электрического т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214200" y="218520"/>
            <a:ext cx="86436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в аварийных случа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933</TotalTime>
  <Application>LibreOffice/7.4.7.2$Linux_X86_64 LibreOffice_project/40$Build-2</Application>
  <AppVersion>15.0000</AppVersion>
  <Words>1132</Words>
  <Paragraphs>1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05T17:15:21Z</dcterms:modified>
  <cp:revision>2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