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C944-DF6E-4A10-86D7-F3208D8B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90E3-5E65-4C55-A844-DB7D82E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E637-12B1-4429-981E-358B411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92D9-92B5-49AE-A7F2-BAEA0B77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5DEF-E59E-49C3-8BB4-B5EF2230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681-37AF-414B-8B9D-54A4ACA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F179-B60C-4F1D-BD8E-598688B1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A26D-71BA-4F9C-9FAA-10DCD576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D7B9-9266-4DE4-AE1C-CE30C8F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83CC-291C-4421-9CDC-430E022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8B4-DD9F-45D1-BE86-25138AE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E7A9-75FE-42FB-8F5F-F9C3314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7F2E-28EA-4CAD-82AE-4D55580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D08-980C-44FE-9175-86B84B3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74E5-7960-48DF-B954-B751D90D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5F6-5C7D-4932-ABE4-7E186E00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657-C188-41C7-82CF-273316D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4FE8-E4E4-4656-AE9F-0F883E4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5487-3DF9-417D-853A-E3926F91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7B5E-AAF9-4DCF-8439-1B65BBA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4F29-231E-44A0-BD38-41B1DDD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589F-DC41-4449-A55B-F3238EC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3911-B868-4AD6-8A08-FD7979E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B82C-FF61-4EC7-96B3-EFC5C93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421-60F2-4653-BF4E-56839D03D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EB1-70DB-4D0A-B434-5039D4D23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55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1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1"/>
          <p:cNvSpPr txBox="1"/>
          <p:nvPr/>
        </p:nvSpPr>
        <p:spPr>
          <a:xfrm>
            <a:off x="990720" y="6858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В потоке Истории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Тарих толқынынд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</p:txBody>
      </p:sp>
      <p:pic>
        <p:nvPicPr>
          <p:cNvPr id="101" name="Picture 22" descr="MPj04236940000[1]"/>
          <p:cNvPicPr/>
          <p:nvPr/>
        </p:nvPicPr>
        <p:blipFill>
          <a:blip r:embed="rId1"/>
          <a:stretch/>
        </p:blipFill>
        <p:spPr>
          <a:xfrm>
            <a:off x="4495680" y="3048120"/>
            <a:ext cx="442908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печать-круглая.png"/>
          <p:cNvPicPr/>
          <p:nvPr/>
        </p:nvPicPr>
        <p:blipFill>
          <a:blip r:embed="rId2"/>
          <a:stretch/>
        </p:blipFill>
        <p:spPr>
          <a:xfrm>
            <a:off x="304920" y="464832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зАКСР/КазАССР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1920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848720" y="5562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8198" y="10800"/>
                </a:moveTo>
                <a:lnTo>
                  <a:pt x="18703" y="3794"/>
                </a:lnTo>
                <a:lnTo>
                  <a:pt x="18703" y="17806"/>
                </a:lnTo>
                <a:close/>
              </a:path>
              <a:path fill="darken" w="23394" h="21600">
                <a:moveTo>
                  <a:pt x="4690" y="3794"/>
                </a:moveTo>
                <a:lnTo>
                  <a:pt x="6353" y="3794"/>
                </a:lnTo>
                <a:lnTo>
                  <a:pt x="6353" y="17806"/>
                </a:lnTo>
                <a:lnTo>
                  <a:pt x="46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үзілік соғыс қай жылы басталды?/В каком году началась Вторая Мировая войн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39 ж/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92468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зілік соғыста қатысқан мемлеккеттер саны./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колько государств принимало участие во Второй Мировой войне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1 мемлекет/государ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772400" y="55627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«Ленинградтық өренім атты» өленді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кім жазды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му принадлежит стихотворение «Ленинградцы, дети мо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амбыл(у) Жабаев(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924680" y="56386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9458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7613" y="3794"/>
                </a:lnTo>
                <a:lnTo>
                  <a:pt x="7613" y="17806"/>
                </a:lnTo>
                <a:lnTo>
                  <a:pt x="595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Қай жыл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Қазақстан тәуелсіз мемлекет болды?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/К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огда Казакстан приобрел независимость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91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Тарихтың атасы кім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то является праотцом истории?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род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848720" y="54100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 Республикасы алғашқы президетнті. /Первый президент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6201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12207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  <a:path fill="darken" w="31412" h="21600">
                <a:moveTo>
                  <a:pt x="8700" y="3794"/>
                </a:moveTo>
                <a:lnTo>
                  <a:pt x="10362" y="3794"/>
                </a:lnTo>
                <a:lnTo>
                  <a:pt x="10362" y="17806"/>
                </a:lnTo>
                <a:lnTo>
                  <a:pt x="870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762120" y="33908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Ә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24680" y="58672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11620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9775" y="3794"/>
                </a:lnTo>
                <a:lnTo>
                  <a:pt x="9775" y="17806"/>
                </a:lnTo>
                <a:lnTo>
                  <a:pt x="8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5"/>
          <p:cNvPicPr/>
          <p:nvPr/>
        </p:nvPicPr>
        <p:blipFill>
          <a:blip r:embed="rId1"/>
          <a:stretch/>
        </p:blipFill>
        <p:spPr>
          <a:xfrm>
            <a:off x="3809880" y="1295280"/>
            <a:ext cx="3764160" cy="510084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467480" y="5867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3777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11932" y="3794"/>
                </a:lnTo>
                <a:lnTo>
                  <a:pt x="11932" y="17806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үрік қағанатынын алғашқы қағаны./Кто являлся основателем Тюркского кагана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умын к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8487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905120"/>
          <a:ext cx="8609040" cy="307656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1218960"/>
                <a:gridCol w="1233720"/>
                <a:gridCol w="1325520"/>
                <a:gridCol w="132552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р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уып -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гадай-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да түсірімен алғашқы дыбыс филмі./Как назывался первый звуковой фильм снятый в Казахст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мангель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467480" y="54864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азақ хандығын құрған хандар./Оснаватели Казахского ханства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Жаныбек, Ке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77240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зақ хандығының құрылған уақыты./ Время образования Казахского ханства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465-1466 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48720" y="571500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4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Жет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і жарғы” заңы қай хан түсінда пайда болды/ Кто автор свода законов “Жеты жарғы”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Тәу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Әбылқайыр ханын түсіндағы астанасы болған қала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следняя столица ханства Абулхаир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ығна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772400" y="58672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992ж. 2 наурызда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 Қазақстан қай үйымнын мүшесі болды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азахстан 2 марта 1992 года стал равноправным членом: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ҰҰ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үрік кезендегі ханын атауы/  Какой титул носил правитель Тюркского каганата?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аг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0250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8405" y="3794"/>
                </a:lnTo>
                <a:lnTo>
                  <a:pt x="8405" y="17806"/>
                </a:lnTo>
                <a:lnTo>
                  <a:pt x="674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онғолдарға қарсы 6 ай бойы қарсыласқан қала./Город в Южном Казахстане, который оказывал сопротивление монголам в течении 6 месяцев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ыр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77240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та Азия жазба деректерінде ойраттарды қалай атады?/Ойратов в среднеазиатских источниках называли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о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ңғарлар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а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Абылай ханын бийлік еткен уақыт/Время правления Абылай хан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1-1781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1447920"/>
          <a:ext cx="8686800" cy="4106880"/>
        </p:xfrm>
        <a:graphic>
          <a:graphicData uri="http://schemas.openxmlformats.org/drawingml/2006/table">
            <a:tbl>
              <a:tblPr/>
              <a:tblGrid>
                <a:gridCol w="3403440"/>
                <a:gridCol w="1073160"/>
                <a:gridCol w="1403640"/>
                <a:gridCol w="1403280"/>
                <a:gridCol w="1403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6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7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8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тобиография президента Р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ный 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ласының негізі қаланған жыл?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году был основан город Верный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854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772400" y="5638680"/>
            <a:ext cx="1066680" cy="838440"/>
          </a:xfrm>
          <a:custGeom>
            <a:avLst/>
            <a:gdLst>
              <a:gd name="textAreaLeft" fmla="*/ 54360 w 1066680"/>
              <a:gd name="textAreaRight" fmla="*/ 1012320 w 1066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77" h="21600">
                <a:moveTo>
                  <a:pt x="0" y="0"/>
                </a:moveTo>
                <a:lnTo>
                  <a:pt x="27477" y="0"/>
                </a:lnTo>
                <a:lnTo>
                  <a:pt x="27477" y="21600"/>
                </a:lnTo>
                <a:lnTo>
                  <a:pt x="0" y="21600"/>
                </a:lnTo>
                <a:close/>
              </a:path>
              <a:path fill="lightenLess" w="27477" h="21600">
                <a:moveTo>
                  <a:pt x="0" y="0"/>
                </a:moveTo>
                <a:lnTo>
                  <a:pt x="27477" y="0"/>
                </a:lnTo>
                <a:lnTo>
                  <a:pt x="26077" y="1400"/>
                </a:lnTo>
                <a:lnTo>
                  <a:pt x="1400" y="1400"/>
                </a:lnTo>
                <a:close/>
              </a:path>
              <a:path fill="darken" w="27477" h="21600">
                <a:moveTo>
                  <a:pt x="27477" y="0"/>
                </a:moveTo>
                <a:lnTo>
                  <a:pt x="27477" y="21600"/>
                </a:lnTo>
                <a:lnTo>
                  <a:pt x="26077" y="20200"/>
                </a:lnTo>
                <a:lnTo>
                  <a:pt x="26077" y="1400"/>
                </a:lnTo>
                <a:close/>
              </a:path>
              <a:path fill="darkenLess" w="27477" h="21600">
                <a:moveTo>
                  <a:pt x="27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7" y="20200"/>
                </a:lnTo>
                <a:close/>
              </a:path>
              <a:path fill="lighten" w="27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7" h="21600">
                <a:moveTo>
                  <a:pt x="10240" y="10800"/>
                </a:moveTo>
                <a:lnTo>
                  <a:pt x="20745" y="3794"/>
                </a:lnTo>
                <a:lnTo>
                  <a:pt x="20745" y="17806"/>
                </a:lnTo>
                <a:close/>
              </a:path>
              <a:path fill="darken" w="27477" h="21600">
                <a:moveTo>
                  <a:pt x="6732" y="3794"/>
                </a:moveTo>
                <a:lnTo>
                  <a:pt x="8395" y="3794"/>
                </a:lnTo>
                <a:lnTo>
                  <a:pt x="8395" y="17806"/>
                </a:lnTo>
                <a:lnTo>
                  <a:pt x="67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еолит дәүрінін қамтаған уақыты?/Хронологические рамки неолита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.з.д 5-3 тысяч лет до н.э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696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ола дәүрінін қамтаған уақыты?/Временные рамки периода бронз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-1 тыс. до н.э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8202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6357" y="3794"/>
                </a:lnTo>
                <a:lnTo>
                  <a:pt x="6357" y="17806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Герадоттан киінгі, Отрар қаласында туған екінші тарих атасы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торой учитель после Герадота, родился Отра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у Насыр Аль-Фара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8" descr="F:\история1.jpg"/>
          <p:cNvPicPr/>
          <p:nvPr/>
        </p:nvPicPr>
        <p:blipFill>
          <a:blip r:embed="rId1"/>
          <a:stretch/>
        </p:blipFill>
        <p:spPr>
          <a:xfrm>
            <a:off x="5638680" y="2743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Ресей мемелекетіне қазақ жерін қосқан хан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н, предпринявший первые шаги, присоединению к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қайыр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0120" y="5867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99" h="21600">
                <a:moveTo>
                  <a:pt x="12201" y="10800"/>
                </a:moveTo>
                <a:lnTo>
                  <a:pt x="22706" y="3794"/>
                </a:lnTo>
                <a:lnTo>
                  <a:pt x="22706" y="17806"/>
                </a:lnTo>
                <a:close/>
              </a:path>
              <a:path fill="darken" w="31399" h="21600">
                <a:moveTo>
                  <a:pt x="8693" y="3794"/>
                </a:moveTo>
                <a:lnTo>
                  <a:pt x="10355" y="3794"/>
                </a:lnTo>
                <a:lnTo>
                  <a:pt x="10355" y="17806"/>
                </a:lnTo>
                <a:lnTo>
                  <a:pt x="86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Рисунок 6" descr="F:\история2.jpg"/>
          <p:cNvPicPr/>
          <p:nvPr/>
        </p:nvPicPr>
        <p:blipFill>
          <a:blip r:embed="rId1"/>
          <a:stretch/>
        </p:blipFill>
        <p:spPr>
          <a:xfrm>
            <a:off x="3733920" y="3200400"/>
            <a:ext cx="3047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Әмір Темірдін бүйрығымен салыңған кесене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иказу Тимура в его честь был построен мавзо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хмед Ясса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848720" y="57913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6" descr="F:\алия.jpg"/>
          <p:cNvPicPr/>
          <p:nvPr/>
        </p:nvPicPr>
        <p:blipFill>
          <a:blip r:embed="rId1"/>
          <a:stretch/>
        </p:blipFill>
        <p:spPr>
          <a:xfrm>
            <a:off x="4495680" y="2971800"/>
            <a:ext cx="3124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5 жасынан бастап ойраттарға қарсы болған, Сабалақ есіммен жүрген қазақ х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ще при жизни был причислен к святым, с 15 летнего возраста участвовал в сражениях с ойрат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ай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7543800" y="58672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3183" y="10800"/>
                </a:moveTo>
                <a:lnTo>
                  <a:pt x="23689" y="3794"/>
                </a:lnTo>
                <a:lnTo>
                  <a:pt x="23689" y="17806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11338" y="3794"/>
                </a:lnTo>
                <a:lnTo>
                  <a:pt x="11338" y="17806"/>
                </a:lnTo>
                <a:lnTo>
                  <a:pt x="967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5" descr="F:\история3.jpg"/>
          <p:cNvPicPr/>
          <p:nvPr/>
        </p:nvPicPr>
        <p:blipFill>
          <a:blip r:embed="rId1"/>
          <a:stretch/>
        </p:blipFill>
        <p:spPr>
          <a:xfrm>
            <a:off x="3733920" y="3733920"/>
            <a:ext cx="2590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</a:t>
            </a: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үние жүзі тарихы/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ң алғашқы адамдардың іздері табылған аймақ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первые останки древних людей обнаружены 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зии и Афр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548640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вилондағы ең атақты патш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ым знаменитым царем Вавилонии был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ммурап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4864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Ежелгі Қытай мемлекетті әлем өркениетіндегі жасаған нәрсесі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Вклад древнего Китая в мировую цивилизацию проявился в изобрет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ас и бумаг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543800" y="55627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2" h="21600">
                <a:moveTo>
                  <a:pt x="11457" y="10800"/>
                </a:moveTo>
                <a:lnTo>
                  <a:pt x="21962" y="3794"/>
                </a:lnTo>
                <a:lnTo>
                  <a:pt x="21962" y="17806"/>
                </a:lnTo>
                <a:close/>
              </a:path>
              <a:path fill="darken" w="29912" h="21600">
                <a:moveTo>
                  <a:pt x="7949" y="3794"/>
                </a:moveTo>
                <a:lnTo>
                  <a:pt x="9612" y="3794"/>
                </a:lnTo>
                <a:lnTo>
                  <a:pt x="9612" y="17806"/>
                </a:lnTo>
                <a:lnTo>
                  <a:pt x="79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1219320"/>
          <a:ext cx="7950240" cy="5202000"/>
        </p:xfrm>
        <a:graphic>
          <a:graphicData uri="http://schemas.openxmlformats.org/drawingml/2006/table">
            <a:tbl>
              <a:tblPr/>
              <a:tblGrid>
                <a:gridCol w="2895480"/>
                <a:gridCol w="1263600"/>
                <a:gridCol w="1263600"/>
                <a:gridCol w="1263600"/>
                <a:gridCol w="1263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Қазақстан тарихы/История Казахст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үние жүзі тарихы/ Всемирная 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в ли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онолог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АҚШ алғашқы президентті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й президент СШ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Вашинг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7238880" y="556272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удай ретінде табыңған қазақтардын тәңір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ахи верили в очистительную сил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/Ог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315200" y="51814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алайы мен мыстың қосынды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бавляя к медной руде олово, люди научились производи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Қола/Брон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5438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омирис қай елдін патшасы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мирис являлась цариц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қ/Са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7620120" y="54864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9788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  <a:path fill="darken" w="26574" h="21600">
                <a:moveTo>
                  <a:pt x="6281" y="3794"/>
                </a:moveTo>
                <a:lnTo>
                  <a:pt x="7943" y="3794"/>
                </a:lnTo>
                <a:lnTo>
                  <a:pt x="7943" y="17806"/>
                </a:lnTo>
                <a:lnTo>
                  <a:pt x="62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    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ола дәурінде өмір сүрген алғашқы тайпалық одақ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емена эпохи бронзы на территории Казахстана ученые называ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дроновтар/Андроновц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39152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Түрік мемлекеттендігі қыпшақ тілінде жазылған сөздік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оварем кыпчакского языка, предназначенным для европейцев, являл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одекс куманикус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5438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9797" y="10800"/>
                </a:moveTo>
                <a:lnTo>
                  <a:pt x="20302" y="3794"/>
                </a:lnTo>
                <a:lnTo>
                  <a:pt x="20302" y="17806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7952" y="3794"/>
                </a:lnTo>
                <a:lnTo>
                  <a:pt x="7952" y="17806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Начало освоения целинных и залежных зем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954г. февр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7467480" y="54864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837-1847 ж.Көтерлісті басқарған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водитель восстания 1837-1847гг.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несары Касыму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620120" y="54100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8070" y="10800"/>
                </a:moveTo>
                <a:lnTo>
                  <a:pt x="18575" y="3794"/>
                </a:lnTo>
                <a:lnTo>
                  <a:pt x="18575" y="17806"/>
                </a:lnTo>
                <a:close/>
              </a:path>
              <a:path fill="darken" w="23137" h="21600">
                <a:moveTo>
                  <a:pt x="4562" y="3794"/>
                </a:moveTo>
                <a:lnTo>
                  <a:pt x="6224" y="3794"/>
                </a:lnTo>
                <a:lnTo>
                  <a:pt x="6224" y="17806"/>
                </a:lnTo>
                <a:lnTo>
                  <a:pt x="456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өкей және Мәулен поэмасының авто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есть «Бокей и Маулян» напис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467480" y="5410080"/>
            <a:ext cx="1371600" cy="106704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7763" h="21600">
                <a:moveTo>
                  <a:pt x="0" y="0"/>
                </a:moveTo>
                <a:lnTo>
                  <a:pt x="27763" y="0"/>
                </a:lnTo>
                <a:lnTo>
                  <a:pt x="27763" y="21600"/>
                </a:lnTo>
                <a:lnTo>
                  <a:pt x="0" y="21600"/>
                </a:lnTo>
                <a:close/>
              </a:path>
              <a:path fill="lightenLess" w="27763" h="21600">
                <a:moveTo>
                  <a:pt x="0" y="0"/>
                </a:moveTo>
                <a:lnTo>
                  <a:pt x="27763" y="0"/>
                </a:lnTo>
                <a:lnTo>
                  <a:pt x="26363" y="1400"/>
                </a:lnTo>
                <a:lnTo>
                  <a:pt x="1400" y="1400"/>
                </a:lnTo>
                <a:close/>
              </a:path>
              <a:path fill="darken" w="27763" h="21600">
                <a:moveTo>
                  <a:pt x="27763" y="0"/>
                </a:moveTo>
                <a:lnTo>
                  <a:pt x="27763" y="21600"/>
                </a:lnTo>
                <a:lnTo>
                  <a:pt x="26363" y="20200"/>
                </a:lnTo>
                <a:lnTo>
                  <a:pt x="26363" y="1400"/>
                </a:lnTo>
                <a:close/>
              </a:path>
              <a:path fill="darkenLess" w="27763" h="21600">
                <a:moveTo>
                  <a:pt x="27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" y="20200"/>
                </a:lnTo>
                <a:close/>
              </a:path>
              <a:path fill="lighten" w="27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3" h="21600">
                <a:moveTo>
                  <a:pt x="10383" y="10800"/>
                </a:moveTo>
                <a:lnTo>
                  <a:pt x="20888" y="3794"/>
                </a:lnTo>
                <a:lnTo>
                  <a:pt x="20888" y="17806"/>
                </a:lnTo>
                <a:close/>
              </a:path>
              <a:path fill="darken" w="27763" h="21600">
                <a:moveTo>
                  <a:pt x="6875" y="3794"/>
                </a:moveTo>
                <a:lnTo>
                  <a:pt x="8537" y="3794"/>
                </a:lnTo>
                <a:lnTo>
                  <a:pt x="8537" y="17806"/>
                </a:lnTo>
                <a:lnTo>
                  <a:pt x="6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азақ мемлекетіндегі "Ақтабан шұбырынды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ды «Великого бедствия»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23-1727г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3915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9615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7770" y="3794"/>
                </a:lnTo>
                <a:lnTo>
                  <a:pt x="7770" y="17806"/>
                </a:lnTo>
                <a:lnTo>
                  <a:pt x="610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4 раунд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Н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Ответить на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ибольшее количество 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вопросов за 1 минуту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.А. Назарбаев начал свою трудовую деятельн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.Темиртау 1960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696080" y="5638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тың  туған жы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ата рождения Н.А.Назарба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6 шілде 1940ж./6 июля 1940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0120" y="52578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 мемлекет бийлегіне қай жылы келд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каком году Н.А. Назарбаев стал Председателем Совета Министров Казахской ССР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84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0120" y="54100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0620" y="10800"/>
                </a:moveTo>
                <a:lnTo>
                  <a:pt x="21125" y="3794"/>
                </a:lnTo>
                <a:lnTo>
                  <a:pt x="21125" y="17806"/>
                </a:lnTo>
                <a:close/>
              </a:path>
              <a:path fill="darken" w="28238" h="21600">
                <a:moveTo>
                  <a:pt x="7112" y="3794"/>
                </a:moveTo>
                <a:lnTo>
                  <a:pt x="8775" y="3794"/>
                </a:lnTo>
                <a:lnTo>
                  <a:pt x="8775" y="17806"/>
                </a:lnTo>
                <a:lnTo>
                  <a:pt x="7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1989 жылы мамыр айында Н.Ә.Назарбаев кім болып сайлан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мае 1989г. Н.А.Назарбаев был изб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м секретарем ЦК Компартии Казахст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467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1802" y="10800"/>
                </a:moveTo>
                <a:lnTo>
                  <a:pt x="22308" y="3794"/>
                </a:lnTo>
                <a:lnTo>
                  <a:pt x="22308" y="17806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9957" y="3794"/>
                </a:lnTo>
                <a:lnTo>
                  <a:pt x="9957" y="17806"/>
                </a:lnTo>
                <a:lnTo>
                  <a:pt x="82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оңғар хандығынын құрылған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ское ханство образовалось 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63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467480" y="56386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11452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9606" y="3794"/>
                </a:lnTo>
                <a:lnTo>
                  <a:pt x="9606" y="17806"/>
                </a:lnTo>
                <a:lnTo>
                  <a:pt x="794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07732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6" descr="5"/>
          <p:cNvPicPr/>
          <p:nvPr/>
        </p:nvPicPr>
        <p:blipFill>
          <a:blip r:embed="rId1"/>
          <a:stretch/>
        </p:blipFill>
        <p:spPr>
          <a:xfrm>
            <a:off x="4191120" y="1371600"/>
            <a:ext cx="3763800" cy="51004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773-1775 жылы ұлт азаттық көтерлістін басшы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3-1775гг.-это годы крестьянского восстания под руководством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мельян Пугач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7620120" y="55627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8842" y="10800"/>
                </a:moveTo>
                <a:lnTo>
                  <a:pt x="19348" y="3794"/>
                </a:lnTo>
                <a:lnTo>
                  <a:pt x="19348" y="17806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6997" y="3794"/>
                </a:lnTo>
                <a:lnTo>
                  <a:pt x="6997" y="17806"/>
                </a:lnTo>
                <a:lnTo>
                  <a:pt x="53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73915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4853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13008" y="3794"/>
                </a:lnTo>
                <a:lnTo>
                  <a:pt x="13008" y="17806"/>
                </a:lnTo>
                <a:lnTo>
                  <a:pt x="11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ылы қандай жиналыста президенттын басқару уақытты ұзартыл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м были продлены полномочия президента РК в 1995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лықаралық/Общенародным референду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543800" y="563868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Қазақстан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тарихы/История Казахстана 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Верный бекнісі қазақтың қай қаласында салынды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54г. Отряд Перемышельского заложил фундамент укрепления-Верное, на месте казахского посе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м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6201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9793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7948" y="3794"/>
                </a:lnTo>
                <a:lnTo>
                  <a:pt x="7948" y="17806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ШБ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Ұ/ШО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200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772400" y="54864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гадки на логи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длиннее всего на свете - и короче. Быстрее всего - и медленнее. Самое дробное - и самое неразрывное. Его меньше всего ценят, но больше всего сожалеют о его отсутствии. Без него ничего не может быть сделано. Когда его мало, оно пожирает всех и вся без следа, а когда много - дает возможность вздохнуть спокойно. Что это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ужно делать, когда видишь зеленого человеч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ое слово начинается с трех букв "Г" и заканчивается тремя буквами "Я"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ри телезвезды хорошо известны каждому из нас. Блондина зовут Степан, шатена зовут Филипп. А как зовут лыс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ельзя съесть на завтрак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дит девушка, а вы не можете сесть на ее место, даже если она встанет и уйдет. Где она сиди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вве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ЖЭС/НЭП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921г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4674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12212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  <a:path fill="darken" w="31422" h="21600">
                <a:moveTo>
                  <a:pt x="8704" y="3794"/>
                </a:moveTo>
                <a:lnTo>
                  <a:pt x="10367" y="3794"/>
                </a:lnTo>
                <a:lnTo>
                  <a:pt x="10367" y="17806"/>
                </a:lnTo>
                <a:lnTo>
                  <a:pt x="870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БҰҰ/ОО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5 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84872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ТМД/СН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4674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2699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10854" y="3794"/>
                </a:lnTo>
                <a:lnTo>
                  <a:pt x="10854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10-19T17:27:18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