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EF6-38F2-4CF5-819C-DA1FF43CFB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50F3-F069-4E65-BC9B-C969B68DD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жите, что вы видите на картинке. Что можно узнать? (Сколько всего зайчиков) Как это узнать? (запись в тетрадь выражения 4+2=6) Чтение записи с названием терми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6AD6-0B54-4D0C-8C2A-5E850657A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, что случилось. Что теперь можно узнать? (Сколько зайчиков осталось?) Как это можно записать? (в тетрадь 6-4=2) Как называли число 6? Число 4? Число 2? Как можно прочитать запись? (из суммы 6 вычесть слагаемое 4 получится слагаемое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9C8B-91E1-42D1-AB09-DA50E57A0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ернутся серые зайчики. Посмотрите, что теперь произойдёт(ушли белые зайчики) Что можно спросить? Как это записать. Далее как в предыдущем рассужден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C7C7-E3B5-4931-B8A1-783C2662B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 чтение выражений, используя математические терм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E100-8A2E-4BB0-8B23-1B267BC79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 вывод. Далее – закрепление по заданиям учебника или на усмотрение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360-907D-4162-A4DD-9DE249E3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D34-9EEF-4C79-A315-4A06A01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CB8B5-00AB-4EFA-9428-8B023D40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2D5EA-A700-48F7-83E6-DCD9227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272E7-3AED-4718-B622-3EE53C4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8AF7F-842C-4DE4-B7E0-4D86256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620D-7022-46C2-85CD-97F9710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5CDB-EB85-4F1E-8F4C-B1B605F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7D2A-7543-4775-B15F-1990A0EE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2FE4C-73F4-48F4-88B1-FB3BAF26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ACDF-4687-465C-8E8F-571B30D4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24E-7F61-4F54-AB09-7DF97051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F51-1A0E-4FEF-BFB2-AE82BA3F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D682-B119-44FA-B10D-D71F9564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071-008D-4F5F-A468-F1C5A80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8FC-DD5B-4EC3-8B8E-EC7D43A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F8AF-77A8-4440-9CE0-3FE11A7D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51E1-A1C7-4DE4-8373-E68499E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D03-D0B0-442B-9FA8-1C9FA93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34E7-F867-492D-A94B-DE6292A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351-DB38-4226-8F44-139BB06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DF0B-8BCD-464F-A35F-B5791E4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832A-DCF7-4E95-B6FD-C8CBC67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1748-DE98-467C-B4AE-A63F4BB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215-DA87-472C-842B-798FBA3C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80D5-549F-4415-9464-C79BDEE8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B8E0-51E6-46FC-A3A1-D623361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722D-885A-4440-86BA-73ED0878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361A-0FE8-47F2-9774-CE7FD2E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122E-8D30-44FD-8DE0-BF837BD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E52C-B229-41BC-ABD7-6D485224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250-C98E-4A47-A82D-38E523AD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7CFE-B8B9-4308-8762-A68A6D9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D52B-1428-4FD1-83EB-C08F881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FF75-6628-4DAC-AC43-18D48C8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F5FD-FD48-4868-A62A-1B94C96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DFF8-735E-44E8-AEC7-5040F3A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0F1B-C4B1-4ED4-BDC7-23078292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6357-BCBB-4FE8-8B4D-B9965530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5C16-8DE3-4D93-80AA-9BEABBCA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68BC-7108-4E8B-83F5-2536EF8D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9369-1945-4BA2-9978-6918310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6A3-8151-405E-A360-DD30A98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C51F-77DA-4A4E-9D6F-E65383B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5614-1A85-4FAC-AD15-1FF377D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B0F1-DA5F-499E-B2D5-A3481F81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15AE-9B1B-4B82-B168-A466F1F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5F3E-A2E3-441A-AD1B-60A8980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51F2-52D7-4E89-A62D-EDBF8A2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A9ED-5FC4-4D6D-8A16-D4DFA58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CB0D-9D48-4EC5-88DE-1DDE056A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169A-82EF-4EAC-B032-2B9CB44E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CBF9-F3C7-41C3-8E98-2231EF20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C5B-0F7F-4B09-B8E4-F5ED183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013A-352C-4825-8246-3845B0D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467B-C781-4888-B8E8-FF16717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324C-42D9-44CB-BEB3-9387206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F2AA-4B25-4B69-8CE9-D8CB3C1E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B9F8-A0CE-4D91-AE03-1F4F2223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72FB-036B-4740-B1C5-7A7352A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5C12-8BAB-4562-9F8D-6380A89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5C22C-9FE7-404B-B564-C7A6C5C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B938-42BB-46AA-B17B-4CA5A836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3A2D-C07E-4CD5-A99C-0BCB7A9A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475-D72E-42A3-90B0-C0EE3EF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15E5-1CA4-48FF-90A3-D0437A4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2123-E288-456D-A2E8-4A73FDCE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AC09-A18A-49CD-A47D-688D12E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EC33-FDFA-41F3-AE79-41F75C4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5214C-2426-485D-B42B-766525C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9C10-2F22-4D97-80AD-E8A7EA46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4CA3-8715-4F14-A52A-169929E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F759-4E03-445E-8C39-5790057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857F-6650-40AB-BA18-F2878BF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EF9E-EAC3-4C03-82D9-C391217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8A0-5ABA-4E67-AAA5-4A3D614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0E97-F47D-44F8-8BCB-1C1F9B02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1587-D382-4D7F-B68B-C4482C01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8BD8-9834-43D5-95E1-50EB386F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CDCF-9836-45DB-9263-5FA4613B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CC81A-1597-42A4-AF4C-FE942429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F6BED-F30B-47DB-A4EC-2237A0FF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F271-3752-4370-A3E0-7BBA9CBE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5B47-F8A5-4C2E-B8EC-FE31591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47AC-CCDE-47BF-A83D-90328C3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82B5-30F3-4219-827A-70278D6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7B7-36CB-49F0-A56B-0BE4BEA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53A3-1CEA-49C8-A7D4-772B26D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436F-92E4-4D10-A5BD-136DA68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D7F2-BB40-4BDE-A331-3253A69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02AB-669C-4A9C-ADBD-2FF89570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8EAF-BED1-40CC-BB6F-2C48384D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EE1E-A2D8-4B11-B852-160CBBAC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7F0DA-A957-44EE-B8B9-2B9856A9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EB9B-192C-437B-B67B-7BFE6F5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42B7-8FD4-4254-8F94-C4DD3BE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080C9-D02F-49C0-9352-A7E9E0CC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5ED-7D44-4A89-AEED-DFF0811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3833-D4CD-426D-B3BD-95C80BB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360F-997D-46B0-BF53-671D354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BF779-4DBD-4411-AE3C-6223373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190A-7F69-49F1-8C80-7BC0AD7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FF996-078A-45D8-922B-D873001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AF953-6A6D-4782-8C33-96B97195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E181E-F0BC-475E-A7E1-08A721F3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D1E96-A6B9-4B4D-B1EA-51085AB8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5DC69-6571-4660-AC60-F16B1080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3D82B-70C1-4DCE-846E-5313995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5353-043E-457A-B6EA-E0FD4A144FF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21A-CBA5-47AC-8A12-A1EBC679265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599-4AB5-45AB-BBE5-360F9CEBE22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A3E6-7BE3-4668-B925-B8DC6C1EB17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FD5B-DEE9-4EDB-B696-64563496A0FB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0DA6-1CAD-46C0-8089-AEC451B80A4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FCE2-3EDB-4189-AC0F-72C58632BE6E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2F2-EBD0-423F-B8FF-1E0653107B1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7DF-A545-424E-A146-438A93C8A41B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«Связь между суммой и слагаемыми»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рок математики в 1 классе 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рограмма « Школа России»    по ФГОС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одготовила : Костина Светлана Викторовна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читель начальных классов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1002600" y="68580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должить столб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928440" y="205740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4952880" y="2133720"/>
            <a:ext cx="305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137160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1371600" y="3124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33412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5334120" y="3124080"/>
            <a:ext cx="153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852120" y="106668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838080" y="2514600"/>
            <a:ext cx="275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7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838080" y="3886200"/>
            <a:ext cx="28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3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257800" y="259092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5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181480" y="1066680"/>
            <a:ext cx="259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181480" y="3886200"/>
            <a:ext cx="232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725120" y="1447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1800000" y="2895480"/>
            <a:ext cx="13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1523880" y="426708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029200" y="1447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5029200" y="281952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952880" y="426708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1066680" y="1066680"/>
            <a:ext cx="33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+2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219320" y="2590920"/>
            <a:ext cx="29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+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95280" y="411480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5105520" y="1066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5257800" y="2590920"/>
            <a:ext cx="217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-2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5105520" y="4191120"/>
            <a:ext cx="28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316160"/>
            <a:ext cx="7729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0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21" name="Oval 9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1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26" name="Oval 12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6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31" name="Oval 17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8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9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20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21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36" name="Oval 22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4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25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0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5"/>
          <p:cNvGrpSpPr/>
          <p:nvPr/>
        </p:nvGrpSpPr>
        <p:grpSpPr>
          <a:xfrm>
            <a:off x="228600" y="228600"/>
            <a:ext cx="8686800" cy="2666880"/>
            <a:chOff x="228600" y="228600"/>
            <a:chExt cx="8686800" cy="2666880"/>
          </a:xfrm>
        </p:grpSpPr>
        <p:grpSp>
          <p:nvGrpSpPr>
            <p:cNvPr id="443" name="Group 2"/>
            <p:cNvGrpSpPr/>
            <p:nvPr/>
          </p:nvGrpSpPr>
          <p:grpSpPr>
            <a:xfrm>
              <a:off x="228600" y="304920"/>
              <a:ext cx="2209680" cy="2590560"/>
              <a:chOff x="228600" y="304920"/>
              <a:chExt cx="2209680" cy="2590560"/>
            </a:xfrm>
          </p:grpSpPr>
          <p:sp>
            <p:nvSpPr>
              <p:cNvPr id="444" name="Oval 3"/>
              <p:cNvSpPr/>
              <p:nvPr/>
            </p:nvSpPr>
            <p:spPr>
              <a:xfrm rot="1914600">
                <a:off x="37008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4"/>
              <p:cNvSpPr/>
              <p:nvPr/>
            </p:nvSpPr>
            <p:spPr>
              <a:xfrm>
                <a:off x="137016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"/>
              <p:cNvSpPr/>
              <p:nvPr/>
            </p:nvSpPr>
            <p:spPr>
              <a:xfrm>
                <a:off x="146916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7" name="Picture 6" descr="Thumper-1-lg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8" name="Group 7"/>
            <p:cNvGrpSpPr/>
            <p:nvPr/>
          </p:nvGrpSpPr>
          <p:grpSpPr>
            <a:xfrm>
              <a:off x="2286000" y="228600"/>
              <a:ext cx="2209680" cy="2590920"/>
              <a:chOff x="2286000" y="228600"/>
              <a:chExt cx="2209680" cy="2590920"/>
            </a:xfrm>
          </p:grpSpPr>
          <p:sp>
            <p:nvSpPr>
              <p:cNvPr id="449" name="Oval 8"/>
              <p:cNvSpPr/>
              <p:nvPr/>
            </p:nvSpPr>
            <p:spPr>
              <a:xfrm rot="1914600">
                <a:off x="2427120" y="1461600"/>
                <a:ext cx="496080" cy="621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9"/>
              <p:cNvSpPr/>
              <p:nvPr/>
            </p:nvSpPr>
            <p:spPr>
              <a:xfrm>
                <a:off x="3427560" y="140148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0"/>
              <p:cNvSpPr/>
              <p:nvPr/>
            </p:nvSpPr>
            <p:spPr>
              <a:xfrm>
                <a:off x="3526560" y="375120"/>
                <a:ext cx="4464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2" name="Picture 11" descr="Thumper-1-lg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228600"/>
                <a:ext cx="2209680" cy="25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12"/>
            <p:cNvGrpSpPr/>
            <p:nvPr/>
          </p:nvGrpSpPr>
          <p:grpSpPr>
            <a:xfrm>
              <a:off x="4495680" y="304920"/>
              <a:ext cx="2210040" cy="2590560"/>
              <a:chOff x="4495680" y="304920"/>
              <a:chExt cx="2210040" cy="2590560"/>
            </a:xfrm>
          </p:grpSpPr>
          <p:sp>
            <p:nvSpPr>
              <p:cNvPr id="454" name="Oval 13"/>
              <p:cNvSpPr/>
              <p:nvPr/>
            </p:nvSpPr>
            <p:spPr>
              <a:xfrm rot="1914600">
                <a:off x="4637160" y="1537920"/>
                <a:ext cx="49644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563724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5"/>
              <p:cNvSpPr/>
              <p:nvPr/>
            </p:nvSpPr>
            <p:spPr>
              <a:xfrm>
                <a:off x="5736600" y="451440"/>
                <a:ext cx="44676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6" descr="Thumper-1-lg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304920"/>
                <a:ext cx="221004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Group 17"/>
            <p:cNvGrpSpPr/>
            <p:nvPr/>
          </p:nvGrpSpPr>
          <p:grpSpPr>
            <a:xfrm>
              <a:off x="6705720" y="304920"/>
              <a:ext cx="2209680" cy="2590560"/>
              <a:chOff x="6705720" y="304920"/>
              <a:chExt cx="2209680" cy="2590560"/>
            </a:xfrm>
          </p:grpSpPr>
          <p:sp>
            <p:nvSpPr>
              <p:cNvPr id="459" name="Oval 18"/>
              <p:cNvSpPr/>
              <p:nvPr/>
            </p:nvSpPr>
            <p:spPr>
              <a:xfrm rot="1914600">
                <a:off x="684720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784728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794628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21" descr="Thumper-1-lg"/>
              <p:cNvPicPr/>
              <p:nvPr/>
            </p:nvPicPr>
            <p:blipFill>
              <a:blip r:embed="rId4"/>
              <a:stretch/>
            </p:blipFill>
            <p:spPr>
              <a:xfrm>
                <a:off x="670572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66" name="Oval 3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7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71" name="Oval 8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0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1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76" name="Oval 13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7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81" name="Oval 18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9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0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21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24"/>
          <p:cNvGrpSpPr/>
          <p:nvPr/>
        </p:nvGrpSpPr>
        <p:grpSpPr>
          <a:xfrm>
            <a:off x="2209680" y="3200400"/>
            <a:ext cx="4130640" cy="2970360"/>
            <a:chOff x="2209680" y="3200400"/>
            <a:chExt cx="4130640" cy="2970360"/>
          </a:xfrm>
        </p:grpSpPr>
        <p:pic>
          <p:nvPicPr>
            <p:cNvPr id="486" name="Picture 22" descr="зайчик 1"/>
            <p:cNvPicPr/>
            <p:nvPr/>
          </p:nvPicPr>
          <p:blipFill>
            <a:blip r:embed="rId5">
              <a:grayscl/>
              <a:lum bright="30000"/>
            </a:blip>
            <a:stretch/>
          </p:blipFill>
          <p:spPr>
            <a:xfrm>
              <a:off x="2209680" y="3276720"/>
              <a:ext cx="1844640" cy="28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3" descr="зайчик 1"/>
            <p:cNvPicPr/>
            <p:nvPr/>
          </p:nvPicPr>
          <p:blipFill>
            <a:blip r:embed="rId6">
              <a:grayscl/>
              <a:lum bright="30000"/>
            </a:blip>
            <a:stretch/>
          </p:blipFill>
          <p:spPr>
            <a:xfrm>
              <a:off x="4495680" y="3200400"/>
              <a:ext cx="1844640" cy="28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1981080" y="838080"/>
            <a:ext cx="5943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+ 2 =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4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2 =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533520"/>
            <a:ext cx="6095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ч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учи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2" name="WordArt 5"/>
          <p:cNvSpPr txBox="1"/>
          <p:nvPr/>
        </p:nvSpPr>
        <p:spPr>
          <a:xfrm>
            <a:off x="1676520" y="3352680"/>
            <a:ext cx="5715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одно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3" name="WordArt 6"/>
          <p:cNvSpPr txBox="1"/>
          <p:nvPr/>
        </p:nvSpPr>
        <p:spPr>
          <a:xfrm>
            <a:off x="2819520" y="16002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су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4" name="WordArt 7"/>
          <p:cNvSpPr txBox="1"/>
          <p:nvPr/>
        </p:nvSpPr>
        <p:spPr>
          <a:xfrm>
            <a:off x="1371600" y="51814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другое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3:29Z</dcterms:created>
  <dc:creator>user</dc:creator>
  <dc:description/>
  <dc:language>en-US</dc:language>
  <cp:lastModifiedBy>Ёля</cp:lastModifiedBy>
  <dcterms:modified xsi:type="dcterms:W3CDTF">2014-05-17T14:34:1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