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741-C5A5-4E48-8635-EA85A994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547-4216-43D9-9F07-33317E72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7B0-5890-41F8-9B30-2810683D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C7A-4D92-48ED-9C8E-BAEA37DF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D723-9DEB-486E-A10E-AC701D0F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1095-E764-4E8E-93E1-94B562F4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1EBF-6C63-4763-854A-E1B6FEFA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CA4F-5E68-43B8-B723-4DDF182C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0149-546C-45C6-A78F-E8CF0F02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B969-1942-4DC6-B9F4-644C2391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6D67-4FE3-4ACF-8F17-AD78DDFE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AA4-518A-4276-893D-333AB9D1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B8F2-F425-4B7D-A53B-476EACFA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81F8-0097-4710-86F4-EF64CD73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EF0D-B1F5-4091-9CB4-3E6ECB53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272D-536E-44E8-9612-F670D32D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5ACC-E6B6-42F2-A257-DB75BA08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D2BE-0262-4538-9E2B-A57322C5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CF02-A5CB-4727-8B64-96638ED7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74F2-E85F-4711-BE05-7DD4AAED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429E5-983F-4D42-BDA4-ABD80831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158A5-B859-4FAA-A8DD-02040DC4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514-D376-44BC-B643-26BC5529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28D69-2B3D-4FD4-A7DF-883B1484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4709-BB58-44FE-A684-9ED47127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BB1D-C7CA-4731-896E-AB702339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BBF4-8608-4410-81C4-DF494520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3C81-4F8C-44A8-9613-43867EC7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C335-1CDC-49C8-861A-BE7BA2AE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DDD6-2113-4E49-B812-1BA7B029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EE14-4D6D-40C9-9EC0-3E4C4C10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CAA5-13DD-4AD5-B9AF-ABEA04F1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0273-1701-4351-97EA-AB328146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F08-7417-4190-83CE-E03213DD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8FEC-1CBA-41EF-9429-C81A00C4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4CE2F-BC0F-4304-A7C9-C07B0DBE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5BBC-7444-48C1-B316-0CA19F5D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5EBD-6010-4D6D-AA87-5A9A41C9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BB634-E452-40AA-AA22-DE0B8266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3679-A7E2-4041-877C-AEDAF19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DE5C3-3A21-45D9-99C7-2C93EC54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F5C9-0A92-44BA-BFF6-1FFE3F68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D7AA-D8D7-451E-95CC-0D4B58E8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1D6F-C3B8-49A5-9AC4-C3E8BB3A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C4C-7943-43B9-86AE-867E7437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B55EE-8CD6-4E20-BC00-0AC3DDE5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AC25C-950C-4D39-A2FD-6FB30526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A9458-6D55-4712-817E-3E3EE435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BB13C-7413-4491-BC26-87EF4EEE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CF4C6-1AC4-4130-BC61-9CDA4ADE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A4AE-182C-4B69-B307-6C47AA9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C6DAC-454C-4408-84D4-DFFC2A6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FE787-D8F9-4D2C-B0CB-F492034B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2DEE1-0CD8-4DAA-AAEF-79FB245E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DFB6-001E-4668-9C74-6799AA7D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0AE-D363-4B89-BC9A-671397F5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40FC-A2A3-44DA-BA0D-6AC24618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6AFB-7605-42A9-B69D-39DFE038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1241A-A2BA-4F80-8ADA-3CAE1259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C3AC9-4489-4247-A3C1-FDA8F607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9521F-5841-4BAD-A1E9-D4002BD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949A9-8773-410F-8033-2089502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24DF-D55A-42EE-80F7-33368522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252AD-DA63-414F-A674-C629E21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A9D29-4E8B-48A6-8C58-50FF8FFB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25BBD-191D-4475-A299-148C349A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8C1-3727-4055-A760-A1D2788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BFCC6-6058-4577-A9BE-B82313E8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BA5A-8788-42DA-905E-963DE429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605F-4562-41D2-AF1B-D67308A0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2BCA99-4155-41B6-B726-05B5FF4F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8EC0C6-CE5D-454C-845A-7DBCEBA7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0CDB7E-457B-4A50-8D42-04C27FD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EB454E-6CB3-4142-A4B5-CA5827EF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8E69F3-E05E-4943-ADA6-DD0F6C2B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A0FCD4-A623-46FD-8E82-C4D72EA3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654305-102B-4925-9AAC-D73857A9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786-FA84-48FB-8742-69941721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2C832A-2ADB-4E37-9556-E4668C49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BB5DAB-0DA5-41DC-8604-69F35FA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82B7C7-5FE3-4C38-918A-809F654C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C68799-B4EA-4C64-8168-BFE3F609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C3110A-C9B5-47C2-9072-9EAFDBE4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FE8-F651-49AC-9822-A4E448D7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D803-F031-4795-98F5-1168B7B67C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Freeform 13"/>
                  <p:cNvSpPr/>
                  <p:nvPr/>
                </p:nvSpPr>
                <p:spPr>
                  <a:xfrm rot="16200000">
                    <a:off x="8757720" y="547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4"/>
                  <p:cNvSpPr/>
                  <p:nvPr/>
                </p:nvSpPr>
                <p:spPr>
                  <a:xfrm rot="16200000">
                    <a:off x="8828640" y="421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Freeform 15"/>
                  <p:cNvSpPr/>
                  <p:nvPr/>
                </p:nvSpPr>
                <p:spPr>
                  <a:xfrm rot="16200000">
                    <a:off x="8898120" y="921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61D0-B6C0-4CCF-AE1A-8CCC8838F5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da1f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3A71-7FE7-43B9-A065-D2C6286C3F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1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68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C78C-709C-49C7-BF05-B12AFBF3CB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235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239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240" name="Group 8"/>
                <p:cNvGrpSpPr/>
                <p:nvPr/>
              </p:nvGrpSpPr>
              <p:grpSpPr>
                <a:xfrm>
                  <a:off x="8723160" y="-360"/>
                  <a:ext cx="279720" cy="275400"/>
                  <a:chOff x="8723160" y="-360"/>
                  <a:chExt cx="279720" cy="275400"/>
                </a:xfrm>
              </p:grpSpPr>
              <p:grpSp>
                <p:nvGrpSpPr>
                  <p:cNvPr id="241" name="Group 9"/>
                  <p:cNvGrpSpPr/>
                  <p:nvPr/>
                </p:nvGrpSpPr>
                <p:grpSpPr>
                  <a:xfrm>
                    <a:off x="8723160" y="-360"/>
                    <a:ext cx="279720" cy="275400"/>
                    <a:chOff x="8723160" y="-360"/>
                    <a:chExt cx="279720" cy="275400"/>
                  </a:xfrm>
                </p:grpSpPr>
                <p:sp>
                  <p:nvSpPr>
                    <p:cNvPr id="242" name="Freeform 10"/>
                    <p:cNvSpPr/>
                    <p:nvPr/>
                  </p:nvSpPr>
                  <p:spPr>
                    <a:xfrm rot="16200000">
                      <a:off x="8762400" y="-39600"/>
                      <a:ext cx="201240" cy="27972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720"/>
                        <a:gd name="textAreaBottom" fmla="*/ 280080 h 2797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4" name="Oval 12"/>
                  <p:cNvSpPr/>
                  <p:nvPr/>
                </p:nvSpPr>
                <p:spPr>
                  <a:xfrm rot="16200000">
                    <a:off x="8843040" y="1443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3"/>
                  <p:cNvSpPr/>
                  <p:nvPr/>
                </p:nvSpPr>
                <p:spPr>
                  <a:xfrm rot="16200000">
                    <a:off x="8776440" y="698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4"/>
                  <p:cNvSpPr/>
                  <p:nvPr/>
                </p:nvSpPr>
                <p:spPr>
                  <a:xfrm rot="16200000">
                    <a:off x="8848080" y="57240"/>
                    <a:ext cx="64800" cy="3816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5"/>
                  <p:cNvSpPr/>
                  <p:nvPr/>
                </p:nvSpPr>
                <p:spPr>
                  <a:xfrm rot="16200000">
                    <a:off x="8917200" y="1072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6"/>
                  <p:cNvSpPr/>
                  <p:nvPr/>
                </p:nvSpPr>
                <p:spPr>
                  <a:xfrm rot="16200000">
                    <a:off x="8843040" y="205920"/>
                    <a:ext cx="63360" cy="270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7"/>
                  <p:cNvSpPr/>
                  <p:nvPr/>
                </p:nvSpPr>
                <p:spPr>
                  <a:xfrm rot="16200000">
                    <a:off x="8791200" y="1818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8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25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8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4760"/>
                <a:gd name="textAreaBottom" fmla="*/ 1995120 h 19947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6600"/>
                <a:gd name="textAreaBottom" fmla="*/ 4026960 h 40266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8720"/>
                <a:gd name="textAreaBottom" fmla="*/ 2179080 h 21787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5320"/>
                <a:gd name="textAreaBottom" fmla="*/ 5035320 h 503532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3600"/>
                <a:gd name="textAreaBottom" fmla="*/ 3063960 h 30636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4040"/>
                <a:gd name="textAreaBottom" fmla="*/ 3344400 h 3344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4400"/>
                <a:gd name="textAreaBottom" fmla="*/ 3344760 h 33444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76DB-8136-4021-A5C3-52E6295E30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46"/>
            </a:gs>
            <a:gs pos="100000">
              <a:srgbClr val="da1f2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3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1f"/>
                </a:gs>
                <a:gs pos="100000">
                  <a:srgbClr val="000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f5fa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E3A9-30F2-46ED-AC10-5E00984C14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d4d4d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68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8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68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68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9076-678E-4FD7-9089-988FB6642D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dt" idx="2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4.xml"/><Relationship Id="rId9" Type="http://schemas.openxmlformats.org/officeDocument/2006/relationships/slide" Target="slide35.xml"/><Relationship Id="rId10" Type="http://schemas.openxmlformats.org/officeDocument/2006/relationships/slide" Target="slide36.xml"/><Relationship Id="rId11" Type="http://schemas.openxmlformats.org/officeDocument/2006/relationships/slide" Target="slide37.xml"/><Relationship Id="rId12" Type="http://schemas.openxmlformats.org/officeDocument/2006/relationships/slide" Target="slide38.xml"/><Relationship Id="rId13" Type="http://schemas.openxmlformats.org/officeDocument/2006/relationships/slide" Target="slide39.xml"/><Relationship Id="rId14" Type="http://schemas.openxmlformats.org/officeDocument/2006/relationships/slide" Target="slide40.xml"/><Relationship Id="rId15" Type="http://schemas.openxmlformats.org/officeDocument/2006/relationships/slide" Target="slide41.xml"/><Relationship Id="rId16" Type="http://schemas.openxmlformats.org/officeDocument/2006/relationships/slide" Target="slide42.xml"/><Relationship Id="rId17" Type="http://schemas.openxmlformats.org/officeDocument/2006/relationships/slide" Target="slide43.xml"/><Relationship Id="rId18" Type="http://schemas.openxmlformats.org/officeDocument/2006/relationships/slide" Target="slide44.xml"/><Relationship Id="rId19" Type="http://schemas.openxmlformats.org/officeDocument/2006/relationships/slide" Target="slide45.xml"/><Relationship Id="rId20" Type="http://schemas.openxmlformats.org/officeDocument/2006/relationships/slide" Target="slide46.xml"/><Relationship Id="rId21" Type="http://schemas.openxmlformats.org/officeDocument/2006/relationships/slide" Target="slide47.xml"/><Relationship Id="rId22" Type="http://schemas.openxmlformats.org/officeDocument/2006/relationships/slide" Target="slide48.xml"/><Relationship Id="rId23" Type="http://schemas.openxmlformats.org/officeDocument/2006/relationships/slide" Target="slide49.xml"/><Relationship Id="rId24" Type="http://schemas.openxmlformats.org/officeDocument/2006/relationships/slide" Target="slide50.xml"/><Relationship Id="rId25" Type="http://schemas.openxmlformats.org/officeDocument/2006/relationships/slide" Target="slide30.xml"/><Relationship Id="rId2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00120" y="1856880"/>
            <a:ext cx="7088400" cy="2592360"/>
          </a:xfrm>
          <a:prstGeom prst="rect">
            <a:avLst/>
          </a:prstGeom>
          <a:solidFill>
            <a:srgbClr val="9a3130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Игра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«Счастливый случай»</a:t>
            </a:r>
            <a:endParaRPr b="0" lang="en-US" sz="4800" spc="-1" strike="noStrike">
              <a:solidFill>
                <a:srgbClr val="5a637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785880" y="179280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совсем наоборот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глощаем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857160" y="1498680"/>
            <a:ext cx="757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яем вновь и вновь: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слород разносит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857160" y="115668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се мы дышим легкими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 ей немножко тоже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ш теплорегулятор..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 чем здесь речь? О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1"/>
          <p:cNvSpPr/>
          <p:nvPr/>
        </p:nvSpPr>
        <p:spPr>
          <a:xfrm>
            <a:off x="857160" y="178596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а попадает в рот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отка, дальше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"/>
          <p:cNvSpPr/>
          <p:nvPr/>
        </p:nvSpPr>
        <p:spPr>
          <a:xfrm>
            <a:off x="857160" y="1864080"/>
            <a:ext cx="764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оп, микробы! Хода нет!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 меня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857160" y="1799640"/>
            <a:ext cx="750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а и нам ребята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д i расставить точки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истеме выделения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жнейший орган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857160" y="1875600"/>
            <a:ext cx="7572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му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он опора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о его страшнее н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в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жастиках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стречается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зывается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1"/>
          <p:cNvSpPr/>
          <p:nvPr/>
        </p:nvSpPr>
        <p:spPr>
          <a:xfrm>
            <a:off x="857160" y="1857240"/>
            <a:ext cx="7500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твердая походка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в тетради пишешь четко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кто нам так помог?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 работой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2</a:t>
            </a:r>
            <a:br>
              <a:rPr sz="6600"/>
            </a:br>
            <a:br>
              <a:rPr sz="6600"/>
            </a:br>
            <a:r>
              <a:rPr b="1" lang="ru-RU" sz="5400" spc="-1" strike="noStrike">
                <a:solidFill>
                  <a:srgbClr val="00b0f0"/>
                </a:solidFill>
                <a:latin typeface="Tahoma"/>
              </a:rPr>
              <a:t>«Четвертый лишний»</a:t>
            </a:r>
            <a:br>
              <a:rPr sz="6600"/>
            </a:br>
            <a:endParaRPr b="1" lang="en-US" sz="5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2"/>
          <p:cNvSpPr/>
          <p:nvPr/>
        </p:nvSpPr>
        <p:spPr>
          <a:xfrm>
            <a:off x="714240" y="71424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ть заданий заключается в том, что среди четырех слов или словосочетаний «спрятано» одно лишнее по смыслу. Нужно его найти и объяснить, почему оно лишнее. Из первых букв «лишних» слов складывается новое, которое тоже нужно объясни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1571400" y="2928960"/>
            <a:ext cx="6715080" cy="128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b">
            <a:normAutofit fontScale="48000"/>
          </a:bodyPr>
          <a:p>
            <a:pPr marL="292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a3130"/>
                </a:solidFill>
                <a:latin typeface="Times New Roman"/>
              </a:rPr>
              <a:t>Организм челове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9232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WordArt 4"/>
          <p:cNvSpPr txBox="1"/>
          <p:nvPr/>
        </p:nvSpPr>
        <p:spPr>
          <a:xfrm>
            <a:off x="2124000" y="2060640"/>
            <a:ext cx="46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4286160" y="214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, что мы знаем, – ограниченно,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что не знаем, – бесконе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у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142920" y="85716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перечнополоса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лад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ерде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ТКАНИ»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2928960" y="200016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им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Хряще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Жи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Ресн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5643720" y="3357720"/>
            <a:ext cx="321444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п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к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ей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нд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928960" y="4714920"/>
            <a:ext cx="32148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олокн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ише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ыстилающ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1857240" y="6215040"/>
            <a:ext cx="1276560" cy="398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142920" y="85716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ах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Эпидерм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о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Системы органов»»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2000160" y="1071720"/>
            <a:ext cx="200052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Реб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оп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к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ест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3857760" y="1285920"/>
            <a:ext cx="22860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ипоф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Ле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ипотала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дпоче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6000840" y="157176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р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льве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Артери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785880" y="3357720"/>
            <a:ext cx="271440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ище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очевой пуз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ише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Желу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286080" y="4000680"/>
            <a:ext cx="200016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Ух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Эритро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р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ромбоц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5143680" y="4572000"/>
            <a:ext cx="2571480" cy="178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ендр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ина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емен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 3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РЕБУС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Рисунок 1" descr="ребусы по биологии"/>
          <p:cNvPicPr/>
          <p:nvPr/>
        </p:nvPicPr>
        <p:blipFill>
          <a:blip r:embed="rId1"/>
          <a:stretch/>
        </p:blipFill>
        <p:spPr>
          <a:xfrm>
            <a:off x="571680" y="92880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ОТВЕТ: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ОРГАНИЗМ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 Black"/>
              </a:rPr>
              <a:t>Конкурс № 4</a:t>
            </a:r>
            <a:br>
              <a:rPr sz="6000"/>
            </a:br>
            <a:r>
              <a:rPr b="1" lang="ru-RU" sz="6000" spc="-1" strike="noStrike">
                <a:solidFill>
                  <a:srgbClr val="00b0f0"/>
                </a:solidFill>
                <a:latin typeface="Arial Black"/>
              </a:rPr>
              <a:t>«Один за всех – все за одного»</a:t>
            </a:r>
            <a:br>
              <a:rPr sz="3200"/>
            </a:b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Красны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3 балла;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Arial Black"/>
              </a:rPr>
              <a:t>Сини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2 балла;</a:t>
            </a:r>
            <a:br>
              <a:rPr sz="3600"/>
            </a:br>
            <a:r>
              <a:rPr b="1" lang="ru-RU" sz="3600" spc="-1" strike="noStrike">
                <a:solidFill>
                  <a:srgbClr val="33cc33"/>
                </a:solidFill>
                <a:latin typeface="Arial Black"/>
              </a:rPr>
              <a:t>Зеленый</a:t>
            </a:r>
            <a:r>
              <a:rPr b="1" lang="ru-RU" sz="3600" spc="-1" strike="noStrike">
                <a:solidFill>
                  <a:srgbClr val="def5fa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– 1 балл.</a:t>
            </a:r>
            <a:endParaRPr b="1" lang="en-US" sz="3600" spc="-1" strike="noStrike">
              <a:solidFill>
                <a:srgbClr val="def5f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2" name="AutoShape 90">
            <a:hlinkClick r:id="rId25" action="ppaction://hlinksldjump"/>
          </p:cNvPr>
          <p:cNvSpPr/>
          <p:nvPr/>
        </p:nvSpPr>
        <p:spPr>
          <a:xfrm>
            <a:off x="3708360" y="2781360"/>
            <a:ext cx="1727280" cy="129528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4" name="AutoShape 40"/>
          <p:cNvSpPr/>
          <p:nvPr/>
        </p:nvSpPr>
        <p:spPr>
          <a:xfrm>
            <a:off x="2714760" y="2428920"/>
            <a:ext cx="3929040" cy="3016080"/>
          </a:xfrm>
          <a:prstGeom prst="cloudCallout">
            <a:avLst>
              <a:gd name="adj1" fmla="val -75763"/>
              <a:gd name="adj2" fmla="val -894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ём этой жидкости в организме примерно 5 л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3">
            <a:hlinkClick r:id="rId1" action="ppaction://hlinksldjump"/>
          </p:cNvPr>
          <p:cNvSpPr/>
          <p:nvPr/>
        </p:nvSpPr>
        <p:spPr>
          <a:xfrm>
            <a:off x="2195640" y="5286240"/>
            <a:ext cx="1162080" cy="2552760"/>
          </a:xfrm>
          <a:custGeom>
            <a:avLst/>
            <a:gdLst>
              <a:gd name="textAreaLeft" fmla="*/ 75240 w 1162080"/>
              <a:gd name="textAreaRight" fmla="*/ 1086840 w 1162080"/>
              <a:gd name="textAreaTop" fmla="*/ 75240 h 2552760"/>
              <a:gd name="textAreaBottom" fmla="*/ 2477520 h 2552760"/>
            </a:gdLst>
            <a:ahLst/>
            <a:rect l="textAreaLeft" t="textAreaTop" r="textAreaRight" b="textAreaBottom"/>
            <a:pathLst>
              <a:path w="21600" h="47441">
                <a:moveTo>
                  <a:pt x="0" y="0"/>
                </a:moveTo>
                <a:lnTo>
                  <a:pt x="21600" y="0"/>
                </a:lnTo>
                <a:lnTo>
                  <a:pt x="21600" y="47441"/>
                </a:lnTo>
                <a:lnTo>
                  <a:pt x="0" y="47441"/>
                </a:lnTo>
                <a:close/>
              </a:path>
              <a:path fill="lightenLess" w="21600" h="474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441">
                <a:moveTo>
                  <a:pt x="21600" y="0"/>
                </a:moveTo>
                <a:lnTo>
                  <a:pt x="21600" y="47441"/>
                </a:lnTo>
                <a:lnTo>
                  <a:pt x="20200" y="46041"/>
                </a:lnTo>
                <a:lnTo>
                  <a:pt x="20200" y="1400"/>
                </a:lnTo>
                <a:close/>
              </a:path>
              <a:path fill="darkenLess" w="21600" h="47441">
                <a:moveTo>
                  <a:pt x="21600" y="47441"/>
                </a:moveTo>
                <a:lnTo>
                  <a:pt x="0" y="47441"/>
                </a:lnTo>
                <a:lnTo>
                  <a:pt x="1400" y="46041"/>
                </a:lnTo>
                <a:lnTo>
                  <a:pt x="20200" y="46041"/>
                </a:lnTo>
                <a:close/>
              </a:path>
              <a:path fill="lighten" w="21600" h="47441">
                <a:moveTo>
                  <a:pt x="0" y="47441"/>
                </a:moveTo>
                <a:lnTo>
                  <a:pt x="0" y="0"/>
                </a:lnTo>
                <a:lnTo>
                  <a:pt x="1400" y="1400"/>
                </a:lnTo>
                <a:lnTo>
                  <a:pt x="1400" y="4604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1">
            <a:hlinkClick r:id="rId2" action="ppaction://hlinksldjump"/>
          </p:cNvPr>
          <p:cNvSpPr/>
          <p:nvPr/>
        </p:nvSpPr>
        <p:spPr>
          <a:xfrm>
            <a:off x="214200" y="214200"/>
            <a:ext cx="8715600" cy="6643800"/>
          </a:xfrm>
          <a:custGeom>
            <a:avLst/>
            <a:gdLst>
              <a:gd name="textAreaLeft" fmla="*/ 430560 w 8715600"/>
              <a:gd name="textAreaRight" fmla="*/ 8285040 w 871560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8335" h="21600">
                <a:moveTo>
                  <a:pt x="0" y="0"/>
                </a:moveTo>
                <a:lnTo>
                  <a:pt x="28335" y="0"/>
                </a:lnTo>
                <a:lnTo>
                  <a:pt x="28335" y="21600"/>
                </a:lnTo>
                <a:lnTo>
                  <a:pt x="0" y="21600"/>
                </a:lnTo>
                <a:close/>
              </a:path>
              <a:path fill="lightenLess" w="28335" h="21600">
                <a:moveTo>
                  <a:pt x="0" y="0"/>
                </a:moveTo>
                <a:lnTo>
                  <a:pt x="28335" y="0"/>
                </a:lnTo>
                <a:lnTo>
                  <a:pt x="26935" y="1400"/>
                </a:lnTo>
                <a:lnTo>
                  <a:pt x="1400" y="1400"/>
                </a:lnTo>
                <a:close/>
              </a:path>
              <a:path fill="darken" w="28335" h="21600">
                <a:moveTo>
                  <a:pt x="28335" y="0"/>
                </a:moveTo>
                <a:lnTo>
                  <a:pt x="28335" y="21600"/>
                </a:lnTo>
                <a:lnTo>
                  <a:pt x="26935" y="20200"/>
                </a:lnTo>
                <a:lnTo>
                  <a:pt x="26935" y="1400"/>
                </a:lnTo>
                <a:close/>
              </a:path>
              <a:path fill="darkenLess" w="28335" h="21600">
                <a:moveTo>
                  <a:pt x="28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5" y="20200"/>
                </a:lnTo>
                <a:close/>
              </a:path>
              <a:path fill="lighten" w="28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78" name="AutoShape 40"/>
          <p:cNvSpPr/>
          <p:nvPr/>
        </p:nvSpPr>
        <p:spPr>
          <a:xfrm>
            <a:off x="3348000" y="2565360"/>
            <a:ext cx="4438800" cy="3363840"/>
          </a:xfrm>
          <a:prstGeom prst="cloudCallout">
            <a:avLst>
              <a:gd name="adj1" fmla="val -48064"/>
              <a:gd name="adj2" fmla="val -88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Ежесуточно в организме взрослого человека образуется около 20 литров этой жидк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1">
            <a:hlinkClick r:id="rId1" action="ppaction://hlinksldjump"/>
          </p:cNvPr>
          <p:cNvSpPr/>
          <p:nvPr/>
        </p:nvSpPr>
        <p:spPr>
          <a:xfrm>
            <a:off x="214200" y="214200"/>
            <a:ext cx="8786880" cy="6643800"/>
          </a:xfrm>
          <a:custGeom>
            <a:avLst/>
            <a:gdLst>
              <a:gd name="textAreaLeft" fmla="*/ 430560 w 8786880"/>
              <a:gd name="textAreaRight" fmla="*/ 8356320 w 878688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8567" h="21600">
                <a:moveTo>
                  <a:pt x="0" y="0"/>
                </a:moveTo>
                <a:lnTo>
                  <a:pt x="28567" y="0"/>
                </a:lnTo>
                <a:lnTo>
                  <a:pt x="28567" y="21600"/>
                </a:lnTo>
                <a:lnTo>
                  <a:pt x="0" y="21600"/>
                </a:lnTo>
                <a:close/>
              </a:path>
              <a:path fill="lightenLess" w="28567" h="21600">
                <a:moveTo>
                  <a:pt x="0" y="0"/>
                </a:moveTo>
                <a:lnTo>
                  <a:pt x="28567" y="0"/>
                </a:lnTo>
                <a:lnTo>
                  <a:pt x="27167" y="1400"/>
                </a:lnTo>
                <a:lnTo>
                  <a:pt x="1400" y="1400"/>
                </a:lnTo>
                <a:close/>
              </a:path>
              <a:path fill="darken" w="28567" h="21600">
                <a:moveTo>
                  <a:pt x="28567" y="0"/>
                </a:moveTo>
                <a:lnTo>
                  <a:pt x="28567" y="21600"/>
                </a:lnTo>
                <a:lnTo>
                  <a:pt x="27167" y="20200"/>
                </a:lnTo>
                <a:lnTo>
                  <a:pt x="27167" y="1400"/>
                </a:lnTo>
                <a:close/>
              </a:path>
              <a:path fill="darkenLess" w="28567" h="21600">
                <a:moveTo>
                  <a:pt x="28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67" y="20200"/>
                </a:lnTo>
                <a:close/>
              </a:path>
              <a:path fill="lighten" w="28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1" name="AutoShape 40"/>
          <p:cNvSpPr/>
          <p:nvPr/>
        </p:nvSpPr>
        <p:spPr>
          <a:xfrm>
            <a:off x="3286080" y="2714760"/>
            <a:ext cx="4786200" cy="3786120"/>
          </a:xfrm>
          <a:prstGeom prst="cloudCallout">
            <a:avLst>
              <a:gd name="adj1" fmla="val -36143"/>
              <a:gd name="adj2" fmla="val -885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, дающий кровь для переливания или ткани и органы для пересадки другому лиц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1">
            <a:hlinkClick r:id="rId1" action="ppaction://hlinksldjump"/>
          </p:cNvPr>
          <p:cNvSpPr/>
          <p:nvPr/>
        </p:nvSpPr>
        <p:spPr>
          <a:xfrm>
            <a:off x="0" y="214200"/>
            <a:ext cx="8929800" cy="6643800"/>
          </a:xfrm>
          <a:custGeom>
            <a:avLst/>
            <a:gdLst>
              <a:gd name="textAreaLeft" fmla="*/ 430560 w 8929800"/>
              <a:gd name="textAreaRight" fmla="*/ 8499240 w 8929800"/>
              <a:gd name="textAreaTop" fmla="*/ 430560 h 6643800"/>
              <a:gd name="textAreaBottom" fmla="*/ 6213240 h 6643800"/>
            </a:gdLst>
            <a:ahLst/>
            <a:rect l="textAreaLeft" t="textAreaTop" r="textAreaRight" b="textAreaBottom"/>
            <a:pathLst>
              <a:path w="29032" h="21600">
                <a:moveTo>
                  <a:pt x="0" y="0"/>
                </a:moveTo>
                <a:lnTo>
                  <a:pt x="29032" y="0"/>
                </a:lnTo>
                <a:lnTo>
                  <a:pt x="29032" y="21600"/>
                </a:lnTo>
                <a:lnTo>
                  <a:pt x="0" y="21600"/>
                </a:lnTo>
                <a:close/>
              </a:path>
              <a:path fill="lightenLess" w="29032" h="21600">
                <a:moveTo>
                  <a:pt x="0" y="0"/>
                </a:moveTo>
                <a:lnTo>
                  <a:pt x="29032" y="0"/>
                </a:lnTo>
                <a:lnTo>
                  <a:pt x="27632" y="1400"/>
                </a:lnTo>
                <a:lnTo>
                  <a:pt x="1400" y="1400"/>
                </a:lnTo>
                <a:close/>
              </a:path>
              <a:path fill="darken" w="29032" h="21600">
                <a:moveTo>
                  <a:pt x="29032" y="0"/>
                </a:moveTo>
                <a:lnTo>
                  <a:pt x="29032" y="21600"/>
                </a:lnTo>
                <a:lnTo>
                  <a:pt x="27632" y="20200"/>
                </a:lnTo>
                <a:lnTo>
                  <a:pt x="27632" y="1400"/>
                </a:lnTo>
                <a:close/>
              </a:path>
              <a:path fill="darkenLess" w="29032" h="21600">
                <a:moveTo>
                  <a:pt x="29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32" y="20200"/>
                </a:lnTo>
                <a:close/>
              </a:path>
              <a:path fill="lighten" w="29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56760" y="257148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ahoma"/>
              </a:rPr>
              <a:t>Конкурс №1</a:t>
            </a:r>
            <a:br>
              <a:rPr sz="6600"/>
            </a:br>
            <a:br>
              <a:rPr sz="6600"/>
            </a:br>
            <a:r>
              <a:rPr b="1" lang="ru-RU" sz="6600" spc="-1" strike="noStrike">
                <a:solidFill>
                  <a:srgbClr val="00b0f0"/>
                </a:solidFill>
                <a:latin typeface="Tahoma"/>
              </a:rPr>
              <a:t>ЗАГАДКИ</a:t>
            </a:r>
            <a:br>
              <a:rPr sz="6600"/>
            </a:br>
            <a:endParaRPr b="1" lang="en-US" sz="6600" spc="-1" strike="noStrike">
              <a:solidFill>
                <a:srgbClr val="def5fa"/>
              </a:solidFill>
              <a:latin typeface="Arial Black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6478560" y="3886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4" name="AutoShape 40"/>
          <p:cNvSpPr/>
          <p:nvPr/>
        </p:nvSpPr>
        <p:spPr>
          <a:xfrm>
            <a:off x="2786040" y="2643120"/>
            <a:ext cx="5072040" cy="4071960"/>
          </a:xfrm>
          <a:prstGeom prst="cloudCallout">
            <a:avLst>
              <a:gd name="adj1" fmla="val 7541"/>
              <a:gd name="adj2" fmla="val -83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 в организм сыворотки заражённых животных или переболевшего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1">
            <a:hlinkClick r:id="rId1" action="ppaction://hlinksldjump"/>
          </p:cNvPr>
          <p:cNvSpPr/>
          <p:nvPr/>
        </p:nvSpPr>
        <p:spPr>
          <a:xfrm>
            <a:off x="214200" y="214200"/>
            <a:ext cx="8715600" cy="6429600"/>
          </a:xfrm>
          <a:custGeom>
            <a:avLst/>
            <a:gdLst>
              <a:gd name="textAreaLeft" fmla="*/ 416520 w 8715600"/>
              <a:gd name="textAreaRight" fmla="*/ 8299080 w 871560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6" name=""/>
          <p:cNvGraphicFramePr/>
          <p:nvPr/>
        </p:nvGraphicFramePr>
        <p:xfrm>
          <a:off x="250920" y="189000"/>
          <a:ext cx="8534160" cy="6456240"/>
        </p:xfrm>
        <a:graphic>
          <a:graphicData uri="http://schemas.openxmlformats.org/drawingml/2006/table">
            <a:tbl>
              <a:tblPr/>
              <a:tblGrid>
                <a:gridCol w="1706400"/>
                <a:gridCol w="1708200"/>
                <a:gridCol w="1704960"/>
                <a:gridCol w="1708200"/>
                <a:gridCol w="170640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87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56055"/>
              <a:gd name="adj2" fmla="val -118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уды, по которым кровь движется от серд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1">
            <a:hlinkClick r:id="rId1" action="ppaction://hlinksldjump"/>
          </p:cNvPr>
          <p:cNvSpPr/>
          <p:nvPr/>
        </p:nvSpPr>
        <p:spPr>
          <a:xfrm rot="21478800">
            <a:off x="401760" y="64800"/>
            <a:ext cx="8340480" cy="6727680"/>
          </a:xfrm>
          <a:custGeom>
            <a:avLst/>
            <a:gdLst>
              <a:gd name="textAreaLeft" fmla="*/ 435960 w 8340480"/>
              <a:gd name="textAreaRight" fmla="*/ 7904520 w 8340480"/>
              <a:gd name="textAreaTop" fmla="*/ 435960 h 6727680"/>
              <a:gd name="textAreaBottom" fmla="*/ 6291720 h 6727680"/>
            </a:gdLst>
            <a:ahLst/>
            <a:rect l="textAreaLeft" t="textAreaTop" r="textAreaRight" b="textAreaBottom"/>
            <a:pathLst>
              <a:path w="26778" h="21600">
                <a:moveTo>
                  <a:pt x="0" y="0"/>
                </a:moveTo>
                <a:lnTo>
                  <a:pt x="26778" y="0"/>
                </a:lnTo>
                <a:lnTo>
                  <a:pt x="26778" y="21600"/>
                </a:lnTo>
                <a:lnTo>
                  <a:pt x="0" y="21600"/>
                </a:lnTo>
                <a:close/>
              </a:path>
              <a:path fill="lightenLess" w="26778" h="21600">
                <a:moveTo>
                  <a:pt x="0" y="0"/>
                </a:moveTo>
                <a:lnTo>
                  <a:pt x="26778" y="0"/>
                </a:lnTo>
                <a:lnTo>
                  <a:pt x="25378" y="1400"/>
                </a:lnTo>
                <a:lnTo>
                  <a:pt x="1400" y="1400"/>
                </a:lnTo>
                <a:close/>
              </a:path>
              <a:path fill="darken" w="26778" h="21600">
                <a:moveTo>
                  <a:pt x="26778" y="0"/>
                </a:moveTo>
                <a:lnTo>
                  <a:pt x="26778" y="21600"/>
                </a:lnTo>
                <a:lnTo>
                  <a:pt x="25378" y="20200"/>
                </a:lnTo>
                <a:lnTo>
                  <a:pt x="25378" y="1400"/>
                </a:lnTo>
                <a:close/>
              </a:path>
              <a:path fill="darkenLess" w="26778" h="21600">
                <a:moveTo>
                  <a:pt x="267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78" y="20200"/>
                </a:lnTo>
                <a:close/>
              </a:path>
              <a:path fill="lighten" w="267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0" name="AutoShape 40"/>
          <p:cNvSpPr/>
          <p:nvPr/>
        </p:nvSpPr>
        <p:spPr>
          <a:xfrm>
            <a:off x="3348000" y="3213000"/>
            <a:ext cx="4248360" cy="2737080"/>
          </a:xfrm>
          <a:prstGeom prst="cloudCallout">
            <a:avLst>
              <a:gd name="adj1" fmla="val -93981"/>
              <a:gd name="adj2" fmla="val -78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ь, богатая углекислым г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1">
            <a:hlinkClick r:id="rId1" action="ppaction://hlinksldjump"/>
          </p:cNvPr>
          <p:cNvSpPr/>
          <p:nvPr/>
        </p:nvSpPr>
        <p:spPr>
          <a:xfrm>
            <a:off x="4140360" y="4149720"/>
            <a:ext cx="2160360" cy="3328920"/>
          </a:xfrm>
          <a:custGeom>
            <a:avLst/>
            <a:gdLst>
              <a:gd name="textAreaLeft" fmla="*/ 140040 w 2160360"/>
              <a:gd name="textAreaRight" fmla="*/ 2020320 w 2160360"/>
              <a:gd name="textAreaTop" fmla="*/ 140040 h 3328920"/>
              <a:gd name="textAreaBottom" fmla="*/ 3188880 h 3328920"/>
            </a:gdLst>
            <a:ahLst/>
            <a:rect l="textAreaLeft" t="textAreaTop" r="textAreaRight" b="textAreaBottom"/>
            <a:pathLst>
              <a:path w="21600" h="33282">
                <a:moveTo>
                  <a:pt x="0" y="0"/>
                </a:moveTo>
                <a:lnTo>
                  <a:pt x="21600" y="0"/>
                </a:lnTo>
                <a:lnTo>
                  <a:pt x="21600" y="33282"/>
                </a:lnTo>
                <a:lnTo>
                  <a:pt x="0" y="33282"/>
                </a:lnTo>
                <a:close/>
              </a:path>
              <a:path fill="lightenLess" w="21600" h="332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282">
                <a:moveTo>
                  <a:pt x="21600" y="0"/>
                </a:moveTo>
                <a:lnTo>
                  <a:pt x="21600" y="33282"/>
                </a:lnTo>
                <a:lnTo>
                  <a:pt x="20200" y="31882"/>
                </a:lnTo>
                <a:lnTo>
                  <a:pt x="20200" y="1400"/>
                </a:lnTo>
                <a:close/>
              </a:path>
              <a:path fill="darkenLess" w="21600" h="33282">
                <a:moveTo>
                  <a:pt x="21600" y="33282"/>
                </a:moveTo>
                <a:lnTo>
                  <a:pt x="0" y="33282"/>
                </a:lnTo>
                <a:lnTo>
                  <a:pt x="1400" y="31882"/>
                </a:lnTo>
                <a:lnTo>
                  <a:pt x="20200" y="31882"/>
                </a:lnTo>
                <a:close/>
              </a:path>
              <a:path fill="lighten" w="21600" h="33282">
                <a:moveTo>
                  <a:pt x="0" y="332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188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5"/>
          <p:cNvSpPr/>
          <p:nvPr/>
        </p:nvSpPr>
        <p:spPr>
          <a:xfrm flipV="1">
            <a:off x="3924360" y="17269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41">
            <a:hlinkClick r:id="rId2" action="ppaction://hlinksldjump"/>
          </p:cNvPr>
          <p:cNvSpPr/>
          <p:nvPr/>
        </p:nvSpPr>
        <p:spPr>
          <a:xfrm>
            <a:off x="214200" y="285840"/>
            <a:ext cx="8786880" cy="6357960"/>
          </a:xfrm>
          <a:custGeom>
            <a:avLst/>
            <a:gdLst>
              <a:gd name="textAreaLeft" fmla="*/ 411840 w 8786880"/>
              <a:gd name="textAreaRight" fmla="*/ 8375040 w 8786880"/>
              <a:gd name="textAreaTop" fmla="*/ 411840 h 6357960"/>
              <a:gd name="textAreaBottom" fmla="*/ 5946120 h 6357960"/>
            </a:gdLst>
            <a:ahLst/>
            <a:rect l="textAreaLeft" t="textAreaTop" r="textAreaRight" b="textAreaBottom"/>
            <a:pathLst>
              <a:path w="29851" h="21600">
                <a:moveTo>
                  <a:pt x="0" y="0"/>
                </a:moveTo>
                <a:lnTo>
                  <a:pt x="29851" y="0"/>
                </a:lnTo>
                <a:lnTo>
                  <a:pt x="29851" y="21600"/>
                </a:lnTo>
                <a:lnTo>
                  <a:pt x="0" y="21600"/>
                </a:lnTo>
                <a:close/>
              </a:path>
              <a:path fill="lightenLess" w="29851" h="21600">
                <a:moveTo>
                  <a:pt x="0" y="0"/>
                </a:moveTo>
                <a:lnTo>
                  <a:pt x="29851" y="0"/>
                </a:lnTo>
                <a:lnTo>
                  <a:pt x="28451" y="1400"/>
                </a:lnTo>
                <a:lnTo>
                  <a:pt x="1400" y="1400"/>
                </a:lnTo>
                <a:close/>
              </a:path>
              <a:path fill="darken" w="29851" h="21600">
                <a:moveTo>
                  <a:pt x="29851" y="0"/>
                </a:moveTo>
                <a:lnTo>
                  <a:pt x="29851" y="21600"/>
                </a:lnTo>
                <a:lnTo>
                  <a:pt x="28451" y="20200"/>
                </a:lnTo>
                <a:lnTo>
                  <a:pt x="28451" y="1400"/>
                </a:lnTo>
                <a:close/>
              </a:path>
              <a:path fill="darkenLess" w="29851" h="21600">
                <a:moveTo>
                  <a:pt x="29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51" y="20200"/>
                </a:lnTo>
                <a:close/>
              </a:path>
              <a:path fill="lighten" w="29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324000" y="189000"/>
          <a:ext cx="8640720" cy="65246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5480"/>
                <a:gridCol w="1729080"/>
                <a:gridCol w="1728720"/>
              </a:tblGrid>
              <a:tr h="13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3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5" name="AutoShape 40"/>
          <p:cNvSpPr/>
          <p:nvPr/>
        </p:nvSpPr>
        <p:spPr>
          <a:xfrm>
            <a:off x="4643280" y="3429000"/>
            <a:ext cx="4248360" cy="2736720"/>
          </a:xfrm>
          <a:prstGeom prst="cloudCallout">
            <a:avLst>
              <a:gd name="adj1" fmla="val -76333"/>
              <a:gd name="adj2" fmla="val -80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ть крови от левого желудочка до правого предсер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41">
            <a:hlinkClick r:id="rId1" action="ppaction://hlinksldjump"/>
          </p:cNvPr>
          <p:cNvSpPr/>
          <p:nvPr/>
        </p:nvSpPr>
        <p:spPr>
          <a:xfrm>
            <a:off x="285840" y="214200"/>
            <a:ext cx="8715240" cy="8777520"/>
          </a:xfrm>
          <a:custGeom>
            <a:avLst/>
            <a:gdLst>
              <a:gd name="textAreaLeft" fmla="*/ 564840 w 8715240"/>
              <a:gd name="textAreaRight" fmla="*/ 8150400 w 8715240"/>
              <a:gd name="textAreaTop" fmla="*/ 564840 h 8777520"/>
              <a:gd name="textAreaBottom" fmla="*/ 8212680 h 8777520"/>
            </a:gdLst>
            <a:ahLst/>
            <a:rect l="textAreaLeft" t="textAreaTop" r="textAreaRight" b="textAreaBottom"/>
            <a:pathLst>
              <a:path w="21600" h="21754">
                <a:moveTo>
                  <a:pt x="0" y="0"/>
                </a:moveTo>
                <a:lnTo>
                  <a:pt x="21600" y="0"/>
                </a:lnTo>
                <a:lnTo>
                  <a:pt x="21600" y="21754"/>
                </a:lnTo>
                <a:lnTo>
                  <a:pt x="0" y="21754"/>
                </a:lnTo>
                <a:close/>
              </a:path>
              <a:path fill="lightenLess" w="21600" h="217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54">
                <a:moveTo>
                  <a:pt x="21600" y="0"/>
                </a:moveTo>
                <a:lnTo>
                  <a:pt x="21600" y="21754"/>
                </a:lnTo>
                <a:lnTo>
                  <a:pt x="20200" y="20354"/>
                </a:lnTo>
                <a:lnTo>
                  <a:pt x="20200" y="1400"/>
                </a:lnTo>
                <a:close/>
              </a:path>
              <a:path fill="darkenLess" w="21600" h="21754">
                <a:moveTo>
                  <a:pt x="21600" y="21754"/>
                </a:moveTo>
                <a:lnTo>
                  <a:pt x="0" y="21754"/>
                </a:lnTo>
                <a:lnTo>
                  <a:pt x="1400" y="20354"/>
                </a:lnTo>
                <a:lnTo>
                  <a:pt x="20200" y="20354"/>
                </a:lnTo>
                <a:close/>
              </a:path>
              <a:path fill="lighten" w="21600" h="21754">
                <a:moveTo>
                  <a:pt x="0" y="217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498" name="AutoShape 40"/>
          <p:cNvSpPr/>
          <p:nvPr/>
        </p:nvSpPr>
        <p:spPr>
          <a:xfrm>
            <a:off x="500040" y="2714760"/>
            <a:ext cx="4248000" cy="3786120"/>
          </a:xfrm>
          <a:prstGeom prst="cloudCallout">
            <a:avLst>
              <a:gd name="adj1" fmla="val 61763"/>
              <a:gd name="adj2" fmla="val -52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заболевание, возникающее при продолжительной нехватке витамина в пит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41">
            <a:hlinkClick r:id="rId1" action="ppaction://hlinksldjump"/>
          </p:cNvPr>
          <p:cNvSpPr/>
          <p:nvPr/>
        </p:nvSpPr>
        <p:spPr>
          <a:xfrm>
            <a:off x="214200" y="142920"/>
            <a:ext cx="8786880" cy="6500880"/>
          </a:xfrm>
          <a:custGeom>
            <a:avLst/>
            <a:gdLst>
              <a:gd name="textAreaLeft" fmla="*/ 421200 w 8786880"/>
              <a:gd name="textAreaRight" fmla="*/ 8365680 w 8786880"/>
              <a:gd name="textAreaTop" fmla="*/ 421200 h 6500880"/>
              <a:gd name="textAreaBottom" fmla="*/ 6079680 h 6500880"/>
            </a:gdLst>
            <a:ahLst/>
            <a:rect l="textAreaLeft" t="textAreaTop" r="textAreaRight" b="textAreaBottom"/>
            <a:pathLst>
              <a:path w="29195" h="21600">
                <a:moveTo>
                  <a:pt x="0" y="0"/>
                </a:moveTo>
                <a:lnTo>
                  <a:pt x="29195" y="0"/>
                </a:lnTo>
                <a:lnTo>
                  <a:pt x="29195" y="21600"/>
                </a:lnTo>
                <a:lnTo>
                  <a:pt x="0" y="21600"/>
                </a:lnTo>
                <a:close/>
              </a:path>
              <a:path fill="lightenLess" w="29195" h="21600">
                <a:moveTo>
                  <a:pt x="0" y="0"/>
                </a:moveTo>
                <a:lnTo>
                  <a:pt x="29195" y="0"/>
                </a:lnTo>
                <a:lnTo>
                  <a:pt x="27795" y="1400"/>
                </a:lnTo>
                <a:lnTo>
                  <a:pt x="1400" y="1400"/>
                </a:lnTo>
                <a:close/>
              </a:path>
              <a:path fill="darken" w="29195" h="21600">
                <a:moveTo>
                  <a:pt x="29195" y="0"/>
                </a:moveTo>
                <a:lnTo>
                  <a:pt x="29195" y="21600"/>
                </a:lnTo>
                <a:lnTo>
                  <a:pt x="27795" y="20200"/>
                </a:lnTo>
                <a:lnTo>
                  <a:pt x="27795" y="1400"/>
                </a:lnTo>
                <a:close/>
              </a:path>
              <a:path fill="darkenLess" w="29195" h="21600">
                <a:moveTo>
                  <a:pt x="29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95" y="20200"/>
                </a:lnTo>
                <a:close/>
              </a:path>
              <a:path fill="lighten" w="29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1" name="AutoShape 40"/>
          <p:cNvSpPr/>
          <p:nvPr/>
        </p:nvSpPr>
        <p:spPr>
          <a:xfrm>
            <a:off x="214200" y="3500280"/>
            <a:ext cx="4714920" cy="3214800"/>
          </a:xfrm>
          <a:prstGeom prst="cloudCallout">
            <a:avLst>
              <a:gd name="adj1" fmla="val 66087"/>
              <a:gd name="adj2" fmla="val -78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витамин вырабатывается в организме человека под воздействием солнечных луч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1"/>
          <p:cNvSpPr/>
          <p:nvPr/>
        </p:nvSpPr>
        <p:spPr>
          <a:xfrm>
            <a:off x="214200" y="214200"/>
            <a:ext cx="8786880" cy="6429600"/>
          </a:xfrm>
          <a:custGeom>
            <a:avLst/>
            <a:gdLst>
              <a:gd name="textAreaLeft" fmla="*/ 416520 w 8786880"/>
              <a:gd name="textAreaRight" fmla="*/ 8370360 w 878688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519" h="21600">
                <a:moveTo>
                  <a:pt x="0" y="0"/>
                </a:moveTo>
                <a:lnTo>
                  <a:pt x="29519" y="0"/>
                </a:lnTo>
                <a:lnTo>
                  <a:pt x="29519" y="21600"/>
                </a:lnTo>
                <a:lnTo>
                  <a:pt x="0" y="21600"/>
                </a:lnTo>
                <a:close/>
              </a:path>
              <a:path fill="lightenLess" w="29519" h="21600">
                <a:moveTo>
                  <a:pt x="0" y="0"/>
                </a:moveTo>
                <a:lnTo>
                  <a:pt x="29519" y="0"/>
                </a:lnTo>
                <a:lnTo>
                  <a:pt x="28119" y="1400"/>
                </a:lnTo>
                <a:lnTo>
                  <a:pt x="1400" y="1400"/>
                </a:lnTo>
                <a:close/>
              </a:path>
              <a:path fill="darken" w="29519" h="21600">
                <a:moveTo>
                  <a:pt x="29519" y="0"/>
                </a:moveTo>
                <a:lnTo>
                  <a:pt x="29519" y="21600"/>
                </a:lnTo>
                <a:lnTo>
                  <a:pt x="28119" y="20200"/>
                </a:lnTo>
                <a:lnTo>
                  <a:pt x="28119" y="1400"/>
                </a:lnTo>
                <a:close/>
              </a:path>
              <a:path fill="darkenLess" w="29519" h="21600">
                <a:moveTo>
                  <a:pt x="29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9" y="20200"/>
                </a:lnTo>
                <a:close/>
              </a:path>
              <a:path fill="lighten" w="29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4" name="AutoShape 40"/>
          <p:cNvSpPr/>
          <p:nvPr/>
        </p:nvSpPr>
        <p:spPr>
          <a:xfrm>
            <a:off x="285840" y="3071880"/>
            <a:ext cx="6357960" cy="3451320"/>
          </a:xfrm>
          <a:prstGeom prst="cloudCallout">
            <a:avLst>
              <a:gd name="adj1" fmla="val 62569"/>
              <a:gd name="adj2" fmla="val -62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ревних восточных сказках заболевших принцесс часто рекомендовали лечить сырой печенью животных, а какой в этом смыс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1"/>
          <p:cNvSpPr/>
          <p:nvPr/>
        </p:nvSpPr>
        <p:spPr>
          <a:xfrm>
            <a:off x="285840" y="214200"/>
            <a:ext cx="8858160" cy="6467760"/>
          </a:xfrm>
          <a:custGeom>
            <a:avLst/>
            <a:gdLst>
              <a:gd name="textAreaLeft" fmla="*/ 419040 w 8858160"/>
              <a:gd name="textAreaRight" fmla="*/ 8439120 w 8858160"/>
              <a:gd name="textAreaTop" fmla="*/ 419040 h 6467760"/>
              <a:gd name="textAreaBottom" fmla="*/ 6048720 h 6467760"/>
            </a:gdLst>
            <a:ahLst/>
            <a:rect l="textAreaLeft" t="textAreaTop" r="textAreaRight" b="textAreaBottom"/>
            <a:pathLst>
              <a:path w="29583" h="21600">
                <a:moveTo>
                  <a:pt x="0" y="0"/>
                </a:moveTo>
                <a:lnTo>
                  <a:pt x="29583" y="0"/>
                </a:lnTo>
                <a:lnTo>
                  <a:pt x="29583" y="21600"/>
                </a:lnTo>
                <a:lnTo>
                  <a:pt x="0" y="21600"/>
                </a:lnTo>
                <a:close/>
              </a:path>
              <a:path fill="lightenLess" w="29583" h="21600">
                <a:moveTo>
                  <a:pt x="0" y="0"/>
                </a:moveTo>
                <a:lnTo>
                  <a:pt x="29583" y="0"/>
                </a:lnTo>
                <a:lnTo>
                  <a:pt x="28183" y="1400"/>
                </a:lnTo>
                <a:lnTo>
                  <a:pt x="1400" y="1400"/>
                </a:lnTo>
                <a:close/>
              </a:path>
              <a:path fill="darken" w="29583" h="21600">
                <a:moveTo>
                  <a:pt x="29583" y="0"/>
                </a:moveTo>
                <a:lnTo>
                  <a:pt x="29583" y="21600"/>
                </a:lnTo>
                <a:lnTo>
                  <a:pt x="28183" y="20200"/>
                </a:lnTo>
                <a:lnTo>
                  <a:pt x="28183" y="1400"/>
                </a:lnTo>
                <a:close/>
              </a:path>
              <a:path fill="darkenLess" w="29583" h="21600">
                <a:moveTo>
                  <a:pt x="29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83" y="20200"/>
                </a:lnTo>
                <a:close/>
              </a:path>
              <a:path fill="lighten" w="29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07" name="AutoShape 40"/>
          <p:cNvSpPr/>
          <p:nvPr/>
        </p:nvSpPr>
        <p:spPr>
          <a:xfrm>
            <a:off x="4572000" y="3933720"/>
            <a:ext cx="4000680" cy="2281320"/>
          </a:xfrm>
          <a:prstGeom prst="cloudCallout">
            <a:avLst>
              <a:gd name="adj1" fmla="val -119583"/>
              <a:gd name="adj2" fmla="val -51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ется единица 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1"/>
          <p:cNvSpPr/>
          <p:nvPr/>
        </p:nvSpPr>
        <p:spPr>
          <a:xfrm>
            <a:off x="214200" y="214200"/>
            <a:ext cx="8786880" cy="6256440"/>
          </a:xfrm>
          <a:custGeom>
            <a:avLst/>
            <a:gdLst>
              <a:gd name="textAreaLeft" fmla="*/ 405360 w 8786880"/>
              <a:gd name="textAreaRight" fmla="*/ 8381520 w 8786880"/>
              <a:gd name="textAreaTop" fmla="*/ 405360 h 6256440"/>
              <a:gd name="textAreaBottom" fmla="*/ 5851080 h 6256440"/>
            </a:gdLst>
            <a:ahLst/>
            <a:rect l="textAreaLeft" t="textAreaTop" r="textAreaRight" b="textAreaBottom"/>
            <a:pathLst>
              <a:path w="30336" h="21600">
                <a:moveTo>
                  <a:pt x="0" y="0"/>
                </a:moveTo>
                <a:lnTo>
                  <a:pt x="30336" y="0"/>
                </a:lnTo>
                <a:lnTo>
                  <a:pt x="30336" y="21600"/>
                </a:lnTo>
                <a:lnTo>
                  <a:pt x="0" y="21600"/>
                </a:lnTo>
                <a:close/>
              </a:path>
              <a:path fill="lightenLess" w="30336" h="21600">
                <a:moveTo>
                  <a:pt x="0" y="0"/>
                </a:moveTo>
                <a:lnTo>
                  <a:pt x="30336" y="0"/>
                </a:lnTo>
                <a:lnTo>
                  <a:pt x="28936" y="1400"/>
                </a:lnTo>
                <a:lnTo>
                  <a:pt x="1400" y="1400"/>
                </a:lnTo>
                <a:close/>
              </a:path>
              <a:path fill="darken" w="30336" h="21600">
                <a:moveTo>
                  <a:pt x="30336" y="0"/>
                </a:moveTo>
                <a:lnTo>
                  <a:pt x="30336" y="21600"/>
                </a:lnTo>
                <a:lnTo>
                  <a:pt x="28936" y="20200"/>
                </a:lnTo>
                <a:lnTo>
                  <a:pt x="28936" y="1400"/>
                </a:lnTo>
                <a:close/>
              </a:path>
              <a:path fill="darkenLess" w="30336" h="21600">
                <a:moveTo>
                  <a:pt x="30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6" y="20200"/>
                </a:lnTo>
                <a:close/>
              </a:path>
              <a:path fill="lighten" w="30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0" name="AutoShape 40"/>
          <p:cNvSpPr/>
          <p:nvPr/>
        </p:nvSpPr>
        <p:spPr>
          <a:xfrm>
            <a:off x="4643280" y="3933720"/>
            <a:ext cx="4248360" cy="2737080"/>
          </a:xfrm>
          <a:prstGeom prst="cloudCallout">
            <a:avLst>
              <a:gd name="adj1" fmla="val -76231"/>
              <a:gd name="adj2" fmla="val -60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называются роговые образования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1"/>
          <p:cNvSpPr/>
          <p:nvPr/>
        </p:nvSpPr>
        <p:spPr>
          <a:xfrm>
            <a:off x="214200" y="214200"/>
            <a:ext cx="8715600" cy="6429600"/>
          </a:xfrm>
          <a:custGeom>
            <a:avLst/>
            <a:gdLst>
              <a:gd name="textAreaLeft" fmla="*/ 416520 w 8715600"/>
              <a:gd name="textAreaRight" fmla="*/ 8299080 w 871560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179280" y="378000"/>
          <a:ext cx="8785440" cy="6219720"/>
        </p:xfrm>
        <a:graphic>
          <a:graphicData uri="http://schemas.openxmlformats.org/drawingml/2006/table">
            <a:tbl>
              <a:tblPr/>
              <a:tblGrid>
                <a:gridCol w="1793880"/>
                <a:gridCol w="1793880"/>
                <a:gridCol w="1792440"/>
                <a:gridCol w="1793880"/>
                <a:gridCol w="1611360"/>
              </a:tblGrid>
              <a:tr h="12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4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3" name="AutoShape 40"/>
          <p:cNvSpPr/>
          <p:nvPr/>
        </p:nvSpPr>
        <p:spPr>
          <a:xfrm>
            <a:off x="179280" y="3789360"/>
            <a:ext cx="4248360" cy="1800360"/>
          </a:xfrm>
          <a:prstGeom prst="cloudCallout">
            <a:avLst>
              <a:gd name="adj1" fmla="val 82810"/>
              <a:gd name="adj2" fmla="val -555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камер в сердце у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1"/>
          <p:cNvSpPr/>
          <p:nvPr/>
        </p:nvSpPr>
        <p:spPr>
          <a:xfrm>
            <a:off x="142920" y="189000"/>
            <a:ext cx="8748720" cy="6858000"/>
          </a:xfrm>
          <a:custGeom>
            <a:avLst/>
            <a:gdLst>
              <a:gd name="textAreaLeft" fmla="*/ 444240 w 8748720"/>
              <a:gd name="textAreaRight" fmla="*/ 8304480 w 8748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555" h="21600">
                <a:moveTo>
                  <a:pt x="0" y="0"/>
                </a:moveTo>
                <a:lnTo>
                  <a:pt x="27555" y="0"/>
                </a:lnTo>
                <a:lnTo>
                  <a:pt x="27555" y="21600"/>
                </a:lnTo>
                <a:lnTo>
                  <a:pt x="0" y="21600"/>
                </a:lnTo>
                <a:close/>
              </a:path>
              <a:path fill="lightenLess" w="27555" h="21600">
                <a:moveTo>
                  <a:pt x="0" y="0"/>
                </a:moveTo>
                <a:lnTo>
                  <a:pt x="27555" y="0"/>
                </a:lnTo>
                <a:lnTo>
                  <a:pt x="26155" y="1400"/>
                </a:lnTo>
                <a:lnTo>
                  <a:pt x="1400" y="1400"/>
                </a:lnTo>
                <a:close/>
              </a:path>
              <a:path fill="darken" w="27555" h="21600">
                <a:moveTo>
                  <a:pt x="27555" y="0"/>
                </a:moveTo>
                <a:lnTo>
                  <a:pt x="27555" y="21600"/>
                </a:lnTo>
                <a:lnTo>
                  <a:pt x="26155" y="20200"/>
                </a:lnTo>
                <a:lnTo>
                  <a:pt x="26155" y="1400"/>
                </a:lnTo>
                <a:close/>
              </a:path>
              <a:path fill="darkenLess" w="27555" h="21600">
                <a:moveTo>
                  <a:pt x="27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55" y="20200"/>
                </a:lnTo>
                <a:close/>
              </a:path>
              <a:path fill="lighten" w="27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"/>
          <p:cNvSpPr/>
          <p:nvPr/>
        </p:nvSpPr>
        <p:spPr>
          <a:xfrm>
            <a:off x="1928880" y="526320"/>
            <a:ext cx="492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лагаю вам, ребятки, интересные загадки.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ответ к загадке знает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ыстро руку поднимает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с анатомией знаком, тому загадки нипочем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то загадку отгадает, сразу баллы получает.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все баллы соберешь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риз с собою забер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16" name="AutoShape 40"/>
          <p:cNvSpPr/>
          <p:nvPr/>
        </p:nvSpPr>
        <p:spPr>
          <a:xfrm>
            <a:off x="1428840" y="2357280"/>
            <a:ext cx="4248000" cy="2643480"/>
          </a:xfrm>
          <a:prstGeom prst="cloudCallout">
            <a:avLst>
              <a:gd name="adj1" fmla="val 90685"/>
              <a:gd name="adj2" fmla="val 7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беспечивается связь мышц и скел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1"/>
          <p:cNvSpPr/>
          <p:nvPr/>
        </p:nvSpPr>
        <p:spPr>
          <a:xfrm>
            <a:off x="6877080" y="31417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1"/>
          <p:cNvSpPr/>
          <p:nvPr/>
        </p:nvSpPr>
        <p:spPr>
          <a:xfrm>
            <a:off x="214200" y="214200"/>
            <a:ext cx="8786880" cy="6404040"/>
          </a:xfrm>
          <a:custGeom>
            <a:avLst/>
            <a:gdLst>
              <a:gd name="textAreaLeft" fmla="*/ 415080 w 8786880"/>
              <a:gd name="textAreaRight" fmla="*/ 8371800 w 8786880"/>
              <a:gd name="textAreaTop" fmla="*/ 415080 h 6404040"/>
              <a:gd name="textAreaBottom" fmla="*/ 5988960 h 6404040"/>
            </a:gdLst>
            <a:ahLst/>
            <a:rect l="textAreaLeft" t="textAreaTop" r="textAreaRight" b="textAreaBottom"/>
            <a:pathLst>
              <a:path w="29637" h="21600">
                <a:moveTo>
                  <a:pt x="0" y="0"/>
                </a:moveTo>
                <a:lnTo>
                  <a:pt x="29637" y="0"/>
                </a:lnTo>
                <a:lnTo>
                  <a:pt x="29637" y="21600"/>
                </a:lnTo>
                <a:lnTo>
                  <a:pt x="0" y="21600"/>
                </a:lnTo>
                <a:close/>
              </a:path>
              <a:path fill="lightenLess" w="29637" h="21600">
                <a:moveTo>
                  <a:pt x="0" y="0"/>
                </a:moveTo>
                <a:lnTo>
                  <a:pt x="29637" y="0"/>
                </a:lnTo>
                <a:lnTo>
                  <a:pt x="28237" y="1400"/>
                </a:lnTo>
                <a:lnTo>
                  <a:pt x="1400" y="1400"/>
                </a:lnTo>
                <a:close/>
              </a:path>
              <a:path fill="darken" w="29637" h="21600">
                <a:moveTo>
                  <a:pt x="29637" y="0"/>
                </a:moveTo>
                <a:lnTo>
                  <a:pt x="29637" y="21600"/>
                </a:lnTo>
                <a:lnTo>
                  <a:pt x="28237" y="20200"/>
                </a:lnTo>
                <a:lnTo>
                  <a:pt x="28237" y="1400"/>
                </a:lnTo>
                <a:close/>
              </a:path>
              <a:path fill="darkenLess" w="29637" h="21600">
                <a:moveTo>
                  <a:pt x="29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37" y="20200"/>
                </a:lnTo>
                <a:close/>
              </a:path>
              <a:path fill="lighten" w="29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0" name="AutoShape 40"/>
          <p:cNvSpPr/>
          <p:nvPr/>
        </p:nvSpPr>
        <p:spPr>
          <a:xfrm>
            <a:off x="1979640" y="333360"/>
            <a:ext cx="4248000" cy="2738520"/>
          </a:xfrm>
          <a:prstGeom prst="cloudCallout">
            <a:avLst>
              <a:gd name="adj1" fmla="val -54097"/>
              <a:gd name="adj2" fmla="val 95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, определяющий вкусовые качества пи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1"/>
          <p:cNvSpPr/>
          <p:nvPr/>
        </p:nvSpPr>
        <p:spPr>
          <a:xfrm>
            <a:off x="900000" y="422100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1"/>
          <p:cNvSpPr/>
          <p:nvPr/>
        </p:nvSpPr>
        <p:spPr>
          <a:xfrm>
            <a:off x="142920" y="189000"/>
            <a:ext cx="8748720" cy="6858000"/>
          </a:xfrm>
          <a:custGeom>
            <a:avLst/>
            <a:gdLst>
              <a:gd name="textAreaLeft" fmla="*/ 444240 w 8748720"/>
              <a:gd name="textAreaRight" fmla="*/ 8304480 w 874872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555" h="21600">
                <a:moveTo>
                  <a:pt x="0" y="0"/>
                </a:moveTo>
                <a:lnTo>
                  <a:pt x="27555" y="0"/>
                </a:lnTo>
                <a:lnTo>
                  <a:pt x="27555" y="21600"/>
                </a:lnTo>
                <a:lnTo>
                  <a:pt x="0" y="21600"/>
                </a:lnTo>
                <a:close/>
              </a:path>
              <a:path fill="lightenLess" w="27555" h="21600">
                <a:moveTo>
                  <a:pt x="0" y="0"/>
                </a:moveTo>
                <a:lnTo>
                  <a:pt x="27555" y="0"/>
                </a:lnTo>
                <a:lnTo>
                  <a:pt x="26155" y="1400"/>
                </a:lnTo>
                <a:lnTo>
                  <a:pt x="1400" y="1400"/>
                </a:lnTo>
                <a:close/>
              </a:path>
              <a:path fill="darken" w="27555" h="21600">
                <a:moveTo>
                  <a:pt x="27555" y="0"/>
                </a:moveTo>
                <a:lnTo>
                  <a:pt x="27555" y="21600"/>
                </a:lnTo>
                <a:lnTo>
                  <a:pt x="26155" y="20200"/>
                </a:lnTo>
                <a:lnTo>
                  <a:pt x="26155" y="1400"/>
                </a:lnTo>
                <a:close/>
              </a:path>
              <a:path fill="darkenLess" w="27555" h="21600">
                <a:moveTo>
                  <a:pt x="27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55" y="20200"/>
                </a:lnTo>
                <a:close/>
              </a:path>
              <a:path fill="lighten" w="27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4" name="AutoShape 40"/>
          <p:cNvSpPr/>
          <p:nvPr/>
        </p:nvSpPr>
        <p:spPr>
          <a:xfrm>
            <a:off x="3929040" y="714240"/>
            <a:ext cx="4248000" cy="2928960"/>
          </a:xfrm>
          <a:prstGeom prst="cloudCallout">
            <a:avLst>
              <a:gd name="adj1" fmla="val -60796"/>
              <a:gd name="adj2" fmla="val 73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 в котором пища начинает перевар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41"/>
          <p:cNvSpPr/>
          <p:nvPr/>
        </p:nvSpPr>
        <p:spPr>
          <a:xfrm>
            <a:off x="214200" y="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27" name="AutoShape 40"/>
          <p:cNvSpPr/>
          <p:nvPr/>
        </p:nvSpPr>
        <p:spPr>
          <a:xfrm>
            <a:off x="468360" y="714240"/>
            <a:ext cx="3460680" cy="2427480"/>
          </a:xfrm>
          <a:prstGeom prst="cloudCallout">
            <a:avLst>
              <a:gd name="adj1" fmla="val 51699"/>
              <a:gd name="adj2" fmla="val 98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какому царству живой природы относится челове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1"/>
          <p:cNvSpPr/>
          <p:nvPr/>
        </p:nvSpPr>
        <p:spPr>
          <a:xfrm>
            <a:off x="214200" y="14292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0" name="AutoShape 40"/>
          <p:cNvSpPr/>
          <p:nvPr/>
        </p:nvSpPr>
        <p:spPr>
          <a:xfrm>
            <a:off x="395280" y="333360"/>
            <a:ext cx="4248000" cy="3095640"/>
          </a:xfrm>
          <a:prstGeom prst="cloudCallout">
            <a:avLst>
              <a:gd name="adj1" fmla="val 75615"/>
              <a:gd name="adj2" fmla="val 81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три самые маленькие косточки нашего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41"/>
          <p:cNvSpPr/>
          <p:nvPr/>
        </p:nvSpPr>
        <p:spPr>
          <a:xfrm>
            <a:off x="142920" y="285840"/>
            <a:ext cx="9144000" cy="6429240"/>
          </a:xfrm>
          <a:custGeom>
            <a:avLst/>
            <a:gdLst>
              <a:gd name="textAreaLeft" fmla="*/ 416520 w 9144000"/>
              <a:gd name="textAreaRight" fmla="*/ 8727480 w 9144000"/>
              <a:gd name="textAreaTop" fmla="*/ 416520 h 6429240"/>
              <a:gd name="textAreaBottom" fmla="*/ 6012720 h 6429240"/>
            </a:gdLst>
            <a:ahLst/>
            <a:rect l="textAreaLeft" t="textAreaTop" r="textAreaRight" b="textAreaBottom"/>
            <a:pathLst>
              <a:path w="30720" h="21600">
                <a:moveTo>
                  <a:pt x="0" y="0"/>
                </a:moveTo>
                <a:lnTo>
                  <a:pt x="30720" y="0"/>
                </a:lnTo>
                <a:lnTo>
                  <a:pt x="30720" y="21600"/>
                </a:lnTo>
                <a:lnTo>
                  <a:pt x="0" y="21600"/>
                </a:lnTo>
                <a:close/>
              </a:path>
              <a:path fill="lightenLess" w="30720" h="21600">
                <a:moveTo>
                  <a:pt x="0" y="0"/>
                </a:moveTo>
                <a:lnTo>
                  <a:pt x="30720" y="0"/>
                </a:lnTo>
                <a:lnTo>
                  <a:pt x="29320" y="1400"/>
                </a:lnTo>
                <a:lnTo>
                  <a:pt x="1400" y="1400"/>
                </a:lnTo>
                <a:close/>
              </a:path>
              <a:path fill="darken" w="30720" h="21600">
                <a:moveTo>
                  <a:pt x="30720" y="0"/>
                </a:moveTo>
                <a:lnTo>
                  <a:pt x="30720" y="21600"/>
                </a:lnTo>
                <a:lnTo>
                  <a:pt x="29320" y="20200"/>
                </a:lnTo>
                <a:lnTo>
                  <a:pt x="29320" y="1400"/>
                </a:lnTo>
                <a:close/>
              </a:path>
              <a:path fill="darkenLess" w="30720" h="21600">
                <a:moveTo>
                  <a:pt x="307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20" y="20200"/>
                </a:lnTo>
                <a:close/>
              </a:path>
              <a:path fill="lighten" w="307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3" name="AutoShape 40"/>
          <p:cNvSpPr/>
          <p:nvPr/>
        </p:nvSpPr>
        <p:spPr>
          <a:xfrm>
            <a:off x="0" y="404640"/>
            <a:ext cx="4248000" cy="2667240"/>
          </a:xfrm>
          <a:prstGeom prst="cloudCallout">
            <a:avLst>
              <a:gd name="adj1" fmla="val 126574"/>
              <a:gd name="adj2" fmla="val 99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ой свет воспринимают рецепторы глаза – палочки и колб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1"/>
          <p:cNvSpPr/>
          <p:nvPr/>
        </p:nvSpPr>
        <p:spPr>
          <a:xfrm>
            <a:off x="4140360" y="386064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1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37" name="AutoShape 40"/>
          <p:cNvSpPr/>
          <p:nvPr/>
        </p:nvSpPr>
        <p:spPr>
          <a:xfrm>
            <a:off x="2916360" y="476280"/>
            <a:ext cx="4248000" cy="2305080"/>
          </a:xfrm>
          <a:prstGeom prst="cloudCallout">
            <a:avLst>
              <a:gd name="adj1" fmla="val -77254"/>
              <a:gd name="adj2" fmla="val 17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то относится к центральной нервной систем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1"/>
          <p:cNvSpPr/>
          <p:nvPr/>
        </p:nvSpPr>
        <p:spPr>
          <a:xfrm>
            <a:off x="142920" y="214200"/>
            <a:ext cx="8858160" cy="6858000"/>
          </a:xfrm>
          <a:custGeom>
            <a:avLst/>
            <a:gdLst>
              <a:gd name="textAreaLeft" fmla="*/ 444240 w 8858160"/>
              <a:gd name="textAreaRight" fmla="*/ 8413920 w 885816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899" h="21600">
                <a:moveTo>
                  <a:pt x="0" y="0"/>
                </a:moveTo>
                <a:lnTo>
                  <a:pt x="27899" y="0"/>
                </a:lnTo>
                <a:lnTo>
                  <a:pt x="27899" y="21600"/>
                </a:lnTo>
                <a:lnTo>
                  <a:pt x="0" y="21600"/>
                </a:lnTo>
                <a:close/>
              </a:path>
              <a:path fill="lightenLess" w="27899" h="21600">
                <a:moveTo>
                  <a:pt x="0" y="0"/>
                </a:moveTo>
                <a:lnTo>
                  <a:pt x="27899" y="0"/>
                </a:lnTo>
                <a:lnTo>
                  <a:pt x="26499" y="1400"/>
                </a:lnTo>
                <a:lnTo>
                  <a:pt x="1400" y="1400"/>
                </a:lnTo>
                <a:close/>
              </a:path>
              <a:path fill="darken" w="27899" h="21600">
                <a:moveTo>
                  <a:pt x="27899" y="0"/>
                </a:moveTo>
                <a:lnTo>
                  <a:pt x="27899" y="21600"/>
                </a:lnTo>
                <a:lnTo>
                  <a:pt x="26499" y="20200"/>
                </a:lnTo>
                <a:lnTo>
                  <a:pt x="26499" y="1400"/>
                </a:lnTo>
                <a:close/>
              </a:path>
              <a:path fill="darkenLess" w="27899" h="21600">
                <a:moveTo>
                  <a:pt x="27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99" y="20200"/>
                </a:lnTo>
                <a:close/>
              </a:path>
              <a:path fill="lighten" w="27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2021040"/>
                <a:gridCol w="149220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0" name="AutoShape 40"/>
          <p:cNvSpPr/>
          <p:nvPr/>
        </p:nvSpPr>
        <p:spPr>
          <a:xfrm>
            <a:off x="2340000" y="500040"/>
            <a:ext cx="4803840" cy="2214720"/>
          </a:xfrm>
          <a:prstGeom prst="cloudCallout">
            <a:avLst>
              <a:gd name="adj1" fmla="val -26675"/>
              <a:gd name="adj2" fmla="val 177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тносится к периферической нерв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1"/>
          <p:cNvSpPr/>
          <p:nvPr/>
        </p:nvSpPr>
        <p:spPr>
          <a:xfrm>
            <a:off x="214200" y="142920"/>
            <a:ext cx="8929800" cy="6858000"/>
          </a:xfrm>
          <a:custGeom>
            <a:avLst/>
            <a:gdLst>
              <a:gd name="textAreaLeft" fmla="*/ 444240 w 8929800"/>
              <a:gd name="textAreaRight" fmla="*/ 8485560 w 89298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125" h="21600">
                <a:moveTo>
                  <a:pt x="0" y="0"/>
                </a:moveTo>
                <a:lnTo>
                  <a:pt x="28125" y="0"/>
                </a:lnTo>
                <a:lnTo>
                  <a:pt x="28125" y="21600"/>
                </a:lnTo>
                <a:lnTo>
                  <a:pt x="0" y="21600"/>
                </a:lnTo>
                <a:close/>
              </a:path>
              <a:path fill="lightenLess" w="28125" h="21600">
                <a:moveTo>
                  <a:pt x="0" y="0"/>
                </a:moveTo>
                <a:lnTo>
                  <a:pt x="28125" y="0"/>
                </a:lnTo>
                <a:lnTo>
                  <a:pt x="26725" y="1400"/>
                </a:lnTo>
                <a:lnTo>
                  <a:pt x="1400" y="1400"/>
                </a:lnTo>
                <a:close/>
              </a:path>
              <a:path fill="darken" w="28125" h="21600">
                <a:moveTo>
                  <a:pt x="28125" y="0"/>
                </a:moveTo>
                <a:lnTo>
                  <a:pt x="28125" y="21600"/>
                </a:lnTo>
                <a:lnTo>
                  <a:pt x="26725" y="20200"/>
                </a:lnTo>
                <a:lnTo>
                  <a:pt x="26725" y="1400"/>
                </a:lnTo>
                <a:close/>
              </a:path>
              <a:path fill="darkenLess" w="28125" h="21600">
                <a:moveTo>
                  <a:pt x="28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5" y="20200"/>
                </a:lnTo>
                <a:close/>
              </a:path>
              <a:path fill="lighten" w="28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3" name="AutoShape 40"/>
          <p:cNvSpPr/>
          <p:nvPr/>
        </p:nvSpPr>
        <p:spPr>
          <a:xfrm>
            <a:off x="2987640" y="549360"/>
            <a:ext cx="4248360" cy="1511280"/>
          </a:xfrm>
          <a:prstGeom prst="cloudCallout">
            <a:avLst>
              <a:gd name="adj1" fmla="val -7995"/>
              <a:gd name="adj2" fmla="val 285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называется орган равновеси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41"/>
          <p:cNvSpPr/>
          <p:nvPr/>
        </p:nvSpPr>
        <p:spPr>
          <a:xfrm>
            <a:off x="214200" y="28584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6" name="AutoShape 40"/>
          <p:cNvSpPr/>
          <p:nvPr/>
        </p:nvSpPr>
        <p:spPr>
          <a:xfrm>
            <a:off x="2916360" y="404640"/>
            <a:ext cx="5111640" cy="2737080"/>
          </a:xfrm>
          <a:prstGeom prst="cloudCallout">
            <a:avLst>
              <a:gd name="adj1" fmla="val 29805"/>
              <a:gd name="adj2" fmla="val 142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самую подвижную кость лицевого отдела скелета голо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1"/>
          <p:cNvSpPr/>
          <p:nvPr/>
        </p:nvSpPr>
        <p:spPr>
          <a:xfrm>
            <a:off x="214200" y="214200"/>
            <a:ext cx="8786880" cy="6429600"/>
          </a:xfrm>
          <a:custGeom>
            <a:avLst/>
            <a:gdLst>
              <a:gd name="textAreaLeft" fmla="*/ 416520 w 8786880"/>
              <a:gd name="textAreaRight" fmla="*/ 8370360 w 8786880"/>
              <a:gd name="textAreaTop" fmla="*/ 416520 h 6429600"/>
              <a:gd name="textAreaBottom" fmla="*/ 6013080 h 6429600"/>
            </a:gdLst>
            <a:ahLst/>
            <a:rect l="textAreaLeft" t="textAreaTop" r="textAreaRight" b="textAreaBottom"/>
            <a:pathLst>
              <a:path w="29519" h="21600">
                <a:moveTo>
                  <a:pt x="0" y="0"/>
                </a:moveTo>
                <a:lnTo>
                  <a:pt x="29519" y="0"/>
                </a:lnTo>
                <a:lnTo>
                  <a:pt x="29519" y="21600"/>
                </a:lnTo>
                <a:lnTo>
                  <a:pt x="0" y="21600"/>
                </a:lnTo>
                <a:close/>
              </a:path>
              <a:path fill="lightenLess" w="29519" h="21600">
                <a:moveTo>
                  <a:pt x="0" y="0"/>
                </a:moveTo>
                <a:lnTo>
                  <a:pt x="29519" y="0"/>
                </a:lnTo>
                <a:lnTo>
                  <a:pt x="28119" y="1400"/>
                </a:lnTo>
                <a:lnTo>
                  <a:pt x="1400" y="1400"/>
                </a:lnTo>
                <a:close/>
              </a:path>
              <a:path fill="darken" w="29519" h="21600">
                <a:moveTo>
                  <a:pt x="29519" y="0"/>
                </a:moveTo>
                <a:lnTo>
                  <a:pt x="29519" y="21600"/>
                </a:lnTo>
                <a:lnTo>
                  <a:pt x="28119" y="20200"/>
                </a:lnTo>
                <a:lnTo>
                  <a:pt x="28119" y="1400"/>
                </a:lnTo>
                <a:close/>
              </a:path>
              <a:path fill="darkenLess" w="29519" h="21600">
                <a:moveTo>
                  <a:pt x="29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19" y="20200"/>
                </a:lnTo>
                <a:close/>
              </a:path>
              <a:path fill="lighten" w="29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928800" y="40680"/>
            <a:ext cx="75009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миг связаться с кислородом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жет только он один.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ет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эритроцитах,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 зовут? 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549" name="AutoShape 40"/>
          <p:cNvSpPr/>
          <p:nvPr/>
        </p:nvSpPr>
        <p:spPr>
          <a:xfrm>
            <a:off x="2916360" y="476280"/>
            <a:ext cx="4248000" cy="2881440"/>
          </a:xfrm>
          <a:prstGeom prst="cloudCallout">
            <a:avLst>
              <a:gd name="adj1" fmla="val 54069"/>
              <a:gd name="adj2" fmla="val 1285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называется клетка, являющаяся единицей строения нервной тка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41"/>
          <p:cNvSpPr/>
          <p:nvPr/>
        </p:nvSpPr>
        <p:spPr>
          <a:xfrm>
            <a:off x="142920" y="-142920"/>
            <a:ext cx="8786880" cy="6858000"/>
          </a:xfrm>
          <a:custGeom>
            <a:avLst/>
            <a:gdLst>
              <a:gd name="textAreaLeft" fmla="*/ 444240 w 8786880"/>
              <a:gd name="textAreaRight" fmla="*/ 8342640 w 87868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7675" h="21600">
                <a:moveTo>
                  <a:pt x="0" y="0"/>
                </a:moveTo>
                <a:lnTo>
                  <a:pt x="27675" y="0"/>
                </a:lnTo>
                <a:lnTo>
                  <a:pt x="27675" y="21600"/>
                </a:lnTo>
                <a:lnTo>
                  <a:pt x="0" y="21600"/>
                </a:lnTo>
                <a:close/>
              </a:path>
              <a:path fill="lightenLess" w="27675" h="21600">
                <a:moveTo>
                  <a:pt x="0" y="0"/>
                </a:moveTo>
                <a:lnTo>
                  <a:pt x="27675" y="0"/>
                </a:lnTo>
                <a:lnTo>
                  <a:pt x="26275" y="1400"/>
                </a:lnTo>
                <a:lnTo>
                  <a:pt x="1400" y="1400"/>
                </a:lnTo>
                <a:close/>
              </a:path>
              <a:path fill="darken" w="27675" h="21600">
                <a:moveTo>
                  <a:pt x="27675" y="0"/>
                </a:moveTo>
                <a:lnTo>
                  <a:pt x="27675" y="21600"/>
                </a:lnTo>
                <a:lnTo>
                  <a:pt x="26275" y="20200"/>
                </a:lnTo>
                <a:lnTo>
                  <a:pt x="26275" y="1400"/>
                </a:lnTo>
                <a:close/>
              </a:path>
              <a:path fill="darkenLess" w="27675" h="21600">
                <a:moveTo>
                  <a:pt x="276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75" y="20200"/>
                </a:lnTo>
                <a:close/>
              </a:path>
              <a:path fill="lighten" w="276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«Учитесь, читайте, размышляйте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и извлекайте из всего</a:t>
            </a: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самое полезное»</a:t>
            </a:r>
            <a:br>
              <a:rPr sz="3200"/>
            </a:b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Н.И. Пирог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53" name="Picture 4" descr="j0301252"/>
          <p:cNvPicPr/>
          <p:nvPr/>
        </p:nvPicPr>
        <p:blipFill>
          <a:blip r:embed="rId1"/>
          <a:stretch/>
        </p:blipFill>
        <p:spPr>
          <a:xfrm>
            <a:off x="324000" y="2781360"/>
            <a:ext cx="36734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99760" y="1856880"/>
            <a:ext cx="59612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Спасибо за игру!</a:t>
            </a:r>
            <a:endParaRPr b="1" lang="en-US" sz="4400" spc="-1" strike="noStrike">
              <a:solidFill>
                <a:srgbClr val="def5f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"/>
          <p:cNvSpPr/>
          <p:nvPr/>
        </p:nvSpPr>
        <p:spPr>
          <a:xfrm>
            <a:off x="857160" y="227880"/>
            <a:ext cx="7500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т орган кровь толка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 главный, каждый знает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 внутри есть клапан-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верца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»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за орган? Это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857160" y="1581840"/>
            <a:ext cx="7429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вкусной пище он привык.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 вкуса 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ш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857160" y="453960"/>
            <a:ext cx="74296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а в организме расщепляется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вещества простые превращается;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щи происходит усвоение,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тому виной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785880" y="1798560"/>
            <a:ext cx="757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го из легких удаляем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дыхаем каждый раз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изму он не нужен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–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13:14:54Z</dcterms:created>
  <dc:creator>Юрий Ширяев</dc:creator>
  <dc:description/>
  <dc:language>en-US</dc:language>
  <cp:lastModifiedBy>Ёля</cp:lastModifiedBy>
  <dcterms:modified xsi:type="dcterms:W3CDTF">2014-05-04T14:47:31Z</dcterms:modified>
  <cp:revision>89</cp:revision>
  <dc:subject/>
  <dc:title>Слайд 1</dc:title>
</cp:coreProperties>
</file>