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48B-EDAC-4819-B667-345E0903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EE3-734F-4D46-AA5B-63AC8F31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196-0D28-4364-AAD0-FBDF30D1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29F-F313-49B5-A689-D9AB9895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97D-C65C-4E03-ACA3-7AAA68B5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480-C70A-4126-B879-565B606E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0B2-AEEB-4B26-AB97-881FF0C5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869-BF8E-4DEC-8C4D-680F837E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EB6-6B24-4FC9-94E6-FA4EAF03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821-176B-499D-A1D0-0724305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5B7-5395-4567-9E87-BFF02BBB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3CB-EE40-48C9-9657-BCABF30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E59C-EB27-49CF-B742-1DEC7130A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3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0_ae170_269a0ecc_L.png"/>
          <p:cNvPicPr/>
          <p:nvPr/>
        </p:nvPicPr>
        <p:blipFill>
          <a:blip r:embed="rId1"/>
          <a:stretch/>
        </p:blipFill>
        <p:spPr>
          <a:xfrm>
            <a:off x="324000" y="1989000"/>
            <a:ext cx="4176720" cy="38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2060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                                        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для учащихся 5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Calibri"/>
              </a:rPr>
              <a:t>Состав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учитель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Муниципального  бюджетного  образовательного 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«Семьинская 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Юрьев-Польского района, 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Георгиевский Сергей Андре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Calibri"/>
              </a:rPr>
              <a:t>2014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-92160" y="79200"/>
            <a:ext cx="93646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 он решать задач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о считать собач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гемота – танцев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слона в футбол игр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учитель для звер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его скор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Дрессировщ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5-конечная звезда 4"/>
          <p:cNvSpPr/>
          <p:nvPr/>
        </p:nvSpPr>
        <p:spPr>
          <a:xfrm>
            <a:off x="7643880" y="5214960"/>
            <a:ext cx="1071360" cy="92880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71562" h="928687">
                <a:moveTo>
                  <a:pt x="1" y="354726"/>
                </a:moveTo>
                <a:lnTo>
                  <a:pt x="409303" y="354728"/>
                </a:lnTo>
                <a:lnTo>
                  <a:pt x="535781" y="0"/>
                </a:lnTo>
                <a:lnTo>
                  <a:pt x="662259" y="354728"/>
                </a:lnTo>
                <a:lnTo>
                  <a:pt x="1071561" y="354726"/>
                </a:lnTo>
                <a:lnTo>
                  <a:pt x="740428" y="573957"/>
                </a:lnTo>
                <a:lnTo>
                  <a:pt x="866912" y="928684"/>
                </a:lnTo>
                <a:lnTo>
                  <a:pt x="535781" y="709449"/>
                </a:lnTo>
                <a:lnTo>
                  <a:pt x="204650" y="928684"/>
                </a:lnTo>
                <a:lnTo>
                  <a:pt x="331134" y="57395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этой волшеб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й худ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кисти и крас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гребень и ножн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арикмахер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5-конечная звезда 3"/>
          <p:cNvSpPr/>
          <p:nvPr/>
        </p:nvSpPr>
        <p:spPr>
          <a:xfrm>
            <a:off x="7643880" y="5214960"/>
            <a:ext cx="1071360" cy="92880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71562" h="928687">
                <a:moveTo>
                  <a:pt x="1" y="354726"/>
                </a:moveTo>
                <a:lnTo>
                  <a:pt x="409303" y="354728"/>
                </a:lnTo>
                <a:lnTo>
                  <a:pt x="535781" y="0"/>
                </a:lnTo>
                <a:lnTo>
                  <a:pt x="662259" y="354728"/>
                </a:lnTo>
                <a:lnTo>
                  <a:pt x="1071561" y="354726"/>
                </a:lnTo>
                <a:lnTo>
                  <a:pt x="740428" y="573957"/>
                </a:lnTo>
                <a:lnTo>
                  <a:pt x="866912" y="928684"/>
                </a:lnTo>
                <a:lnTo>
                  <a:pt x="535781" y="709449"/>
                </a:lnTo>
                <a:lnTo>
                  <a:pt x="204650" y="928684"/>
                </a:lnTo>
                <a:lnTo>
                  <a:pt x="331134" y="57395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работе день-деньс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н командует рук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нимает та р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о пудов под обла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Крановщи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5-конечная звезда 3">
            <a:hlinkClick r:id="rId1" action="ppaction://hlinksldjump"/>
          </p:cNvPr>
          <p:cNvSpPr/>
          <p:nvPr/>
        </p:nvSpPr>
        <p:spPr>
          <a:xfrm>
            <a:off x="7715160" y="5000760"/>
            <a:ext cx="928800" cy="928440"/>
          </a:xfrm>
          <a:custGeom>
            <a:avLst/>
            <a:gdLst>
              <a:gd name="textAreaLeft" fmla="*/ 286920 w 928800"/>
              <a:gd name="textAreaRight" fmla="*/ 641880 w 92880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928688" h="928688">
                <a:moveTo>
                  <a:pt x="1" y="354726"/>
                </a:moveTo>
                <a:lnTo>
                  <a:pt x="354729" y="354729"/>
                </a:lnTo>
                <a:lnTo>
                  <a:pt x="464344" y="0"/>
                </a:lnTo>
                <a:lnTo>
                  <a:pt x="573959" y="354729"/>
                </a:lnTo>
                <a:lnTo>
                  <a:pt x="928687" y="354726"/>
                </a:lnTo>
                <a:lnTo>
                  <a:pt x="641705" y="573958"/>
                </a:lnTo>
                <a:lnTo>
                  <a:pt x="751325" y="928685"/>
                </a:lnTo>
                <a:lnTo>
                  <a:pt x="464344" y="709450"/>
                </a:lnTo>
                <a:lnTo>
                  <a:pt x="177363" y="928685"/>
                </a:lnTo>
                <a:lnTo>
                  <a:pt x="286983" y="573958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леб ржаной, батоны, бу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добудешь на прогул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ди хлеб в полях лелеют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л для хлеба не жалею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Хлеборо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5-конечная звезда 3">
            <a:hlinkClick r:id="rId1" action="ppaction://hlinksldjump"/>
          </p:cNvPr>
          <p:cNvSpPr/>
          <p:nvPr/>
        </p:nvSpPr>
        <p:spPr>
          <a:xfrm>
            <a:off x="7786800" y="4857840"/>
            <a:ext cx="1000080" cy="11430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436680 h 1143000"/>
              <a:gd name="textAreaBottom" fmla="*/ 873360 h 1143000"/>
            </a:gdLst>
            <a:ahLst/>
            <a:rect l="textAreaLeft" t="textAreaTop" r="textAreaRight" b="textAreaBottom"/>
            <a:pathLst>
              <a:path w="1000125" h="1143000">
                <a:moveTo>
                  <a:pt x="1" y="436586"/>
                </a:moveTo>
                <a:lnTo>
                  <a:pt x="382016" y="436589"/>
                </a:lnTo>
                <a:lnTo>
                  <a:pt x="500063" y="0"/>
                </a:lnTo>
                <a:lnTo>
                  <a:pt x="618109" y="436589"/>
                </a:lnTo>
                <a:lnTo>
                  <a:pt x="1000124" y="436586"/>
                </a:lnTo>
                <a:lnTo>
                  <a:pt x="691066" y="706409"/>
                </a:lnTo>
                <a:lnTo>
                  <a:pt x="809118" y="1142996"/>
                </a:lnTo>
                <a:lnTo>
                  <a:pt x="500063" y="873168"/>
                </a:lnTo>
                <a:lnTo>
                  <a:pt x="191007" y="1142996"/>
                </a:lnTo>
                <a:lnTo>
                  <a:pt x="309059" y="706409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иженья плавны, ловки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занимать сноров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лошади подков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новенье и готов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 Кузнецы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5-конечная звезда 3">
            <a:hlinkClick r:id="rId1" action="ppaction://hlinksldjump"/>
          </p:cNvPr>
          <p:cNvSpPr/>
          <p:nvPr/>
        </p:nvSpPr>
        <p:spPr>
          <a:xfrm>
            <a:off x="7643880" y="47149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еркальном на кат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единственном конь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проехался разок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распался весь като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Стеклорез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5-конечная звезда 3">
            <a:hlinkClick r:id="rId1" action="ppaction://hlinksldjump"/>
          </p:cNvPr>
          <p:cNvSpPr/>
          <p:nvPr/>
        </p:nvSpPr>
        <p:spPr>
          <a:xfrm>
            <a:off x="7715160" y="4929120"/>
            <a:ext cx="928800" cy="1000080"/>
          </a:xfrm>
          <a:custGeom>
            <a:avLst/>
            <a:gdLst>
              <a:gd name="textAreaLeft" fmla="*/ 286920 w 928800"/>
              <a:gd name="textAreaRight" fmla="*/ 641880 w 92880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928688" h="1000125">
                <a:moveTo>
                  <a:pt x="1" y="382013"/>
                </a:moveTo>
                <a:lnTo>
                  <a:pt x="354729" y="382015"/>
                </a:lnTo>
                <a:lnTo>
                  <a:pt x="464344" y="0"/>
                </a:lnTo>
                <a:lnTo>
                  <a:pt x="573959" y="382015"/>
                </a:lnTo>
                <a:lnTo>
                  <a:pt x="928687" y="382013"/>
                </a:lnTo>
                <a:lnTo>
                  <a:pt x="641705" y="618108"/>
                </a:lnTo>
                <a:lnTo>
                  <a:pt x="751325" y="1000122"/>
                </a:lnTo>
                <a:lnTo>
                  <a:pt x="464344" y="764022"/>
                </a:lnTo>
                <a:lnTo>
                  <a:pt x="177363" y="1000122"/>
                </a:lnTo>
                <a:lnTo>
                  <a:pt x="286983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у людей всегда в ходу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ть мой характер кру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надо стукнуть — я приду, 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дь мой ударный тру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Молоток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5-конечная звезда 3">
            <a:hlinkClick r:id="rId1" action="ppaction://hlinksldjump"/>
          </p:cNvPr>
          <p:cNvSpPr/>
          <p:nvPr/>
        </p:nvSpPr>
        <p:spPr>
          <a:xfrm>
            <a:off x="7715160" y="500076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т каменный круг —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ментам лучший друг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звихрит искры над собою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трым сделает тупо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Точил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5-конечная звезда 4">
            <a:hlinkClick r:id="rId1" action="ppaction://hlinksldjump"/>
          </p:cNvPr>
          <p:cNvSpPr/>
          <p:nvPr/>
        </p:nvSpPr>
        <p:spPr>
          <a:xfrm>
            <a:off x="7786800" y="5000760"/>
            <a:ext cx="928440" cy="928440"/>
          </a:xfrm>
          <a:custGeom>
            <a:avLst/>
            <a:gdLst>
              <a:gd name="textAreaLeft" fmla="*/ 286920 w 928440"/>
              <a:gd name="textAreaRight" fmla="*/ 641520 w 92844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928687" h="928688">
                <a:moveTo>
                  <a:pt x="1" y="354726"/>
                </a:moveTo>
                <a:lnTo>
                  <a:pt x="354729" y="354729"/>
                </a:lnTo>
                <a:lnTo>
                  <a:pt x="464344" y="0"/>
                </a:lnTo>
                <a:lnTo>
                  <a:pt x="573958" y="354729"/>
                </a:lnTo>
                <a:lnTo>
                  <a:pt x="928686" y="354726"/>
                </a:lnTo>
                <a:lnTo>
                  <a:pt x="641704" y="573958"/>
                </a:lnTo>
                <a:lnTo>
                  <a:pt x="751324" y="928685"/>
                </a:lnTo>
                <a:lnTo>
                  <a:pt x="464344" y="709450"/>
                </a:lnTo>
                <a:lnTo>
                  <a:pt x="177363" y="928685"/>
                </a:lnTo>
                <a:lnTo>
                  <a:pt x="286983" y="5739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за слово, угада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 в нём — загадк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—нот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ая-игр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е встретится у столяр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лот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5-конечная звезда 3"/>
          <p:cNvSpPr/>
          <p:nvPr/>
        </p:nvSpPr>
        <p:spPr>
          <a:xfrm>
            <a:off x="7929720" y="5143680"/>
            <a:ext cx="857160" cy="857160"/>
          </a:xfrm>
          <a:custGeom>
            <a:avLst/>
            <a:gdLst>
              <a:gd name="textAreaLeft" fmla="*/ 264960 w 857160"/>
              <a:gd name="textAreaRight" fmla="*/ 592200 w 85716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857250" h="857250">
                <a:moveTo>
                  <a:pt x="1" y="327439"/>
                </a:moveTo>
                <a:lnTo>
                  <a:pt x="327442" y="327442"/>
                </a:lnTo>
                <a:lnTo>
                  <a:pt x="428625" y="0"/>
                </a:lnTo>
                <a:lnTo>
                  <a:pt x="529808" y="327442"/>
                </a:lnTo>
                <a:lnTo>
                  <a:pt x="857249" y="327439"/>
                </a:lnTo>
                <a:lnTo>
                  <a:pt x="592342" y="529807"/>
                </a:lnTo>
                <a:lnTo>
                  <a:pt x="693530" y="857247"/>
                </a:lnTo>
                <a:lnTo>
                  <a:pt x="428625" y="654876"/>
                </a:lnTo>
                <a:lnTo>
                  <a:pt x="163720" y="857247"/>
                </a:lnTo>
                <a:lnTo>
                  <a:pt x="264908" y="52980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любопытный инструмент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ю всё в один момент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зде сую свой нос вит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кну дыру в стен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узнать, а что на т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тной стороне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верл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5-конечная звезда 3"/>
          <p:cNvSpPr/>
          <p:nvPr/>
        </p:nvSpPr>
        <p:spPr>
          <a:xfrm>
            <a:off x="7643880" y="4929120"/>
            <a:ext cx="1071360" cy="1071720"/>
          </a:xfrm>
          <a:custGeom>
            <a:avLst/>
            <a:gdLst>
              <a:gd name="textAreaLeft" fmla="*/ 330840 w 1071360"/>
              <a:gd name="textAreaRight" fmla="*/ 740520 w 1071360"/>
              <a:gd name="textAreaTop" fmla="*/ 409320 h 1071720"/>
              <a:gd name="textAreaBottom" fmla="*/ 818640 h 1071720"/>
            </a:gdLst>
            <a:ahLst/>
            <a:rect l="textAreaLeft" t="textAreaTop" r="textAreaRight" b="textAreaBottom"/>
            <a:pathLst>
              <a:path w="1071562" h="1071562">
                <a:moveTo>
                  <a:pt x="1" y="409299"/>
                </a:moveTo>
                <a:lnTo>
                  <a:pt x="409303" y="409302"/>
                </a:lnTo>
                <a:lnTo>
                  <a:pt x="535781" y="0"/>
                </a:lnTo>
                <a:lnTo>
                  <a:pt x="662259" y="409302"/>
                </a:lnTo>
                <a:lnTo>
                  <a:pt x="1071561" y="409299"/>
                </a:lnTo>
                <a:lnTo>
                  <a:pt x="740428" y="662258"/>
                </a:lnTo>
                <a:lnTo>
                  <a:pt x="866912" y="1071558"/>
                </a:lnTo>
                <a:lnTo>
                  <a:pt x="535781" y="818595"/>
                </a:lnTo>
                <a:lnTo>
                  <a:pt x="204650" y="1071558"/>
                </a:lnTo>
                <a:lnTo>
                  <a:pt x="331134" y="66225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Группа 40"/>
          <p:cNvGrpSpPr/>
          <p:nvPr/>
        </p:nvGrpSpPr>
        <p:grpSpPr>
          <a:xfrm>
            <a:off x="344520" y="851040"/>
            <a:ext cx="8475480" cy="4947480"/>
            <a:chOff x="344520" y="851040"/>
            <a:chExt cx="8475480" cy="4947480"/>
          </a:xfrm>
        </p:grpSpPr>
        <p:sp>
          <p:nvSpPr>
            <p:cNvPr id="45" name="Скругленный прямоугольник 3"/>
            <p:cNvSpPr/>
            <p:nvPr/>
          </p:nvSpPr>
          <p:spPr>
            <a:xfrm>
              <a:off x="357480" y="220824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Скругленный прямоугольник 6"/>
            <p:cNvSpPr/>
            <p:nvPr/>
          </p:nvSpPr>
          <p:spPr>
            <a:xfrm>
              <a:off x="357480" y="471420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Скругленный прямоугольник 7"/>
            <p:cNvSpPr/>
            <p:nvPr/>
          </p:nvSpPr>
          <p:spPr>
            <a:xfrm>
              <a:off x="344520" y="851040"/>
              <a:ext cx="257148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Пословицы и поговор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о труд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Скругленный прямоугольник 8"/>
            <p:cNvSpPr/>
            <p:nvPr/>
          </p:nvSpPr>
          <p:spPr>
            <a:xfrm>
              <a:off x="357480" y="3494160"/>
              <a:ext cx="2571480" cy="10713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0"/>
            <p:cNvSpPr/>
            <p:nvPr/>
          </p:nvSpPr>
          <p:spPr>
            <a:xfrm>
              <a:off x="571680" y="2279520"/>
              <a:ext cx="207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гадки о  профессия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1"/>
            <p:cNvSpPr/>
            <p:nvPr/>
          </p:nvSpPr>
          <p:spPr>
            <a:xfrm>
              <a:off x="643320" y="3637080"/>
              <a:ext cx="20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Загадки об инструмент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2"/>
            <p:cNvSpPr/>
            <p:nvPr/>
          </p:nvSpPr>
          <p:spPr>
            <a:xfrm>
              <a:off x="643320" y="4851360"/>
              <a:ext cx="2142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Загадки-обман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Скругленный прямоугольник 15"/>
            <p:cNvSpPr/>
            <p:nvPr/>
          </p:nvSpPr>
          <p:spPr>
            <a:xfrm>
              <a:off x="32148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Скругленный прямоугольник 17"/>
            <p:cNvSpPr/>
            <p:nvPr/>
          </p:nvSpPr>
          <p:spPr>
            <a:xfrm>
              <a:off x="414324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Скругленный прямоугольник 18"/>
            <p:cNvSpPr/>
            <p:nvPr/>
          </p:nvSpPr>
          <p:spPr>
            <a:xfrm>
              <a:off x="5076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Скругленный прямоугольник 19"/>
            <p:cNvSpPr/>
            <p:nvPr/>
          </p:nvSpPr>
          <p:spPr>
            <a:xfrm>
              <a:off x="6084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3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Скругленный прямоугольник 20"/>
            <p:cNvSpPr/>
            <p:nvPr/>
          </p:nvSpPr>
          <p:spPr>
            <a:xfrm>
              <a:off x="7020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Скругленный прямоугольник 21"/>
            <p:cNvSpPr/>
            <p:nvPr/>
          </p:nvSpPr>
          <p:spPr>
            <a:xfrm>
              <a:off x="7956000" y="851040"/>
              <a:ext cx="785520" cy="114300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143000"/>
                <a:gd name="textAreaBottom" fmla="*/ 1104840 h 1143000"/>
              </a:gdLst>
              <a:ahLst/>
              <a:rect l="textAreaLeft" t="textAreaTop" r="textAreaRight" b="textAreaBottom"/>
              <a:pathLst>
                <a:path w="21600" h="31425">
                  <a:moveTo>
                    <a:pt x="3600" y="0"/>
                  </a:moveTo>
                  <a:arcTo wR="3600" hR="3600" stAng="16200000" swAng="-5400000"/>
                  <a:lnTo>
                    <a:pt x="0" y="27825"/>
                  </a:lnTo>
                  <a:arcTo wR="3600" hR="3600" stAng="10800000" swAng="-5400000"/>
                  <a:lnTo>
                    <a:pt x="18000" y="314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Скругленный прямоугольник 22"/>
            <p:cNvSpPr/>
            <p:nvPr/>
          </p:nvSpPr>
          <p:spPr>
            <a:xfrm>
              <a:off x="3214800" y="22082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Скругленный прямоугольник 23"/>
            <p:cNvSpPr/>
            <p:nvPr/>
          </p:nvSpPr>
          <p:spPr>
            <a:xfrm>
              <a:off x="3214800" y="349416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Скругленный прямоугольник 24"/>
            <p:cNvSpPr/>
            <p:nvPr/>
          </p:nvSpPr>
          <p:spPr>
            <a:xfrm>
              <a:off x="4214880" y="22082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25"/>
            <p:cNvSpPr/>
            <p:nvPr/>
          </p:nvSpPr>
          <p:spPr>
            <a:xfrm>
              <a:off x="5148000" y="2202480"/>
              <a:ext cx="797040" cy="107136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1071360"/>
                <a:gd name="textAreaBottom" fmla="*/ 1032480 h 107136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9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Скругленный прямоугольник 26"/>
            <p:cNvSpPr/>
            <p:nvPr/>
          </p:nvSpPr>
          <p:spPr>
            <a:xfrm>
              <a:off x="61434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Скругленный прямоугольник 27"/>
            <p:cNvSpPr/>
            <p:nvPr/>
          </p:nvSpPr>
          <p:spPr>
            <a:xfrm>
              <a:off x="70722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Скругленный прямоугольник 28"/>
            <p:cNvSpPr/>
            <p:nvPr/>
          </p:nvSpPr>
          <p:spPr>
            <a:xfrm>
              <a:off x="8028000" y="220248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f3dbe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2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Скругленный прямоугольник 29"/>
            <p:cNvSpPr/>
            <p:nvPr/>
          </p:nvSpPr>
          <p:spPr>
            <a:xfrm>
              <a:off x="4214880" y="349416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Скругленный прямоугольник 30"/>
            <p:cNvSpPr/>
            <p:nvPr/>
          </p:nvSpPr>
          <p:spPr>
            <a:xfrm>
              <a:off x="521496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4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Скругленный прямоугольник 31"/>
            <p:cNvSpPr/>
            <p:nvPr/>
          </p:nvSpPr>
          <p:spPr>
            <a:xfrm>
              <a:off x="6156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5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Скругленный прямоугольник 32"/>
            <p:cNvSpPr/>
            <p:nvPr/>
          </p:nvSpPr>
          <p:spPr>
            <a:xfrm>
              <a:off x="7092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Скругленный прямоугольник 33"/>
            <p:cNvSpPr/>
            <p:nvPr/>
          </p:nvSpPr>
          <p:spPr>
            <a:xfrm>
              <a:off x="8028000" y="3498840"/>
              <a:ext cx="785520" cy="1071360"/>
            </a:xfrm>
            <a:custGeom>
              <a:avLst/>
              <a:gdLst>
                <a:gd name="textAreaLeft" fmla="*/ 38160 w 785520"/>
                <a:gd name="textAreaRight" fmla="*/ 747360 w 785520"/>
                <a:gd name="textAreaTop" fmla="*/ 38160 h 1071360"/>
                <a:gd name="textAreaBottom" fmla="*/ 1033200 h 1071360"/>
              </a:gdLst>
              <a:ahLst/>
              <a:rect l="textAreaLeft" t="textAreaTop" r="textAreaRight" b="textAreaBottom"/>
              <a:pathLst>
                <a:path w="21600" h="29456">
                  <a:moveTo>
                    <a:pt x="3600" y="0"/>
                  </a:moveTo>
                  <a:arcTo wR="3600" hR="3600" stAng="16200000" swAng="-5400000"/>
                  <a:lnTo>
                    <a:pt x="0" y="25856"/>
                  </a:lnTo>
                  <a:arcTo wR="3600" hR="3600" stAng="10800000" swAng="-5400000"/>
                  <a:lnTo>
                    <a:pt x="18000" y="294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7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Скругленный прямоугольник 34"/>
            <p:cNvSpPr/>
            <p:nvPr/>
          </p:nvSpPr>
          <p:spPr>
            <a:xfrm>
              <a:off x="3214800" y="472284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8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Скругленный прямоугольник 35"/>
            <p:cNvSpPr/>
            <p:nvPr/>
          </p:nvSpPr>
          <p:spPr>
            <a:xfrm>
              <a:off x="4214880" y="472284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Скругленный прямоугольник 36"/>
            <p:cNvSpPr/>
            <p:nvPr/>
          </p:nvSpPr>
          <p:spPr>
            <a:xfrm>
              <a:off x="5214960" y="4722840"/>
              <a:ext cx="797040" cy="1071360"/>
            </a:xfrm>
            <a:custGeom>
              <a:avLst/>
              <a:gdLst>
                <a:gd name="textAreaLeft" fmla="*/ 38880 w 797040"/>
                <a:gd name="textAreaRight" fmla="*/ 758160 w 797040"/>
                <a:gd name="textAreaTop" fmla="*/ 38880 h 1071360"/>
                <a:gd name="textAreaBottom" fmla="*/ 1032480 h 107136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0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кругленный прямоугольник 37"/>
            <p:cNvSpPr/>
            <p:nvPr/>
          </p:nvSpPr>
          <p:spPr>
            <a:xfrm>
              <a:off x="6156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1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кругленный прямоугольник 38"/>
            <p:cNvSpPr/>
            <p:nvPr/>
          </p:nvSpPr>
          <p:spPr>
            <a:xfrm>
              <a:off x="7092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Скругленный прямоугольник 39"/>
            <p:cNvSpPr/>
            <p:nvPr/>
          </p:nvSpPr>
          <p:spPr>
            <a:xfrm>
              <a:off x="8028000" y="4722840"/>
              <a:ext cx="792000" cy="107136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1071360"/>
                <a:gd name="textAreaBottom" fmla="*/ 1032840 h 1071360"/>
              </a:gdLst>
              <a:ahLst/>
              <a:rect l="textAreaLeft" t="textAreaTop" r="textAreaRight" b="textAreaBottom"/>
              <a:pathLst>
                <a:path w="21600" h="29215">
                  <a:moveTo>
                    <a:pt x="3600" y="0"/>
                  </a:moveTo>
                  <a:arcTo wR="3600" hR="3600" stAng="16200000" swAng="-5400000"/>
                  <a:lnTo>
                    <a:pt x="0" y="25615"/>
                  </a:lnTo>
                  <a:arcTo wR="3600" hR="3600" stAng="10800000" swAng="-5400000"/>
                  <a:lnTo>
                    <a:pt x="18000" y="292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3" action="ppaction://hlinksldjump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46"/>
            <p:cNvSpPr/>
            <p:nvPr/>
          </p:nvSpPr>
          <p:spPr>
            <a:xfrm>
              <a:off x="3357720" y="993600"/>
              <a:ext cx="42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 u="sng">
                  <a:solidFill>
                    <a:srgbClr val="0000ff"/>
                  </a:solidFill>
                  <a:uFillTx/>
                  <a:latin typeface="Calibri"/>
                  <a:hlinkClick r:id="rId24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конька у горбун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ревянные бок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него из-под копы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ужка белая бежи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Рубанок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5-конечная звезда 3"/>
          <p:cNvSpPr/>
          <p:nvPr/>
        </p:nvSpPr>
        <p:spPr>
          <a:xfrm>
            <a:off x="7643880" y="492912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лки нам и кал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ждый день пеку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врачи, а пекар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5-конечная звезда 3"/>
          <p:cNvSpPr/>
          <p:nvPr/>
        </p:nvSpPr>
        <p:spPr>
          <a:xfrm>
            <a:off x="8001000" y="5143680"/>
            <a:ext cx="928800" cy="857160"/>
          </a:xfrm>
          <a:custGeom>
            <a:avLst/>
            <a:gdLst>
              <a:gd name="textAreaLeft" fmla="*/ 286920 w 928800"/>
              <a:gd name="textAreaRight" fmla="*/ 641880 w 92880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928688" h="857250">
                <a:moveTo>
                  <a:pt x="1" y="327439"/>
                </a:moveTo>
                <a:lnTo>
                  <a:pt x="354729" y="327442"/>
                </a:lnTo>
                <a:lnTo>
                  <a:pt x="464344" y="0"/>
                </a:lnTo>
                <a:lnTo>
                  <a:pt x="573959" y="327442"/>
                </a:lnTo>
                <a:lnTo>
                  <a:pt x="928687" y="327439"/>
                </a:lnTo>
                <a:lnTo>
                  <a:pt x="641705" y="529807"/>
                </a:lnTo>
                <a:lnTo>
                  <a:pt x="751325" y="857247"/>
                </a:lnTo>
                <a:lnTo>
                  <a:pt x="464344" y="654876"/>
                </a:lnTo>
                <a:lnTo>
                  <a:pt x="177363" y="857247"/>
                </a:lnTo>
                <a:lnTo>
                  <a:pt x="286983" y="5298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1468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ладки, карманы и ровненький кант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атье красивое сшил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музыкант, а портно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5-конечная звезда 3"/>
          <p:cNvSpPr/>
          <p:nvPr/>
        </p:nvSpPr>
        <p:spPr>
          <a:xfrm>
            <a:off x="7500960" y="4929120"/>
            <a:ext cx="1000080" cy="100008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00125" h="1000125">
                <a:moveTo>
                  <a:pt x="1" y="382013"/>
                </a:moveTo>
                <a:lnTo>
                  <a:pt x="382016" y="382015"/>
                </a:lnTo>
                <a:lnTo>
                  <a:pt x="500063" y="0"/>
                </a:lnTo>
                <a:lnTo>
                  <a:pt x="618109" y="382015"/>
                </a:lnTo>
                <a:lnTo>
                  <a:pt x="1000124" y="382013"/>
                </a:lnTo>
                <a:lnTo>
                  <a:pt x="691066" y="618108"/>
                </a:lnTo>
                <a:lnTo>
                  <a:pt x="809118" y="1000122"/>
                </a:lnTo>
                <a:lnTo>
                  <a:pt x="500063" y="764022"/>
                </a:lnTo>
                <a:lnTo>
                  <a:pt x="191007" y="1000122"/>
                </a:lnTo>
                <a:lnTo>
                  <a:pt x="309059" y="61810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ёрный весь, как будто грач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нашей крыши лезе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врач, а трубочи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5-конечная звезда 3"/>
          <p:cNvSpPr/>
          <p:nvPr/>
        </p:nvSpPr>
        <p:spPr>
          <a:xfrm>
            <a:off x="7643880" y="5143680"/>
            <a:ext cx="1214280" cy="928440"/>
          </a:xfrm>
          <a:custGeom>
            <a:avLst/>
            <a:gdLst>
              <a:gd name="textAreaLeft" fmla="*/ 375120 w 1214280"/>
              <a:gd name="textAreaRight" fmla="*/ 839160 w 121428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1214437" h="928688">
                <a:moveTo>
                  <a:pt x="1" y="354726"/>
                </a:moveTo>
                <a:lnTo>
                  <a:pt x="463876" y="354729"/>
                </a:lnTo>
                <a:lnTo>
                  <a:pt x="607219" y="0"/>
                </a:lnTo>
                <a:lnTo>
                  <a:pt x="750561" y="354729"/>
                </a:lnTo>
                <a:lnTo>
                  <a:pt x="1214436" y="354726"/>
                </a:lnTo>
                <a:lnTo>
                  <a:pt x="839151" y="573958"/>
                </a:lnTo>
                <a:lnTo>
                  <a:pt x="982501" y="928685"/>
                </a:lnTo>
                <a:lnTo>
                  <a:pt x="607219" y="709450"/>
                </a:lnTo>
                <a:lnTo>
                  <a:pt x="231936" y="928685"/>
                </a:lnTo>
                <a:lnTo>
                  <a:pt x="375286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заводах по три см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станков стоят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спортсмены, а рабочие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5-конечная звезда 3"/>
          <p:cNvSpPr/>
          <p:nvPr/>
        </p:nvSpPr>
        <p:spPr>
          <a:xfrm>
            <a:off x="7643880" y="4929120"/>
            <a:ext cx="857160" cy="1000080"/>
          </a:xfrm>
          <a:custGeom>
            <a:avLst/>
            <a:gdLst>
              <a:gd name="textAreaLeft" fmla="*/ 264960 w 857160"/>
              <a:gd name="textAreaRight" fmla="*/ 592200 w 85716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857250" h="1000125">
                <a:moveTo>
                  <a:pt x="1" y="382013"/>
                </a:moveTo>
                <a:lnTo>
                  <a:pt x="327442" y="382015"/>
                </a:lnTo>
                <a:lnTo>
                  <a:pt x="428625" y="0"/>
                </a:lnTo>
                <a:lnTo>
                  <a:pt x="529808" y="382015"/>
                </a:lnTo>
                <a:lnTo>
                  <a:pt x="857249" y="382013"/>
                </a:lnTo>
                <a:lnTo>
                  <a:pt x="592342" y="618108"/>
                </a:lnTo>
                <a:lnTo>
                  <a:pt x="693530" y="1000122"/>
                </a:lnTo>
                <a:lnTo>
                  <a:pt x="428625" y="764022"/>
                </a:lnTo>
                <a:lnTo>
                  <a:pt x="163720" y="1000122"/>
                </a:lnTo>
                <a:lnTo>
                  <a:pt x="264908" y="61810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 куполом цирка в опасный пол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правится смелый и сильный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пилот, а воздушный гимна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5-конечная звезда 3"/>
          <p:cNvSpPr/>
          <p:nvPr/>
        </p:nvSpPr>
        <p:spPr>
          <a:xfrm>
            <a:off x="7715160" y="5000760"/>
            <a:ext cx="1071720" cy="92844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1071563" h="928688">
                <a:moveTo>
                  <a:pt x="1" y="354726"/>
                </a:moveTo>
                <a:lnTo>
                  <a:pt x="409303" y="354729"/>
                </a:lnTo>
                <a:lnTo>
                  <a:pt x="535782" y="0"/>
                </a:lnTo>
                <a:lnTo>
                  <a:pt x="662260" y="354729"/>
                </a:lnTo>
                <a:lnTo>
                  <a:pt x="1071562" y="354726"/>
                </a:lnTo>
                <a:lnTo>
                  <a:pt x="740428" y="573958"/>
                </a:lnTo>
                <a:lnTo>
                  <a:pt x="866913" y="928685"/>
                </a:lnTo>
                <a:lnTo>
                  <a:pt x="535782" y="709450"/>
                </a:lnTo>
                <a:lnTo>
                  <a:pt x="204650" y="928685"/>
                </a:lnTo>
                <a:lnTo>
                  <a:pt x="331135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адить новые саженцы в ель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ова отправится утром наш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Не мельник, а лесни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5-конечная звезда 3"/>
          <p:cNvSpPr/>
          <p:nvPr/>
        </p:nvSpPr>
        <p:spPr>
          <a:xfrm>
            <a:off x="8001000" y="5000760"/>
            <a:ext cx="857160" cy="928440"/>
          </a:xfrm>
          <a:custGeom>
            <a:avLst/>
            <a:gdLst>
              <a:gd name="textAreaLeft" fmla="*/ 264960 w 857160"/>
              <a:gd name="textAreaRight" fmla="*/ 592200 w 857160"/>
              <a:gd name="textAreaTop" fmla="*/ 354600 h 928440"/>
              <a:gd name="textAreaBottom" fmla="*/ 709200 h 928440"/>
            </a:gdLst>
            <a:ahLst/>
            <a:rect l="textAreaLeft" t="textAreaTop" r="textAreaRight" b="textAreaBottom"/>
            <a:pathLst>
              <a:path w="857250" h="928688">
                <a:moveTo>
                  <a:pt x="1" y="354726"/>
                </a:moveTo>
                <a:lnTo>
                  <a:pt x="327442" y="354729"/>
                </a:lnTo>
                <a:lnTo>
                  <a:pt x="428625" y="0"/>
                </a:lnTo>
                <a:lnTo>
                  <a:pt x="529808" y="354729"/>
                </a:lnTo>
                <a:lnTo>
                  <a:pt x="857249" y="354726"/>
                </a:lnTo>
                <a:lnTo>
                  <a:pt x="592342" y="573958"/>
                </a:lnTo>
                <a:lnTo>
                  <a:pt x="693530" y="928685"/>
                </a:lnTo>
                <a:lnTo>
                  <a:pt x="428625" y="709450"/>
                </a:lnTo>
                <a:lnTo>
                  <a:pt x="163720" y="928685"/>
                </a:lnTo>
                <a:lnTo>
                  <a:pt x="264908" y="573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www.vsezagadki.ru/2010/11/zagadki-o-trude/    - загадки о профессиях и инструм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riddle-middle.ru/pogovorki_i_poslovicy/trud/  - пословицы и поговорки о тру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еревья смотри в плодах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а людей смотри в дела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5-конечная звезда 3">
            <a:hlinkClick r:id="rId1" action="ppaction://hlinksldjump"/>
          </p:cNvPr>
          <p:cNvSpPr/>
          <p:nvPr/>
        </p:nvSpPr>
        <p:spPr>
          <a:xfrm>
            <a:off x="6929280" y="5214960"/>
            <a:ext cx="857520" cy="714240"/>
          </a:xfrm>
          <a:custGeom>
            <a:avLst/>
            <a:gdLst>
              <a:gd name="textAreaLeft" fmla="*/ 264960 w 857520"/>
              <a:gd name="textAreaRight" fmla="*/ 592560 w 85752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857250" h="714375">
                <a:moveTo>
                  <a:pt x="1" y="272866"/>
                </a:moveTo>
                <a:lnTo>
                  <a:pt x="327442" y="272868"/>
                </a:lnTo>
                <a:lnTo>
                  <a:pt x="428625" y="0"/>
                </a:lnTo>
                <a:lnTo>
                  <a:pt x="529808" y="272868"/>
                </a:lnTo>
                <a:lnTo>
                  <a:pt x="857249" y="272866"/>
                </a:lnTo>
                <a:lnTo>
                  <a:pt x="592342" y="441506"/>
                </a:lnTo>
                <a:lnTo>
                  <a:pt x="693530" y="714373"/>
                </a:lnTo>
                <a:lnTo>
                  <a:pt x="428625" y="545730"/>
                </a:lnTo>
                <a:lnTo>
                  <a:pt x="163720" y="714373"/>
                </a:lnTo>
                <a:lnTo>
                  <a:pt x="264908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у узнают в полё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 человека в работ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5-конечная звезда 3">
            <a:hlinkClick r:id="rId1" action="ppaction://hlinksldjump"/>
          </p:cNvPr>
          <p:cNvSpPr/>
          <p:nvPr/>
        </p:nvSpPr>
        <p:spPr>
          <a:xfrm>
            <a:off x="7429680" y="5143680"/>
            <a:ext cx="928440" cy="857160"/>
          </a:xfrm>
          <a:custGeom>
            <a:avLst/>
            <a:gdLst>
              <a:gd name="textAreaLeft" fmla="*/ 286920 w 928440"/>
              <a:gd name="textAreaRight" fmla="*/ 641520 w 92844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928688" h="857250">
                <a:moveTo>
                  <a:pt x="1" y="327439"/>
                </a:moveTo>
                <a:lnTo>
                  <a:pt x="354729" y="327442"/>
                </a:lnTo>
                <a:lnTo>
                  <a:pt x="464344" y="0"/>
                </a:lnTo>
                <a:lnTo>
                  <a:pt x="573959" y="327442"/>
                </a:lnTo>
                <a:lnTo>
                  <a:pt x="928687" y="327439"/>
                </a:lnTo>
                <a:lnTo>
                  <a:pt x="641705" y="529807"/>
                </a:lnTo>
                <a:lnTo>
                  <a:pt x="751325" y="857247"/>
                </a:lnTo>
                <a:lnTo>
                  <a:pt x="464344" y="654876"/>
                </a:lnTo>
                <a:lnTo>
                  <a:pt x="177363" y="857247"/>
                </a:lnTo>
                <a:lnTo>
                  <a:pt x="286983" y="52980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Глазам страшно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 руки делаю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5-конечная звезда 3">
            <a:hlinkClick r:id="rId1" action="ppaction://hlinksldjump"/>
          </p:cNvPr>
          <p:cNvSpPr/>
          <p:nvPr/>
        </p:nvSpPr>
        <p:spPr>
          <a:xfrm>
            <a:off x="7358040" y="5000760"/>
            <a:ext cx="1071720" cy="1000080"/>
          </a:xfrm>
          <a:custGeom>
            <a:avLst/>
            <a:gdLst>
              <a:gd name="textAreaLeft" fmla="*/ 331200 w 1071720"/>
              <a:gd name="textAreaRight" fmla="*/ 740520 w 1071720"/>
              <a:gd name="textAreaTop" fmla="*/ 381960 h 1000080"/>
              <a:gd name="textAreaBottom" fmla="*/ 763920 h 1000080"/>
            </a:gdLst>
            <a:ahLst/>
            <a:rect l="textAreaLeft" t="textAreaTop" r="textAreaRight" b="textAreaBottom"/>
            <a:pathLst>
              <a:path w="1071562" h="1000125">
                <a:moveTo>
                  <a:pt x="1" y="382013"/>
                </a:moveTo>
                <a:lnTo>
                  <a:pt x="409303" y="382015"/>
                </a:lnTo>
                <a:lnTo>
                  <a:pt x="535781" y="0"/>
                </a:lnTo>
                <a:lnTo>
                  <a:pt x="662259" y="382015"/>
                </a:lnTo>
                <a:lnTo>
                  <a:pt x="1071561" y="382013"/>
                </a:lnTo>
                <a:lnTo>
                  <a:pt x="740428" y="618108"/>
                </a:lnTo>
                <a:lnTo>
                  <a:pt x="866912" y="1000122"/>
                </a:lnTo>
                <a:lnTo>
                  <a:pt x="535781" y="764022"/>
                </a:lnTo>
                <a:lnTo>
                  <a:pt x="204650" y="1000122"/>
                </a:lnTo>
                <a:lnTo>
                  <a:pt x="331134" y="61810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Маленькое дело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учше большого бездель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-конечная звезда 3">
            <a:hlinkClick r:id="rId1" action="ppaction://hlinksldjump"/>
          </p:cNvPr>
          <p:cNvSpPr/>
          <p:nvPr/>
        </p:nvSpPr>
        <p:spPr>
          <a:xfrm>
            <a:off x="7572240" y="5143680"/>
            <a:ext cx="857520" cy="714240"/>
          </a:xfrm>
          <a:custGeom>
            <a:avLst/>
            <a:gdLst>
              <a:gd name="textAreaLeft" fmla="*/ 264960 w 857520"/>
              <a:gd name="textAreaRight" fmla="*/ 592560 w 857520"/>
              <a:gd name="textAreaTop" fmla="*/ 272880 h 714240"/>
              <a:gd name="textAreaBottom" fmla="*/ 545760 h 714240"/>
            </a:gdLst>
            <a:ahLst/>
            <a:rect l="textAreaLeft" t="textAreaTop" r="textAreaRight" b="textAreaBottom"/>
            <a:pathLst>
              <a:path w="857250" h="714375">
                <a:moveTo>
                  <a:pt x="1" y="272866"/>
                </a:moveTo>
                <a:lnTo>
                  <a:pt x="327442" y="272868"/>
                </a:lnTo>
                <a:lnTo>
                  <a:pt x="428625" y="0"/>
                </a:lnTo>
                <a:lnTo>
                  <a:pt x="529808" y="272868"/>
                </a:lnTo>
                <a:lnTo>
                  <a:pt x="857249" y="272866"/>
                </a:lnTo>
                <a:lnTo>
                  <a:pt x="592342" y="441506"/>
                </a:lnTo>
                <a:lnTo>
                  <a:pt x="693530" y="714373"/>
                </a:lnTo>
                <a:lnTo>
                  <a:pt x="428625" y="545730"/>
                </a:lnTo>
                <a:lnTo>
                  <a:pt x="163720" y="714373"/>
                </a:lnTo>
                <a:lnTo>
                  <a:pt x="264908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коро сказка сказывается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а не скоро дело делается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5-конечная звезда 3">
            <a:hlinkClick r:id="rId1" action="ppaction://hlinksldjump"/>
          </p:cNvPr>
          <p:cNvSpPr/>
          <p:nvPr/>
        </p:nvSpPr>
        <p:spPr>
          <a:xfrm>
            <a:off x="7429680" y="5429160"/>
            <a:ext cx="1000080" cy="7146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272880 h 714600"/>
              <a:gd name="textAreaBottom" fmla="*/ 546120 h 714600"/>
            </a:gdLst>
            <a:ahLst/>
            <a:rect l="textAreaLeft" t="textAreaTop" r="textAreaRight" b="textAreaBottom"/>
            <a:pathLst>
              <a:path w="1000125" h="714375">
                <a:moveTo>
                  <a:pt x="1" y="272866"/>
                </a:moveTo>
                <a:lnTo>
                  <a:pt x="382016" y="272868"/>
                </a:lnTo>
                <a:lnTo>
                  <a:pt x="500063" y="0"/>
                </a:lnTo>
                <a:lnTo>
                  <a:pt x="618109" y="272868"/>
                </a:lnTo>
                <a:lnTo>
                  <a:pt x="1000124" y="272866"/>
                </a:lnTo>
                <a:lnTo>
                  <a:pt x="691066" y="441506"/>
                </a:lnTo>
                <a:lnTo>
                  <a:pt x="809118" y="714373"/>
                </a:lnTo>
                <a:lnTo>
                  <a:pt x="500063" y="545730"/>
                </a:lnTo>
                <a:lnTo>
                  <a:pt x="191007" y="714373"/>
                </a:lnTo>
                <a:lnTo>
                  <a:pt x="309059" y="441506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ыла бы охота 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будет ладиться работ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-конечная звезда 5">
            <a:hlinkClick r:id="rId1" action="ppaction://hlinksldjump"/>
          </p:cNvPr>
          <p:cNvSpPr/>
          <p:nvPr/>
        </p:nvSpPr>
        <p:spPr>
          <a:xfrm>
            <a:off x="7429680" y="4714920"/>
            <a:ext cx="1000080" cy="928800"/>
          </a:xfrm>
          <a:custGeom>
            <a:avLst/>
            <a:gdLst>
              <a:gd name="textAreaLeft" fmla="*/ 308880 w 1000080"/>
              <a:gd name="textAreaRight" fmla="*/ 691200 w 1000080"/>
              <a:gd name="textAreaTop" fmla="*/ 354600 h 928800"/>
              <a:gd name="textAreaBottom" fmla="*/ 709560 h 928800"/>
            </a:gdLst>
            <a:ahLst/>
            <a:rect l="textAreaLeft" t="textAreaTop" r="textAreaRight" b="textAreaBottom"/>
            <a:pathLst>
              <a:path w="1000125" h="928688">
                <a:moveTo>
                  <a:pt x="1" y="354726"/>
                </a:moveTo>
                <a:lnTo>
                  <a:pt x="382016" y="354729"/>
                </a:lnTo>
                <a:lnTo>
                  <a:pt x="500063" y="0"/>
                </a:lnTo>
                <a:lnTo>
                  <a:pt x="618109" y="354729"/>
                </a:lnTo>
                <a:lnTo>
                  <a:pt x="1000124" y="354726"/>
                </a:lnTo>
                <a:lnTo>
                  <a:pt x="691066" y="573958"/>
                </a:lnTo>
                <a:lnTo>
                  <a:pt x="809118" y="928685"/>
                </a:lnTo>
                <a:lnTo>
                  <a:pt x="500063" y="709450"/>
                </a:lnTo>
                <a:lnTo>
                  <a:pt x="191007" y="928685"/>
                </a:lnTo>
                <a:lnTo>
                  <a:pt x="309059" y="57395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т на краешке с опаск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железо красит краско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го в руке ведр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 раскрашен он пестр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аля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-конечная звезда 3">
            <a:hlinkClick r:id="rId1" action="ppaction://hlinksldjump"/>
          </p:cNvPr>
          <p:cNvSpPr/>
          <p:nvPr/>
        </p:nvSpPr>
        <p:spPr>
          <a:xfrm>
            <a:off x="7715160" y="5143680"/>
            <a:ext cx="785880" cy="857160"/>
          </a:xfrm>
          <a:custGeom>
            <a:avLst/>
            <a:gdLst>
              <a:gd name="textAreaLeft" fmla="*/ 242640 w 785880"/>
              <a:gd name="textAreaRight" fmla="*/ 543240 w 785880"/>
              <a:gd name="textAreaTop" fmla="*/ 327240 h 857160"/>
              <a:gd name="textAreaBottom" fmla="*/ 654840 h 857160"/>
            </a:gdLst>
            <a:ahLst/>
            <a:rect l="textAreaLeft" t="textAreaTop" r="textAreaRight" b="textAreaBottom"/>
            <a:pathLst>
              <a:path w="785813" h="857250">
                <a:moveTo>
                  <a:pt x="1" y="327439"/>
                </a:moveTo>
                <a:lnTo>
                  <a:pt x="300156" y="327442"/>
                </a:lnTo>
                <a:lnTo>
                  <a:pt x="392907" y="0"/>
                </a:lnTo>
                <a:lnTo>
                  <a:pt x="485657" y="327442"/>
                </a:lnTo>
                <a:lnTo>
                  <a:pt x="785812" y="327439"/>
                </a:lnTo>
                <a:lnTo>
                  <a:pt x="542981" y="529807"/>
                </a:lnTo>
                <a:lnTo>
                  <a:pt x="635736" y="857247"/>
                </a:lnTo>
                <a:lnTo>
                  <a:pt x="392907" y="654876"/>
                </a:lnTo>
                <a:lnTo>
                  <a:pt x="150077" y="857247"/>
                </a:lnTo>
                <a:lnTo>
                  <a:pt x="242832" y="529807"/>
                </a:lnTo>
                <a:close/>
              </a:path>
            </a:pathLst>
          </a:custGeom>
          <a:solidFill>
            <a:srgbClr val="cf3db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14:16:56Z</dcterms:created>
  <dc:creator>1</dc:creator>
  <dc:description/>
  <dc:language>en-US</dc:language>
  <cp:lastModifiedBy>Ёля</cp:lastModifiedBy>
  <dcterms:modified xsi:type="dcterms:W3CDTF">2014-02-05T17:00:05Z</dcterms:modified>
  <cp:revision>25</cp:revision>
  <dc:subject/>
  <dc:title>Слайд 1</dc:title>
</cp:coreProperties>
</file>