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19E-E493-4D51-8955-80B7317B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087-F3BD-4C5E-80C8-98C1C6DD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17E-C7B7-4C33-B14F-0E8C0543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D24-7114-428F-BED7-4051EA5C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659-4555-407B-B684-4B9D0271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5B5-5549-4E59-9363-B6202B31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80A8-2AD1-4F92-AC52-5A1EE4E2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0A7-AD4A-4FC4-9538-60F0ECFB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B61-7FE7-4475-A973-D828C557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F78-7008-4FCB-AD3D-5DE36D71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29F-82E6-425B-9F50-3B2B9356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E22-437C-4F89-B8DD-DCA3901C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53A1-B8D1-4A97-B8C5-8798039405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1.xml"/><Relationship Id="rId3" Type="http://schemas.openxmlformats.org/officeDocument/2006/relationships/slide" Target="slide37.xml"/><Relationship Id="rId4" Type="http://schemas.openxmlformats.org/officeDocument/2006/relationships/slide" Target="slide35.xml"/><Relationship Id="rId5" Type="http://schemas.openxmlformats.org/officeDocument/2006/relationships/slide" Target="slide33.xml"/><Relationship Id="rId6" Type="http://schemas.openxmlformats.org/officeDocument/2006/relationships/slide" Target="slide31.xml"/><Relationship Id="rId7" Type="http://schemas.openxmlformats.org/officeDocument/2006/relationships/slide" Target="slide29.xml"/><Relationship Id="rId8" Type="http://schemas.openxmlformats.org/officeDocument/2006/relationships/slide" Target="slide27.xml"/><Relationship Id="rId9" Type="http://schemas.openxmlformats.org/officeDocument/2006/relationships/slide" Target="slide25.xml"/><Relationship Id="rId10" Type="http://schemas.openxmlformats.org/officeDocument/2006/relationships/slide" Target="slide23.xml"/><Relationship Id="rId11" Type="http://schemas.openxmlformats.org/officeDocument/2006/relationships/slide" Target="slide21.xml"/><Relationship Id="rId12" Type="http://schemas.openxmlformats.org/officeDocument/2006/relationships/slide" Target="slide19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hyperlink" Target="file:///tmp/home/.config/libreoffice/4/user/gallery/ricochet.wav" TargetMode="Externa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2"/>
          <p:cNvSpPr/>
          <p:nvPr/>
        </p:nvSpPr>
        <p:spPr>
          <a:xfrm>
            <a:off x="5724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-1133640" y="-390600"/>
            <a:ext cx="11423880" cy="40053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печать-круглая.png"/>
          <p:cNvPicPr/>
          <p:nvPr/>
        </p:nvPicPr>
        <p:blipFill>
          <a:blip r:embed="rId2"/>
          <a:stretch/>
        </p:blipFill>
        <p:spPr>
          <a:xfrm>
            <a:off x="5643720" y="34290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) Индикатор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AutoShape 3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8229600" y="56386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6" h="21600">
                <a:moveTo>
                  <a:pt x="11778" y="3837"/>
                </a:moveTo>
                <a:lnTo>
                  <a:pt x="14354" y="6448"/>
                </a:lnTo>
                <a:lnTo>
                  <a:pt x="14354" y="4707"/>
                </a:lnTo>
                <a:lnTo>
                  <a:pt x="16130" y="4707"/>
                </a:lnTo>
                <a:lnTo>
                  <a:pt x="16130" y="8224"/>
                </a:lnTo>
                <a:lnTo>
                  <a:pt x="18741" y="10800"/>
                </a:lnTo>
                <a:lnTo>
                  <a:pt x="17087" y="10800"/>
                </a:lnTo>
                <a:lnTo>
                  <a:pt x="17087" y="17989"/>
                </a:lnTo>
                <a:lnTo>
                  <a:pt x="6469" y="17989"/>
                </a:lnTo>
                <a:lnTo>
                  <a:pt x="6469" y="10800"/>
                </a:lnTo>
                <a:lnTo>
                  <a:pt x="4815" y="10800"/>
                </a:lnTo>
                <a:close/>
              </a:path>
              <a:path fill="darkenLess" w="23556" h="21600">
                <a:moveTo>
                  <a:pt x="14354" y="6448"/>
                </a:moveTo>
                <a:lnTo>
                  <a:pt x="14354" y="4707"/>
                </a:lnTo>
                <a:lnTo>
                  <a:pt x="16130" y="4707"/>
                </a:lnTo>
                <a:lnTo>
                  <a:pt x="16130" y="8224"/>
                </a:lnTo>
                <a:close/>
              </a:path>
              <a:path fill="darkenLess" w="23556" h="21600">
                <a:moveTo>
                  <a:pt x="10855" y="14299"/>
                </a:moveTo>
                <a:lnTo>
                  <a:pt x="12701" y="14299"/>
                </a:lnTo>
                <a:lnTo>
                  <a:pt x="12701" y="17989"/>
                </a:lnTo>
                <a:lnTo>
                  <a:pt x="17087" y="17989"/>
                </a:lnTo>
                <a:lnTo>
                  <a:pt x="17087" y="10800"/>
                </a:lnTo>
                <a:lnTo>
                  <a:pt x="6469" y="10800"/>
                </a:lnTo>
                <a:lnTo>
                  <a:pt x="6469" y="17989"/>
                </a:lnTo>
                <a:lnTo>
                  <a:pt x="10855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ка 100  </a:t>
            </a:r>
            <a:br>
              <a:rPr sz="40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облизости один от другого расположены 2 деревни А и В. Все жители А говорят только правду, а жители В все лгут. Жители А и В посещают друг друга. Представьте, что вы находитесь в какой-то из этих деревень. Какой вопрос (только один) следует задать первому встретившемуся в этой деревне, чтобы по ответу на этот вопрос установить, А это или В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«Вы в этой деревне живете?»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469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атематика 50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ой русский писатель окончил физико-математический факультет университета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600200" y="274320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А.С.Грибоедов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09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атематика 4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ирпич имеет массу 1,5 кг и еще полкирпича. Какова масса кирпича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3кг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476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ка 10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а уроках физкультуры ученики выстроились в линейку на расстоянии 1 м друг от друга. Вся линейка растянулась на 25 м. Сколько было учеников?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26 учеников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8229600" y="5943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итература 100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  Кто этот человек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одился в Москве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Учился в селе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Умер в Санкт-Петербурге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се его знают.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sp>
        <p:nvSpPr>
          <p:cNvPr id="45" name="Rectangle 3"/>
          <p:cNvSpPr/>
          <p:nvPr/>
        </p:nvSpPr>
        <p:spPr>
          <a:xfrm>
            <a:off x="5724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Rectangle 4">
            <a:hlinkClick r:id="rId1" action="ppaction://hlinksldjump"/>
          </p:cNvPr>
          <p:cNvSpPr/>
          <p:nvPr/>
        </p:nvSpPr>
        <p:spPr>
          <a:xfrm>
            <a:off x="7315200" y="5149800"/>
            <a:ext cx="182880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Rectangle 5">
            <a:hlinkClick r:id="rId2" action="ppaction://hlinksldjump"/>
          </p:cNvPr>
          <p:cNvSpPr/>
          <p:nvPr/>
        </p:nvSpPr>
        <p:spPr>
          <a:xfrm>
            <a:off x="5487840" y="5149800"/>
            <a:ext cx="182736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Rectangle 6">
            <a:hlinkClick r:id="rId3" action="ppaction://hlinksldjump"/>
          </p:cNvPr>
          <p:cNvSpPr/>
          <p:nvPr/>
        </p:nvSpPr>
        <p:spPr>
          <a:xfrm>
            <a:off x="3656160" y="5149800"/>
            <a:ext cx="183168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Rectangle 7">
            <a:hlinkClick r:id="rId4" action="ppaction://hlinksldjump"/>
          </p:cNvPr>
          <p:cNvSpPr/>
          <p:nvPr/>
        </p:nvSpPr>
        <p:spPr>
          <a:xfrm>
            <a:off x="1828800" y="5149800"/>
            <a:ext cx="182736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5149800"/>
            <a:ext cx="182880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ОР-МАТИК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Rectangle 9">
            <a:hlinkClick r:id="rId5" action="ppaction://hlinksldjump"/>
          </p:cNvPr>
          <p:cNvSpPr/>
          <p:nvPr/>
        </p:nvSpPr>
        <p:spPr>
          <a:xfrm>
            <a:off x="7315200" y="3978360"/>
            <a:ext cx="1828800" cy="1171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Rectangle 10">
            <a:hlinkClick r:id="rId6" action="ppaction://hlinksldjump"/>
          </p:cNvPr>
          <p:cNvSpPr/>
          <p:nvPr/>
        </p:nvSpPr>
        <p:spPr>
          <a:xfrm>
            <a:off x="5487840" y="3978360"/>
            <a:ext cx="1827360" cy="1171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Rectangle 11">
            <a:hlinkClick r:id="rId7" action="ppaction://hlinksldjump"/>
          </p:cNvPr>
          <p:cNvSpPr/>
          <p:nvPr/>
        </p:nvSpPr>
        <p:spPr>
          <a:xfrm>
            <a:off x="3656160" y="3978360"/>
            <a:ext cx="1831680" cy="1171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Rectangle 12">
            <a:hlinkClick r:id="rId8" action="ppaction://hlinksldjump"/>
          </p:cNvPr>
          <p:cNvSpPr/>
          <p:nvPr/>
        </p:nvSpPr>
        <p:spPr>
          <a:xfrm>
            <a:off x="1792440" y="4008600"/>
            <a:ext cx="1828800" cy="1172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3978360"/>
            <a:ext cx="1828800" cy="1171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ТО-РИЯ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Rectangle 14">
            <a:hlinkClick r:id="rId9" action="ppaction://hlinksldjump"/>
          </p:cNvPr>
          <p:cNvSpPr/>
          <p:nvPr/>
        </p:nvSpPr>
        <p:spPr>
          <a:xfrm>
            <a:off x="7315200" y="2852640"/>
            <a:ext cx="182880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Rectangle 15">
            <a:hlinkClick r:id="rId10" action="ppaction://hlinksldjump"/>
          </p:cNvPr>
          <p:cNvSpPr/>
          <p:nvPr/>
        </p:nvSpPr>
        <p:spPr>
          <a:xfrm>
            <a:off x="5487840" y="2803680"/>
            <a:ext cx="182736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Rectangle 16">
            <a:hlinkClick r:id="rId11" action="ppaction://hlinksldjump"/>
          </p:cNvPr>
          <p:cNvSpPr/>
          <p:nvPr/>
        </p:nvSpPr>
        <p:spPr>
          <a:xfrm>
            <a:off x="3657600" y="2803680"/>
            <a:ext cx="183024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Rectangle 17">
            <a:hlinkClick r:id="rId12" action="ppaction://hlinksldjump"/>
          </p:cNvPr>
          <p:cNvSpPr/>
          <p:nvPr/>
        </p:nvSpPr>
        <p:spPr>
          <a:xfrm>
            <a:off x="1828800" y="2803680"/>
            <a:ext cx="182736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0" y="2803680"/>
            <a:ext cx="182880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ИТЕРА-ТУР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Rectangle 19">
            <a:hlinkClick r:id="rId13" action="ppaction://hlinksldjump"/>
          </p:cNvPr>
          <p:cNvSpPr/>
          <p:nvPr/>
        </p:nvSpPr>
        <p:spPr>
          <a:xfrm>
            <a:off x="7315200" y="1631880"/>
            <a:ext cx="182880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Rectangle 20">
            <a:hlinkClick r:id="rId14" action="ppaction://hlinksldjump"/>
          </p:cNvPr>
          <p:cNvSpPr/>
          <p:nvPr/>
        </p:nvSpPr>
        <p:spPr>
          <a:xfrm>
            <a:off x="5487840" y="1631880"/>
            <a:ext cx="182736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Rectangle 21">
            <a:hlinkClick r:id="rId15" action="ppaction://hlinksldjump"/>
          </p:cNvPr>
          <p:cNvSpPr/>
          <p:nvPr/>
        </p:nvSpPr>
        <p:spPr>
          <a:xfrm>
            <a:off x="3656160" y="1631880"/>
            <a:ext cx="183168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1828800" y="1631880"/>
            <a:ext cx="182736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0" y="1631880"/>
            <a:ext cx="182880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АТЕ-МАТИК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7315200" y="457200"/>
            <a:ext cx="1828800" cy="1174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5487840" y="457200"/>
            <a:ext cx="1827360" cy="1174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3656160" y="457200"/>
            <a:ext cx="1831680" cy="1174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1828800" y="457200"/>
            <a:ext cx="1827360" cy="1042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Rectangle 28">
            <a:hlinkClick r:id="rId16"/>
          </p:cNvPr>
          <p:cNvSpPr/>
          <p:nvPr/>
        </p:nvSpPr>
        <p:spPr>
          <a:xfrm>
            <a:off x="0" y="457200"/>
            <a:ext cx="1828800" cy="1174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ФИЗИК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Line 29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Line 30"/>
          <p:cNvSpPr/>
          <p:nvPr/>
        </p:nvSpPr>
        <p:spPr>
          <a:xfrm>
            <a:off x="0" y="16318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Line 31"/>
          <p:cNvSpPr/>
          <p:nvPr/>
        </p:nvSpPr>
        <p:spPr>
          <a:xfrm>
            <a:off x="0" y="28036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0" y="397836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Line 33"/>
          <p:cNvSpPr/>
          <p:nvPr/>
        </p:nvSpPr>
        <p:spPr>
          <a:xfrm>
            <a:off x="0" y="51498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0" y="457200"/>
            <a:ext cx="0" cy="5867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Line 36"/>
          <p:cNvSpPr/>
          <p:nvPr/>
        </p:nvSpPr>
        <p:spPr>
          <a:xfrm>
            <a:off x="198108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Line 37"/>
          <p:cNvSpPr/>
          <p:nvPr/>
        </p:nvSpPr>
        <p:spPr>
          <a:xfrm>
            <a:off x="365616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Line 38"/>
          <p:cNvSpPr/>
          <p:nvPr/>
        </p:nvSpPr>
        <p:spPr>
          <a:xfrm>
            <a:off x="548784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Line 39"/>
          <p:cNvSpPr/>
          <p:nvPr/>
        </p:nvSpPr>
        <p:spPr>
          <a:xfrm>
            <a:off x="731520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Line 40"/>
          <p:cNvSpPr/>
          <p:nvPr/>
        </p:nvSpPr>
        <p:spPr>
          <a:xfrm>
            <a:off x="9144000" y="457200"/>
            <a:ext cx="0" cy="5867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.С. Пушкин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7772400" y="57150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3837"/>
                </a:moveTo>
                <a:lnTo>
                  <a:pt x="15536" y="6448"/>
                </a:lnTo>
                <a:lnTo>
                  <a:pt x="15536" y="4707"/>
                </a:lnTo>
                <a:lnTo>
                  <a:pt x="17311" y="4707"/>
                </a:lnTo>
                <a:lnTo>
                  <a:pt x="17311" y="8224"/>
                </a:lnTo>
                <a:lnTo>
                  <a:pt x="19922" y="10800"/>
                </a:lnTo>
                <a:lnTo>
                  <a:pt x="18269" y="10800"/>
                </a:lnTo>
                <a:lnTo>
                  <a:pt x="18269" y="17989"/>
                </a:lnTo>
                <a:lnTo>
                  <a:pt x="7650" y="17989"/>
                </a:lnTo>
                <a:lnTo>
                  <a:pt x="7650" y="10800"/>
                </a:lnTo>
                <a:lnTo>
                  <a:pt x="5996" y="10800"/>
                </a:lnTo>
                <a:close/>
              </a:path>
              <a:path fill="darkenLess" w="25919" h="21600">
                <a:moveTo>
                  <a:pt x="15536" y="6448"/>
                </a:moveTo>
                <a:lnTo>
                  <a:pt x="15536" y="4707"/>
                </a:lnTo>
                <a:lnTo>
                  <a:pt x="17311" y="4707"/>
                </a:lnTo>
                <a:lnTo>
                  <a:pt x="17311" y="8224"/>
                </a:lnTo>
                <a:close/>
              </a:path>
              <a:path fill="darkenLess" w="25919" h="21600">
                <a:moveTo>
                  <a:pt x="12037" y="14299"/>
                </a:moveTo>
                <a:lnTo>
                  <a:pt x="13882" y="14299"/>
                </a:lnTo>
                <a:lnTo>
                  <a:pt x="13882" y="17989"/>
                </a:lnTo>
                <a:lnTo>
                  <a:pt x="18269" y="17989"/>
                </a:lnTo>
                <a:lnTo>
                  <a:pt x="18269" y="10800"/>
                </a:lnTo>
                <a:lnTo>
                  <a:pt x="7650" y="10800"/>
                </a:lnTo>
                <a:lnTo>
                  <a:pt x="7650" y="17989"/>
                </a:lnTo>
                <a:lnTo>
                  <a:pt x="1203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Литература 50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Кто этот литературный герой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Его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родина — Англия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Он отличается завидным аппетитом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Один из его друзей — настоящая свинья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Он обычно говорит и поёт голосом  Евгения Леонов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ини - Пух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7620120" y="571500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итература 40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зовите настоящую  фамилию  Максима Горького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шков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итература 1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«Папа, отзовись!»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то был папой А. С. Пушкина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ергей Львович Пушки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7772400" y="57913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13886" y="3837"/>
                </a:moveTo>
                <a:lnTo>
                  <a:pt x="16463" y="6448"/>
                </a:lnTo>
                <a:lnTo>
                  <a:pt x="16463" y="4707"/>
                </a:lnTo>
                <a:lnTo>
                  <a:pt x="18238" y="4707"/>
                </a:lnTo>
                <a:lnTo>
                  <a:pt x="18238" y="8224"/>
                </a:lnTo>
                <a:lnTo>
                  <a:pt x="20849" y="10800"/>
                </a:lnTo>
                <a:lnTo>
                  <a:pt x="19195" y="10800"/>
                </a:lnTo>
                <a:lnTo>
                  <a:pt x="19195" y="17989"/>
                </a:lnTo>
                <a:lnTo>
                  <a:pt x="8577" y="17989"/>
                </a:lnTo>
                <a:lnTo>
                  <a:pt x="8577" y="10800"/>
                </a:lnTo>
                <a:lnTo>
                  <a:pt x="6923" y="10800"/>
                </a:lnTo>
                <a:close/>
              </a:path>
              <a:path fill="darkenLess" w="27772" h="21600">
                <a:moveTo>
                  <a:pt x="16463" y="6448"/>
                </a:moveTo>
                <a:lnTo>
                  <a:pt x="16463" y="4707"/>
                </a:lnTo>
                <a:lnTo>
                  <a:pt x="18238" y="4707"/>
                </a:lnTo>
                <a:lnTo>
                  <a:pt x="18238" y="8224"/>
                </a:lnTo>
                <a:close/>
              </a:path>
              <a:path fill="darkenLess" w="27772" h="21600">
                <a:moveTo>
                  <a:pt x="12964" y="14299"/>
                </a:moveTo>
                <a:lnTo>
                  <a:pt x="14809" y="14299"/>
                </a:lnTo>
                <a:lnTo>
                  <a:pt x="14809" y="17989"/>
                </a:lnTo>
                <a:lnTo>
                  <a:pt x="19195" y="17989"/>
                </a:lnTo>
                <a:lnTo>
                  <a:pt x="19195" y="10800"/>
                </a:lnTo>
                <a:lnTo>
                  <a:pt x="8577" y="10800"/>
                </a:lnTo>
                <a:lnTo>
                  <a:pt x="8577" y="17989"/>
                </a:lnTo>
                <a:lnTo>
                  <a:pt x="12964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тория 10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з-за какой женщины началась Троянская война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Елена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7848720" y="5867280"/>
            <a:ext cx="1295280" cy="99072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8238" h="21600">
                <a:moveTo>
                  <a:pt x="0" y="0"/>
                </a:moveTo>
                <a:lnTo>
                  <a:pt x="28238" y="0"/>
                </a:lnTo>
                <a:lnTo>
                  <a:pt x="28238" y="21600"/>
                </a:lnTo>
                <a:lnTo>
                  <a:pt x="0" y="21600"/>
                </a:lnTo>
                <a:close/>
              </a:path>
              <a:path fill="lightenLess" w="28238" h="21600">
                <a:moveTo>
                  <a:pt x="0" y="0"/>
                </a:moveTo>
                <a:lnTo>
                  <a:pt x="28238" y="0"/>
                </a:lnTo>
                <a:lnTo>
                  <a:pt x="26838" y="1400"/>
                </a:lnTo>
                <a:lnTo>
                  <a:pt x="1400" y="1400"/>
                </a:lnTo>
                <a:close/>
              </a:path>
              <a:path fill="darken" w="28238" h="21600">
                <a:moveTo>
                  <a:pt x="28238" y="0"/>
                </a:moveTo>
                <a:lnTo>
                  <a:pt x="28238" y="21600"/>
                </a:lnTo>
                <a:lnTo>
                  <a:pt x="26838" y="20200"/>
                </a:lnTo>
                <a:lnTo>
                  <a:pt x="26838" y="1400"/>
                </a:lnTo>
                <a:close/>
              </a:path>
              <a:path fill="darkenLess" w="28238" h="21600">
                <a:moveTo>
                  <a:pt x="28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8" y="20200"/>
                </a:lnTo>
                <a:close/>
              </a:path>
              <a:path fill="lighten" w="28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38" h="21600">
                <a:moveTo>
                  <a:pt x="14119" y="3837"/>
                </a:moveTo>
                <a:lnTo>
                  <a:pt x="16695" y="6448"/>
                </a:lnTo>
                <a:lnTo>
                  <a:pt x="16695" y="4707"/>
                </a:lnTo>
                <a:lnTo>
                  <a:pt x="18471" y="4707"/>
                </a:lnTo>
                <a:lnTo>
                  <a:pt x="18471" y="8224"/>
                </a:lnTo>
                <a:lnTo>
                  <a:pt x="21082" y="10800"/>
                </a:lnTo>
                <a:lnTo>
                  <a:pt x="19428" y="10800"/>
                </a:lnTo>
                <a:lnTo>
                  <a:pt x="19428" y="17989"/>
                </a:lnTo>
                <a:lnTo>
                  <a:pt x="8810" y="17989"/>
                </a:lnTo>
                <a:lnTo>
                  <a:pt x="8810" y="10800"/>
                </a:lnTo>
                <a:lnTo>
                  <a:pt x="7156" y="10800"/>
                </a:lnTo>
                <a:close/>
              </a:path>
              <a:path fill="darkenLess" w="28238" h="21600">
                <a:moveTo>
                  <a:pt x="16695" y="6448"/>
                </a:moveTo>
                <a:lnTo>
                  <a:pt x="16695" y="4707"/>
                </a:lnTo>
                <a:lnTo>
                  <a:pt x="18471" y="4707"/>
                </a:lnTo>
                <a:lnTo>
                  <a:pt x="18471" y="8224"/>
                </a:lnTo>
                <a:close/>
              </a:path>
              <a:path fill="darkenLess" w="28238" h="21600">
                <a:moveTo>
                  <a:pt x="13196" y="14299"/>
                </a:moveTo>
                <a:lnTo>
                  <a:pt x="15041" y="14299"/>
                </a:lnTo>
                <a:lnTo>
                  <a:pt x="15041" y="17989"/>
                </a:lnTo>
                <a:lnTo>
                  <a:pt x="19428" y="17989"/>
                </a:lnTo>
                <a:lnTo>
                  <a:pt x="19428" y="10800"/>
                </a:lnTo>
                <a:lnTo>
                  <a:pt x="8810" y="10800"/>
                </a:lnTo>
                <a:lnTo>
                  <a:pt x="8810" y="17989"/>
                </a:lnTo>
                <a:lnTo>
                  <a:pt x="13196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тория 5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зовите имя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 истории России их было трое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 второй, и третий были внуками первого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 то, чтобы зваться третьим, было много претендентов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рвого прозвали Великий.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Физика 100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то из великих мудрецов сказал : «Дайте мне точку опоры и я переверну Землю»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А) Аристотель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В) Архимед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С) Евклид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Д) Пифагор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133720" y="2514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3886200" y="59436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1619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2396" h="21600">
                <a:moveTo>
                  <a:pt x="17303" y="14281"/>
                </a:moveTo>
                <a:lnTo>
                  <a:pt x="17303" y="12323"/>
                </a:lnTo>
                <a:cubicBezTo>
                  <a:pt x="17303" y="11496"/>
                  <a:pt x="17634" y="10800"/>
                  <a:pt x="18235" y="10800"/>
                </a:cubicBezTo>
                <a:cubicBezTo>
                  <a:pt x="19366" y="10800"/>
                  <a:pt x="20263" y="9434"/>
                  <a:pt x="20263" y="7849"/>
                </a:cubicBezTo>
                <a:cubicBezTo>
                  <a:pt x="20263" y="5534"/>
                  <a:pt x="18409" y="3794"/>
                  <a:pt x="16198" y="3794"/>
                </a:cubicBezTo>
                <a:cubicBezTo>
                  <a:pt x="13987" y="3794"/>
                  <a:pt x="12316" y="5534"/>
                  <a:pt x="12316" y="7849"/>
                </a:cubicBezTo>
                <a:lnTo>
                  <a:pt x="14170" y="7849"/>
                </a:lnTo>
                <a:cubicBezTo>
                  <a:pt x="14170" y="6709"/>
                  <a:pt x="15093" y="5821"/>
                  <a:pt x="16198" y="5821"/>
                </a:cubicBezTo>
                <a:cubicBezTo>
                  <a:pt x="17303" y="5821"/>
                  <a:pt x="18235" y="6709"/>
                  <a:pt x="18235" y="7849"/>
                </a:cubicBezTo>
                <a:cubicBezTo>
                  <a:pt x="18235" y="8589"/>
                  <a:pt x="17765" y="9320"/>
                  <a:pt x="17303" y="9320"/>
                </a:cubicBezTo>
                <a:cubicBezTo>
                  <a:pt x="16198" y="9320"/>
                  <a:pt x="15093" y="10800"/>
                  <a:pt x="15093" y="12323"/>
                </a:cubicBezTo>
                <a:lnTo>
                  <a:pt x="15093" y="1428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AutoShape 8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тр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8001000" y="57913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11572" y="3837"/>
                </a:moveTo>
                <a:lnTo>
                  <a:pt x="14149" y="6448"/>
                </a:ln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lnTo>
                  <a:pt x="18535" y="10800"/>
                </a:lnTo>
                <a:lnTo>
                  <a:pt x="16882" y="10800"/>
                </a:lnTo>
                <a:lnTo>
                  <a:pt x="16882" y="17989"/>
                </a:lnTo>
                <a:lnTo>
                  <a:pt x="6263" y="17989"/>
                </a:lnTo>
                <a:lnTo>
                  <a:pt x="6263" y="10800"/>
                </a:lnTo>
                <a:lnTo>
                  <a:pt x="4610" y="10800"/>
                </a:lnTo>
                <a:close/>
              </a:path>
              <a:path fill="darkenLess" w="23145" h="21600">
                <a:moveTo>
                  <a:pt x="14149" y="6448"/>
                </a:move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close/>
              </a:path>
              <a:path fill="darkenLess" w="23145" h="21600">
                <a:moveTo>
                  <a:pt x="10650" y="14299"/>
                </a:moveTo>
                <a:lnTo>
                  <a:pt x="12495" y="14299"/>
                </a:lnTo>
                <a:lnTo>
                  <a:pt x="12495" y="17989"/>
                </a:lnTo>
                <a:lnTo>
                  <a:pt x="16882" y="17989"/>
                </a:lnTo>
                <a:lnTo>
                  <a:pt x="16882" y="10800"/>
                </a:lnTo>
                <a:lnTo>
                  <a:pt x="6263" y="10800"/>
                </a:lnTo>
                <a:lnTo>
                  <a:pt x="6263" y="17989"/>
                </a:lnTo>
                <a:lnTo>
                  <a:pt x="10650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ИСТОРИЯ 40</a:t>
            </a:r>
            <a:br>
              <a:rPr sz="44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сле победы над царём Фарнаком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Юлий Цезарь в своём  сообщении из 3 слов не использовал слово: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А) увидел;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Б) напал;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) победил;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Г) пришёл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AutoShape 4">
            <a:hlinkClick r:id="" action="ppaction://hlinkshowjump?jump=nextslide"/>
          </p:cNvPr>
          <p:cNvSpPr/>
          <p:nvPr/>
        </p:nvSpPr>
        <p:spPr>
          <a:xfrm>
            <a:off x="426708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2390" h="21600">
                <a:moveTo>
                  <a:pt x="17300" y="14281"/>
                </a:moveTo>
                <a:lnTo>
                  <a:pt x="17300" y="12323"/>
                </a:lnTo>
                <a:cubicBezTo>
                  <a:pt x="17300" y="11496"/>
                  <a:pt x="17631" y="10800"/>
                  <a:pt x="18232" y="10800"/>
                </a:cubicBezTo>
                <a:cubicBezTo>
                  <a:pt x="19363" y="10800"/>
                  <a:pt x="20260" y="9434"/>
                  <a:pt x="20260" y="7849"/>
                </a:cubicBezTo>
                <a:cubicBezTo>
                  <a:pt x="20260" y="5534"/>
                  <a:pt x="18406" y="3794"/>
                  <a:pt x="16195" y="3794"/>
                </a:cubicBezTo>
                <a:cubicBezTo>
                  <a:pt x="13984" y="3794"/>
                  <a:pt x="12313" y="5534"/>
                  <a:pt x="12313" y="7849"/>
                </a:cubicBezTo>
                <a:lnTo>
                  <a:pt x="14167" y="7849"/>
                </a:lnTo>
                <a:cubicBezTo>
                  <a:pt x="14167" y="6709"/>
                  <a:pt x="15090" y="5821"/>
                  <a:pt x="16195" y="5821"/>
                </a:cubicBezTo>
                <a:cubicBezTo>
                  <a:pt x="17300" y="5821"/>
                  <a:pt x="18232" y="6709"/>
                  <a:pt x="18232" y="7849"/>
                </a:cubicBezTo>
                <a:cubicBezTo>
                  <a:pt x="18232" y="8589"/>
                  <a:pt x="17762" y="9320"/>
                  <a:pt x="17300" y="9320"/>
                </a:cubicBezTo>
                <a:cubicBezTo>
                  <a:pt x="16195" y="9320"/>
                  <a:pt x="15090" y="10800"/>
                  <a:pt x="15090" y="12323"/>
                </a:cubicBezTo>
                <a:lnTo>
                  <a:pt x="15090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па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7924680" y="5943600"/>
            <a:ext cx="1219320" cy="914400"/>
          </a:xfrm>
          <a:custGeom>
            <a:avLst/>
            <a:gdLst>
              <a:gd name="textAreaLeft" fmla="*/ 59040 w 1219320"/>
              <a:gd name="textAreaRight" fmla="*/ 1160280 w 1219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История 1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то поднял восстание рабов в 73-71 гг. до н.э.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) Спартак;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Б) Зенит;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) Реал;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) Ювентус.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AutoShape 4">
            <a:hlinkClick r:id="" action="ppaction://hlinkshowjump?jump=nextslide"/>
          </p:cNvPr>
          <p:cNvSpPr/>
          <p:nvPr/>
        </p:nvSpPr>
        <p:spPr>
          <a:xfrm>
            <a:off x="426708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2390" h="21600">
                <a:moveTo>
                  <a:pt x="17300" y="14281"/>
                </a:moveTo>
                <a:lnTo>
                  <a:pt x="17300" y="12323"/>
                </a:lnTo>
                <a:cubicBezTo>
                  <a:pt x="17300" y="11496"/>
                  <a:pt x="17631" y="10800"/>
                  <a:pt x="18232" y="10800"/>
                </a:cubicBezTo>
                <a:cubicBezTo>
                  <a:pt x="19363" y="10800"/>
                  <a:pt x="20260" y="9434"/>
                  <a:pt x="20260" y="7849"/>
                </a:cubicBezTo>
                <a:cubicBezTo>
                  <a:pt x="20260" y="5534"/>
                  <a:pt x="18406" y="3794"/>
                  <a:pt x="16195" y="3794"/>
                </a:cubicBezTo>
                <a:cubicBezTo>
                  <a:pt x="13984" y="3794"/>
                  <a:pt x="12313" y="5534"/>
                  <a:pt x="12313" y="7849"/>
                </a:cubicBezTo>
                <a:lnTo>
                  <a:pt x="14167" y="7849"/>
                </a:lnTo>
                <a:cubicBezTo>
                  <a:pt x="14167" y="6709"/>
                  <a:pt x="15090" y="5821"/>
                  <a:pt x="16195" y="5821"/>
                </a:cubicBezTo>
                <a:cubicBezTo>
                  <a:pt x="17300" y="5821"/>
                  <a:pt x="18232" y="6709"/>
                  <a:pt x="18232" y="7849"/>
                </a:cubicBezTo>
                <a:cubicBezTo>
                  <a:pt x="18232" y="8589"/>
                  <a:pt x="17762" y="9320"/>
                  <a:pt x="17300" y="9320"/>
                </a:cubicBezTo>
                <a:cubicBezTo>
                  <a:pt x="16195" y="9320"/>
                  <a:pt x="15090" y="10800"/>
                  <a:pt x="15090" y="12323"/>
                </a:cubicBezTo>
                <a:lnTo>
                  <a:pt x="15090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) Спартак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7620120" y="57150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11518" y="3837"/>
                </a:moveTo>
                <a:lnTo>
                  <a:pt x="14094" y="6448"/>
                </a:lnTo>
                <a:lnTo>
                  <a:pt x="14094" y="4707"/>
                </a:lnTo>
                <a:lnTo>
                  <a:pt x="15869" y="4707"/>
                </a:lnTo>
                <a:lnTo>
                  <a:pt x="15869" y="8224"/>
                </a:lnTo>
                <a:lnTo>
                  <a:pt x="18480" y="10800"/>
                </a:lnTo>
                <a:lnTo>
                  <a:pt x="16827" y="10800"/>
                </a:lnTo>
                <a:lnTo>
                  <a:pt x="16827" y="17989"/>
                </a:lnTo>
                <a:lnTo>
                  <a:pt x="6208" y="17989"/>
                </a:lnTo>
                <a:lnTo>
                  <a:pt x="6208" y="10800"/>
                </a:lnTo>
                <a:lnTo>
                  <a:pt x="4555" y="10800"/>
                </a:lnTo>
                <a:close/>
              </a:path>
              <a:path fill="darkenLess" w="23035" h="21600">
                <a:moveTo>
                  <a:pt x="14094" y="6448"/>
                </a:moveTo>
                <a:lnTo>
                  <a:pt x="14094" y="4707"/>
                </a:lnTo>
                <a:lnTo>
                  <a:pt x="15869" y="4707"/>
                </a:lnTo>
                <a:lnTo>
                  <a:pt x="15869" y="8224"/>
                </a:lnTo>
                <a:close/>
              </a:path>
              <a:path fill="darkenLess" w="23035" h="21600">
                <a:moveTo>
                  <a:pt x="10595" y="14299"/>
                </a:moveTo>
                <a:lnTo>
                  <a:pt x="12440" y="14299"/>
                </a:lnTo>
                <a:lnTo>
                  <a:pt x="12440" y="17989"/>
                </a:lnTo>
                <a:lnTo>
                  <a:pt x="16827" y="17989"/>
                </a:lnTo>
                <a:lnTo>
                  <a:pt x="16827" y="10800"/>
                </a:lnTo>
                <a:lnTo>
                  <a:pt x="6208" y="10800"/>
                </a:lnTo>
                <a:lnTo>
                  <a:pt x="6208" y="17989"/>
                </a:lnTo>
                <a:lnTo>
                  <a:pt x="10595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нформатика100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 музее компьютеров в Мальборо (США) можно видеть блок памяти одного из первых компьютеров, построенных в 50-х годах. Рядом с ними микросхема с тем же объёмом памяти. Назовите  третий предмет этой экспозиции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AutoShape 4">
            <a:hlinkClick r:id="" action="ppaction://hlinkshowjump?jump=nextslide"/>
          </p:cNvPr>
          <p:cNvSpPr/>
          <p:nvPr/>
        </p:nvSpPr>
        <p:spPr>
          <a:xfrm>
            <a:off x="7924680" y="5943600"/>
            <a:ext cx="1219320" cy="914400"/>
          </a:xfrm>
          <a:custGeom>
            <a:avLst/>
            <a:gdLst>
              <a:gd name="textAreaLeft" fmla="*/ 59040 w 1219320"/>
              <a:gd name="textAreaRight" fmla="*/ 1160280 w 1219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00" h="21600">
                <a:moveTo>
                  <a:pt x="15505" y="14281"/>
                </a:moveTo>
                <a:lnTo>
                  <a:pt x="15505" y="12323"/>
                </a:lnTo>
                <a:cubicBezTo>
                  <a:pt x="15505" y="11496"/>
                  <a:pt x="15836" y="10800"/>
                  <a:pt x="16437" y="10800"/>
                </a:cubicBezTo>
                <a:cubicBezTo>
                  <a:pt x="17568" y="10800"/>
                  <a:pt x="18465" y="9434"/>
                  <a:pt x="18465" y="7849"/>
                </a:cubicBezTo>
                <a:cubicBezTo>
                  <a:pt x="18465" y="5534"/>
                  <a:pt x="16611" y="3794"/>
                  <a:pt x="14400" y="3794"/>
                </a:cubicBezTo>
                <a:cubicBezTo>
                  <a:pt x="12189" y="3794"/>
                  <a:pt x="10518" y="5534"/>
                  <a:pt x="10518" y="7849"/>
                </a:cubicBezTo>
                <a:lnTo>
                  <a:pt x="12372" y="7849"/>
                </a:lnTo>
                <a:cubicBezTo>
                  <a:pt x="12372" y="6709"/>
                  <a:pt x="13295" y="5821"/>
                  <a:pt x="14400" y="5821"/>
                </a:cubicBezTo>
                <a:cubicBezTo>
                  <a:pt x="15505" y="5821"/>
                  <a:pt x="16437" y="6709"/>
                  <a:pt x="16437" y="7849"/>
                </a:cubicBezTo>
                <a:cubicBezTo>
                  <a:pt x="16437" y="8589"/>
                  <a:pt x="15967" y="9320"/>
                  <a:pt x="15505" y="9320"/>
                </a:cubicBezTo>
                <a:cubicBezTo>
                  <a:pt x="14400" y="9320"/>
                  <a:pt x="13295" y="10800"/>
                  <a:pt x="13295" y="12323"/>
                </a:cubicBezTo>
                <a:lnTo>
                  <a:pt x="13295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микроско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7162920" y="5486400"/>
            <a:ext cx="990360" cy="106668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1066680"/>
              <a:gd name="textAreaBottom" fmla="*/ 1002600 h 1066680"/>
            </a:gdLst>
            <a:ahLst/>
            <a:rect l="textAreaLeft" t="textAreaTop" r="textAreaRight" b="textAreaBottom"/>
            <a:pathLst>
              <a:path w="21600" h="23264">
                <a:moveTo>
                  <a:pt x="0" y="0"/>
                </a:moveTo>
                <a:lnTo>
                  <a:pt x="21600" y="0"/>
                </a:lnTo>
                <a:lnTo>
                  <a:pt x="21600" y="23264"/>
                </a:lnTo>
                <a:lnTo>
                  <a:pt x="0" y="23264"/>
                </a:lnTo>
                <a:close/>
              </a:path>
              <a:path fill="lightenLess" w="21600" h="232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64">
                <a:moveTo>
                  <a:pt x="21600" y="0"/>
                </a:moveTo>
                <a:lnTo>
                  <a:pt x="21600" y="23264"/>
                </a:lnTo>
                <a:lnTo>
                  <a:pt x="20200" y="21864"/>
                </a:lnTo>
                <a:lnTo>
                  <a:pt x="20200" y="1400"/>
                </a:lnTo>
                <a:close/>
              </a:path>
              <a:path fill="darkenLess" w="21600" h="23264">
                <a:moveTo>
                  <a:pt x="21600" y="23264"/>
                </a:moveTo>
                <a:lnTo>
                  <a:pt x="0" y="23264"/>
                </a:lnTo>
                <a:lnTo>
                  <a:pt x="1400" y="21864"/>
                </a:lnTo>
                <a:lnTo>
                  <a:pt x="20200" y="21864"/>
                </a:lnTo>
                <a:close/>
              </a:path>
              <a:path fill="lighten" w="21600" h="23264">
                <a:moveTo>
                  <a:pt x="0" y="232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64"/>
                </a:lnTo>
                <a:close/>
              </a:path>
              <a:path fill="darken" w="21600" h="23264">
                <a:moveTo>
                  <a:pt x="10800" y="4669"/>
                </a:moveTo>
                <a:lnTo>
                  <a:pt x="13376" y="7280"/>
                </a:ln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lnTo>
                  <a:pt x="17763" y="11632"/>
                </a:lnTo>
                <a:lnTo>
                  <a:pt x="16109" y="11632"/>
                </a:lnTo>
                <a:lnTo>
                  <a:pt x="16109" y="18821"/>
                </a:lnTo>
                <a:lnTo>
                  <a:pt x="5491" y="18821"/>
                </a:lnTo>
                <a:lnTo>
                  <a:pt x="5491" y="11632"/>
                </a:lnTo>
                <a:lnTo>
                  <a:pt x="3837" y="11632"/>
                </a:lnTo>
                <a:close/>
              </a:path>
              <a:path fill="darkenLess" w="21600" h="23264">
                <a:moveTo>
                  <a:pt x="13376" y="7280"/>
                </a:move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close/>
              </a:path>
              <a:path fill="darkenLess" w="21600" h="23264">
                <a:moveTo>
                  <a:pt x="9877" y="15131"/>
                </a:moveTo>
                <a:lnTo>
                  <a:pt x="11723" y="15131"/>
                </a:lnTo>
                <a:lnTo>
                  <a:pt x="11723" y="18821"/>
                </a:lnTo>
                <a:lnTo>
                  <a:pt x="16109" y="18821"/>
                </a:lnTo>
                <a:lnTo>
                  <a:pt x="16109" y="11632"/>
                </a:lnTo>
                <a:lnTo>
                  <a:pt x="5491" y="11632"/>
                </a:lnTo>
                <a:lnTo>
                  <a:pt x="5491" y="18821"/>
                </a:lnTo>
                <a:lnTo>
                  <a:pt x="9877" y="1882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Информатика 50</a:t>
            </a:r>
            <a:br>
              <a:rPr sz="36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ВА НЕ ЕСТ КОРМ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Т, ТАК НАМ СОВСЕМНЕ РЕЗОН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АРКОМ ВЕДЁТ ТОРТ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РОЗЕТКА НЕ ЗАМКНЁТ ТОК.</a:t>
            </a:r>
            <a:br>
              <a:rPr sz="32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а первый взгляд  единственное, что их объединяет, — это то, что все они на русском языке. Однако если вы попробуете набрать эти фразы на  клавиатуре компьютера,  то обнаружите еще одну общую  черту этих фраз. Какую?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AutoShape 4">
            <a:hlinkClick r:id="" action="ppaction://hlinkshowjump?jump=nextslide"/>
          </p:cNvPr>
          <p:cNvSpPr/>
          <p:nvPr/>
        </p:nvSpPr>
        <p:spPr>
          <a:xfrm>
            <a:off x="8001000" y="59436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34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98" h="21600">
                <a:moveTo>
                  <a:pt x="14604" y="14281"/>
                </a:moveTo>
                <a:lnTo>
                  <a:pt x="14604" y="12323"/>
                </a:lnTo>
                <a:cubicBezTo>
                  <a:pt x="14604" y="11496"/>
                  <a:pt x="14935" y="10800"/>
                  <a:pt x="15536" y="10800"/>
                </a:cubicBezTo>
                <a:cubicBezTo>
                  <a:pt x="16667" y="10800"/>
                  <a:pt x="17564" y="9434"/>
                  <a:pt x="17564" y="7849"/>
                </a:cubicBezTo>
                <a:cubicBezTo>
                  <a:pt x="17564" y="5534"/>
                  <a:pt x="15710" y="3794"/>
                  <a:pt x="13499" y="3794"/>
                </a:cubicBezTo>
                <a:cubicBezTo>
                  <a:pt x="11288" y="3794"/>
                  <a:pt x="9617" y="5534"/>
                  <a:pt x="9617" y="7849"/>
                </a:cubicBezTo>
                <a:lnTo>
                  <a:pt x="11471" y="7849"/>
                </a:lnTo>
                <a:cubicBezTo>
                  <a:pt x="11471" y="6709"/>
                  <a:pt x="12394" y="5821"/>
                  <a:pt x="13499" y="5821"/>
                </a:cubicBezTo>
                <a:cubicBezTo>
                  <a:pt x="14604" y="5821"/>
                  <a:pt x="15536" y="6709"/>
                  <a:pt x="15536" y="7849"/>
                </a:cubicBezTo>
                <a:cubicBezTo>
                  <a:pt x="15536" y="8589"/>
                  <a:pt x="15066" y="9320"/>
                  <a:pt x="14604" y="9320"/>
                </a:cubicBezTo>
                <a:cubicBezTo>
                  <a:pt x="13499" y="9320"/>
                  <a:pt x="12394" y="10800"/>
                  <a:pt x="12394" y="12323"/>
                </a:cubicBezTo>
                <a:lnTo>
                  <a:pt x="1239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3"/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14400" y="838080"/>
            <a:ext cx="7696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и фразы можно набрать на  нерусифицированной клавиатуре, ограничившись заглавными латинскими  А, В, Е, К, М, Н, О, Р, С, Т, Х и цифрой 3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-380880"/>
            <a:ext cx="830556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нформатика 1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Скажите, пожалуйста: какую техническую процедуру часто проделывают и с почтовыми конвертами,  и с набранным на компьютере текстом ,и  даже с футбольными воротами?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AutoShape 3">
            <a:hlinkClick r:id="" action="ppaction://hlinkshowjump?jump=nextslide"/>
          </p:cNvPr>
          <p:cNvSpPr/>
          <p:nvPr/>
        </p:nvSpPr>
        <p:spPr>
          <a:xfrm>
            <a:off x="411480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37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89" h="21600">
                <a:moveTo>
                  <a:pt x="14850" y="14281"/>
                </a:moveTo>
                <a:lnTo>
                  <a:pt x="14850" y="12323"/>
                </a:lnTo>
                <a:cubicBezTo>
                  <a:pt x="14850" y="11496"/>
                  <a:pt x="15181" y="10800"/>
                  <a:pt x="15781" y="10800"/>
                </a:cubicBezTo>
                <a:cubicBezTo>
                  <a:pt x="16913" y="10800"/>
                  <a:pt x="17809" y="9434"/>
                  <a:pt x="17809" y="7849"/>
                </a:cubicBezTo>
                <a:cubicBezTo>
                  <a:pt x="17809" y="5534"/>
                  <a:pt x="15955" y="3794"/>
                  <a:pt x="13745" y="3794"/>
                </a:cubicBezTo>
                <a:cubicBezTo>
                  <a:pt x="11534" y="3794"/>
                  <a:pt x="9863" y="5534"/>
                  <a:pt x="9863" y="7849"/>
                </a:cubicBezTo>
                <a:lnTo>
                  <a:pt x="11717" y="7849"/>
                </a:lnTo>
                <a:cubicBezTo>
                  <a:pt x="11717" y="6709"/>
                  <a:pt x="12639" y="5821"/>
                  <a:pt x="13745" y="5821"/>
                </a:cubicBezTo>
                <a:cubicBezTo>
                  <a:pt x="14850" y="5821"/>
                  <a:pt x="15781" y="6709"/>
                  <a:pt x="15781" y="7849"/>
                </a:cubicBezTo>
                <a:cubicBezTo>
                  <a:pt x="15781" y="8589"/>
                  <a:pt x="15311" y="9320"/>
                  <a:pt x="14850" y="9320"/>
                </a:cubicBezTo>
                <a:cubicBezTo>
                  <a:pt x="13745" y="9320"/>
                  <a:pt x="12639" y="10800"/>
                  <a:pt x="12639" y="12323"/>
                </a:cubicBezTo>
                <a:lnTo>
                  <a:pt x="12639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056040" y="271296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В) Архимед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7162920" y="541008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10800" y="4738"/>
                </a:moveTo>
                <a:lnTo>
                  <a:pt x="13376" y="7349"/>
                </a:lnTo>
                <a:lnTo>
                  <a:pt x="13376" y="5608"/>
                </a:lnTo>
                <a:lnTo>
                  <a:pt x="15152" y="5608"/>
                </a:lnTo>
                <a:lnTo>
                  <a:pt x="15152" y="9125"/>
                </a:lnTo>
                <a:lnTo>
                  <a:pt x="17763" y="11701"/>
                </a:lnTo>
                <a:lnTo>
                  <a:pt x="16109" y="11701"/>
                </a:lnTo>
                <a:lnTo>
                  <a:pt x="16109" y="18890"/>
                </a:lnTo>
                <a:lnTo>
                  <a:pt x="5491" y="18890"/>
                </a:lnTo>
                <a:lnTo>
                  <a:pt x="5491" y="11701"/>
                </a:lnTo>
                <a:lnTo>
                  <a:pt x="3837" y="11701"/>
                </a:lnTo>
                <a:close/>
              </a:path>
              <a:path fill="darkenLess" w="21600" h="23402">
                <a:moveTo>
                  <a:pt x="13376" y="7349"/>
                </a:moveTo>
                <a:lnTo>
                  <a:pt x="13376" y="5608"/>
                </a:lnTo>
                <a:lnTo>
                  <a:pt x="15152" y="5608"/>
                </a:lnTo>
                <a:lnTo>
                  <a:pt x="15152" y="9125"/>
                </a:lnTo>
                <a:close/>
              </a:path>
              <a:path fill="darkenLess" w="21600" h="23402">
                <a:moveTo>
                  <a:pt x="9877" y="15200"/>
                </a:moveTo>
                <a:lnTo>
                  <a:pt x="11723" y="15200"/>
                </a:lnTo>
                <a:lnTo>
                  <a:pt x="11723" y="18890"/>
                </a:lnTo>
                <a:lnTo>
                  <a:pt x="16109" y="18890"/>
                </a:lnTo>
                <a:lnTo>
                  <a:pt x="16109" y="11701"/>
                </a:lnTo>
                <a:lnTo>
                  <a:pt x="5491" y="11701"/>
                </a:lnTo>
                <a:lnTo>
                  <a:pt x="5491" y="18890"/>
                </a:lnTo>
                <a:lnTo>
                  <a:pt x="9877" y="1889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аспечатывание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943600"/>
          </a:xfrm>
          <a:prstGeom prst="rect">
            <a:avLst/>
          </a:prstGeom>
          <a:solidFill>
            <a:srgbClr val="000080"/>
          </a:solidFill>
          <a:ln w="93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нформатика 4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 Средние века их изготовляли из хрусталя и специальным образом дробленого мрамора. Их специальные модели носили, прикрепляя к колену. Сейчас в быту они почти не встречаются, правда, любители компьютеров их видят очень часто. О чем идёт речь?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AutoShape 4">
            <a:hlinkClick r:id="" action="ppaction://hlinkshowjump?jump=nextslide"/>
          </p:cNvPr>
          <p:cNvSpPr/>
          <p:nvPr/>
        </p:nvSpPr>
        <p:spPr>
          <a:xfrm>
            <a:off x="8001000" y="59436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34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98" h="21600">
                <a:moveTo>
                  <a:pt x="14604" y="14281"/>
                </a:moveTo>
                <a:lnTo>
                  <a:pt x="14604" y="12323"/>
                </a:lnTo>
                <a:cubicBezTo>
                  <a:pt x="14604" y="11496"/>
                  <a:pt x="14935" y="10800"/>
                  <a:pt x="15536" y="10800"/>
                </a:cubicBezTo>
                <a:cubicBezTo>
                  <a:pt x="16667" y="10800"/>
                  <a:pt x="17564" y="9434"/>
                  <a:pt x="17564" y="7849"/>
                </a:cubicBezTo>
                <a:cubicBezTo>
                  <a:pt x="17564" y="5534"/>
                  <a:pt x="15710" y="3794"/>
                  <a:pt x="13499" y="3794"/>
                </a:cubicBezTo>
                <a:cubicBezTo>
                  <a:pt x="11288" y="3794"/>
                  <a:pt x="9617" y="5534"/>
                  <a:pt x="9617" y="7849"/>
                </a:cubicBezTo>
                <a:lnTo>
                  <a:pt x="11471" y="7849"/>
                </a:lnTo>
                <a:cubicBezTo>
                  <a:pt x="11471" y="6709"/>
                  <a:pt x="12394" y="5821"/>
                  <a:pt x="13499" y="5821"/>
                </a:cubicBezTo>
                <a:cubicBezTo>
                  <a:pt x="14604" y="5821"/>
                  <a:pt x="15536" y="6709"/>
                  <a:pt x="15536" y="7849"/>
                </a:cubicBezTo>
                <a:cubicBezTo>
                  <a:pt x="15536" y="8589"/>
                  <a:pt x="15066" y="9320"/>
                  <a:pt x="14604" y="9320"/>
                </a:cubicBezTo>
                <a:cubicBezTo>
                  <a:pt x="13499" y="9320"/>
                  <a:pt x="12394" y="10800"/>
                  <a:pt x="12394" y="12323"/>
                </a:cubicBezTo>
                <a:lnTo>
                  <a:pt x="1239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сочные час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7924680" y="571500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11521" y="3837"/>
                </a:moveTo>
                <a:lnTo>
                  <a:pt x="14097" y="6448"/>
                </a:ln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lnTo>
                  <a:pt x="18484" y="10800"/>
                </a:lnTo>
                <a:lnTo>
                  <a:pt x="16830" y="10800"/>
                </a:lnTo>
                <a:lnTo>
                  <a:pt x="16830" y="17989"/>
                </a:lnTo>
                <a:lnTo>
                  <a:pt x="6212" y="17989"/>
                </a:lnTo>
                <a:lnTo>
                  <a:pt x="6212" y="10800"/>
                </a:lnTo>
                <a:lnTo>
                  <a:pt x="4558" y="10800"/>
                </a:lnTo>
                <a:close/>
              </a:path>
              <a:path fill="darkenLess" w="23042" h="21600">
                <a:moveTo>
                  <a:pt x="14097" y="6448"/>
                </a:move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close/>
              </a:path>
              <a:path fill="darkenLess" w="23042" h="21600">
                <a:moveTo>
                  <a:pt x="10598" y="14299"/>
                </a:moveTo>
                <a:lnTo>
                  <a:pt x="12443" y="14299"/>
                </a:lnTo>
                <a:lnTo>
                  <a:pt x="12443" y="17989"/>
                </a:lnTo>
                <a:lnTo>
                  <a:pt x="16830" y="17989"/>
                </a:lnTo>
                <a:lnTo>
                  <a:pt x="16830" y="10800"/>
                </a:lnTo>
                <a:lnTo>
                  <a:pt x="6212" y="10800"/>
                </a:lnTo>
                <a:lnTo>
                  <a:pt x="6212" y="17989"/>
                </a:lnTo>
                <a:lnTo>
                  <a:pt x="10598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ФИЗИКА 50</a:t>
            </a:r>
            <a:br>
              <a:rPr sz="4400"/>
            </a:br>
            <a:r>
              <a:rPr b="0" lang="ru-RU" sz="4400" spc="-1" strike="noStrike">
                <a:solidFill>
                  <a:srgbClr val="333300"/>
                </a:solidFill>
                <a:latin typeface="Times New Roman"/>
              </a:rPr>
              <a:t>Чьей температурной шкалой пользуются в США?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045160" y="3048120"/>
            <a:ext cx="50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шкалой Фаренгейта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AutoShape 5">
            <a:hlinkClick r:id="rId1"/>
          </p:cNvPr>
          <p:cNvSpPr/>
          <p:nvPr/>
        </p:nvSpPr>
        <p:spPr>
          <a:xfrm>
            <a:off x="7772400" y="5791320"/>
            <a:ext cx="914400" cy="106668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066680"/>
              <a:gd name="textAreaBottom" fmla="*/ 1007640 h 1066680"/>
            </a:gdLst>
            <a:ahLst/>
            <a:rect l="textAreaLeft" t="textAreaTop" r="textAreaRight" b="textAreaBottom"/>
            <a:pathLst>
              <a:path w="21600" h="25196">
                <a:moveTo>
                  <a:pt x="0" y="0"/>
                </a:moveTo>
                <a:lnTo>
                  <a:pt x="21600" y="0"/>
                </a:lnTo>
                <a:lnTo>
                  <a:pt x="21600" y="25196"/>
                </a:lnTo>
                <a:lnTo>
                  <a:pt x="0" y="25196"/>
                </a:lnTo>
                <a:close/>
              </a:path>
              <a:path fill="lightenLess" w="21600" h="25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6">
                <a:moveTo>
                  <a:pt x="21600" y="0"/>
                </a:moveTo>
                <a:lnTo>
                  <a:pt x="21600" y="25196"/>
                </a:lnTo>
                <a:lnTo>
                  <a:pt x="20200" y="23796"/>
                </a:lnTo>
                <a:lnTo>
                  <a:pt x="20200" y="1400"/>
                </a:lnTo>
                <a:close/>
              </a:path>
              <a:path fill="darkenLess" w="21600" h="25196">
                <a:moveTo>
                  <a:pt x="21600" y="25196"/>
                </a:moveTo>
                <a:lnTo>
                  <a:pt x="0" y="25196"/>
                </a:lnTo>
                <a:lnTo>
                  <a:pt x="1400" y="23796"/>
                </a:lnTo>
                <a:lnTo>
                  <a:pt x="20200" y="23796"/>
                </a:lnTo>
                <a:close/>
              </a:path>
              <a:path fill="lighten" w="21600" h="25196">
                <a:moveTo>
                  <a:pt x="0" y="25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6"/>
                </a:lnTo>
                <a:close/>
              </a:path>
              <a:path fill="darken" w="21600" h="25196">
                <a:moveTo>
                  <a:pt x="10800" y="5635"/>
                </a:moveTo>
                <a:lnTo>
                  <a:pt x="13376" y="8246"/>
                </a:lnTo>
                <a:lnTo>
                  <a:pt x="13376" y="6505"/>
                </a:lnTo>
                <a:lnTo>
                  <a:pt x="15152" y="6505"/>
                </a:lnTo>
                <a:lnTo>
                  <a:pt x="15152" y="10022"/>
                </a:lnTo>
                <a:lnTo>
                  <a:pt x="17763" y="12598"/>
                </a:lnTo>
                <a:lnTo>
                  <a:pt x="16109" y="12598"/>
                </a:lnTo>
                <a:lnTo>
                  <a:pt x="16109" y="19787"/>
                </a:lnTo>
                <a:lnTo>
                  <a:pt x="5491" y="19787"/>
                </a:lnTo>
                <a:lnTo>
                  <a:pt x="5491" y="12598"/>
                </a:lnTo>
                <a:lnTo>
                  <a:pt x="3837" y="12598"/>
                </a:lnTo>
                <a:close/>
              </a:path>
              <a:path fill="darkenLess" w="21600" h="25196">
                <a:moveTo>
                  <a:pt x="13376" y="8246"/>
                </a:moveTo>
                <a:lnTo>
                  <a:pt x="13376" y="6505"/>
                </a:lnTo>
                <a:lnTo>
                  <a:pt x="15152" y="6505"/>
                </a:lnTo>
                <a:lnTo>
                  <a:pt x="15152" y="10022"/>
                </a:lnTo>
                <a:close/>
              </a:path>
              <a:path fill="darkenLess" w="21600" h="25196">
                <a:moveTo>
                  <a:pt x="9877" y="16097"/>
                </a:moveTo>
                <a:lnTo>
                  <a:pt x="11723" y="16097"/>
                </a:lnTo>
                <a:lnTo>
                  <a:pt x="11723" y="19787"/>
                </a:lnTo>
                <a:lnTo>
                  <a:pt x="16109" y="19787"/>
                </a:lnTo>
                <a:lnTo>
                  <a:pt x="16109" y="12598"/>
                </a:lnTo>
                <a:lnTo>
                  <a:pt x="5491" y="12598"/>
                </a:lnTo>
                <a:lnTo>
                  <a:pt x="5491" y="19787"/>
                </a:lnTo>
                <a:lnTo>
                  <a:pt x="9877" y="19787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Физика 4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то из ученых был основоположником научного эксперимента в физике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) </a:t>
            </a: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Галилей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В) Ньютон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С)Архимед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Д) Ломоносов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4267080" y="5562720"/>
            <a:ext cx="1067040" cy="99036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72" h="21600">
                <a:moveTo>
                  <a:pt x="0" y="0"/>
                </a:moveTo>
                <a:lnTo>
                  <a:pt x="23272" y="0"/>
                </a:lnTo>
                <a:lnTo>
                  <a:pt x="23272" y="21600"/>
                </a:lnTo>
                <a:lnTo>
                  <a:pt x="0" y="21600"/>
                </a:lnTo>
                <a:close/>
              </a:path>
              <a:path fill="lightenLess" w="23272" h="21600">
                <a:moveTo>
                  <a:pt x="0" y="0"/>
                </a:moveTo>
                <a:lnTo>
                  <a:pt x="23272" y="0"/>
                </a:lnTo>
                <a:lnTo>
                  <a:pt x="21872" y="1400"/>
                </a:lnTo>
                <a:lnTo>
                  <a:pt x="1400" y="1400"/>
                </a:lnTo>
                <a:close/>
              </a:path>
              <a:path fill="darken" w="23272" h="21600">
                <a:moveTo>
                  <a:pt x="23272" y="0"/>
                </a:moveTo>
                <a:lnTo>
                  <a:pt x="23272" y="21600"/>
                </a:lnTo>
                <a:lnTo>
                  <a:pt x="21872" y="20200"/>
                </a:lnTo>
                <a:lnTo>
                  <a:pt x="21872" y="1400"/>
                </a:lnTo>
                <a:close/>
              </a:path>
              <a:path fill="darkenLess" w="23272" h="21600">
                <a:moveTo>
                  <a:pt x="2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72" y="20200"/>
                </a:lnTo>
                <a:close/>
              </a:path>
              <a:path fill="lighten" w="2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72" h="21600">
                <a:moveTo>
                  <a:pt x="116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72" h="21600">
                <a:moveTo>
                  <a:pt x="12741" y="14281"/>
                </a:moveTo>
                <a:lnTo>
                  <a:pt x="12741" y="12323"/>
                </a:lnTo>
                <a:cubicBezTo>
                  <a:pt x="12741" y="11496"/>
                  <a:pt x="13072" y="10800"/>
                  <a:pt x="13673" y="10800"/>
                </a:cubicBezTo>
                <a:cubicBezTo>
                  <a:pt x="14804" y="10800"/>
                  <a:pt x="15701" y="9434"/>
                  <a:pt x="15701" y="7849"/>
                </a:cubicBezTo>
                <a:cubicBezTo>
                  <a:pt x="15701" y="5534"/>
                  <a:pt x="13847" y="3794"/>
                  <a:pt x="11636" y="3794"/>
                </a:cubicBezTo>
                <a:cubicBezTo>
                  <a:pt x="9425" y="3794"/>
                  <a:pt x="7754" y="5534"/>
                  <a:pt x="7754" y="7849"/>
                </a:cubicBezTo>
                <a:lnTo>
                  <a:pt x="9608" y="7849"/>
                </a:lnTo>
                <a:cubicBezTo>
                  <a:pt x="9608" y="6709"/>
                  <a:pt x="10531" y="5821"/>
                  <a:pt x="11636" y="5821"/>
                </a:cubicBezTo>
                <a:cubicBezTo>
                  <a:pt x="12741" y="5821"/>
                  <a:pt x="13673" y="6709"/>
                  <a:pt x="13673" y="7849"/>
                </a:cubicBezTo>
                <a:cubicBezTo>
                  <a:pt x="13673" y="8589"/>
                  <a:pt x="13203" y="9320"/>
                  <a:pt x="12741" y="9320"/>
                </a:cubicBezTo>
                <a:cubicBezTo>
                  <a:pt x="11636" y="9320"/>
                  <a:pt x="10531" y="10800"/>
                  <a:pt x="10531" y="12323"/>
                </a:cubicBezTo>
                <a:lnTo>
                  <a:pt x="10531" y="1428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.Галилей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762012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3837"/>
                </a:moveTo>
                <a:lnTo>
                  <a:pt x="15036" y="6448"/>
                </a:lnTo>
                <a:lnTo>
                  <a:pt x="15036" y="4707"/>
                </a:lnTo>
                <a:lnTo>
                  <a:pt x="16811" y="4707"/>
                </a:lnTo>
                <a:lnTo>
                  <a:pt x="16811" y="8224"/>
                </a:lnTo>
                <a:lnTo>
                  <a:pt x="19422" y="10800"/>
                </a:lnTo>
                <a:lnTo>
                  <a:pt x="17769" y="10800"/>
                </a:lnTo>
                <a:lnTo>
                  <a:pt x="17769" y="17989"/>
                </a:lnTo>
                <a:lnTo>
                  <a:pt x="7150" y="17989"/>
                </a:lnTo>
                <a:lnTo>
                  <a:pt x="7150" y="10800"/>
                </a:lnTo>
                <a:lnTo>
                  <a:pt x="5496" y="10800"/>
                </a:lnTo>
                <a:close/>
              </a:path>
              <a:path fill="darkenLess" w="24919" h="21600">
                <a:moveTo>
                  <a:pt x="15036" y="6448"/>
                </a:moveTo>
                <a:lnTo>
                  <a:pt x="15036" y="4707"/>
                </a:lnTo>
                <a:lnTo>
                  <a:pt x="16811" y="4707"/>
                </a:lnTo>
                <a:lnTo>
                  <a:pt x="16811" y="8224"/>
                </a:lnTo>
                <a:close/>
              </a:path>
              <a:path fill="darkenLess" w="24919" h="21600">
                <a:moveTo>
                  <a:pt x="11537" y="14299"/>
                </a:moveTo>
                <a:lnTo>
                  <a:pt x="13382" y="14299"/>
                </a:lnTo>
                <a:lnTo>
                  <a:pt x="13382" y="17989"/>
                </a:lnTo>
                <a:lnTo>
                  <a:pt x="17769" y="17989"/>
                </a:lnTo>
                <a:lnTo>
                  <a:pt x="17769" y="10800"/>
                </a:lnTo>
                <a:lnTo>
                  <a:pt x="7150" y="10800"/>
                </a:lnTo>
                <a:lnTo>
                  <a:pt x="7150" y="17989"/>
                </a:lnTo>
                <a:lnTo>
                  <a:pt x="1153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Физика 10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то не является счетным устройством?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А) Абак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) Индикатор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) Арифмометр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Д) Калькулятор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AutoShape 6">
            <a:hlinkClick r:id="" action="ppaction://hlinkshowjump?jump=nextslide"/>
          </p:cNvPr>
          <p:cNvSpPr/>
          <p:nvPr/>
        </p:nvSpPr>
        <p:spPr>
          <a:xfrm>
            <a:off x="3886200" y="54864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07:02Z</dcterms:created>
  <dc:creator>Лена</dc:creator>
  <dc:description/>
  <dc:language>en-US</dc:language>
  <cp:lastModifiedBy>Усольцева Э.М-А.</cp:lastModifiedBy>
  <dcterms:modified xsi:type="dcterms:W3CDTF">2013-12-01T14:20:03Z</dcterms:modified>
  <cp:revision>18</cp:revision>
  <dc:subject/>
  <dc:title>Презентация PowerPoint</dc:title>
</cp:coreProperties>
</file>