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013-092C-44FA-AF66-EF18A742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59D-DFE0-42AC-89BC-9CCBB784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F74-6A79-4D67-8EA4-A122A26D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DB5-6572-4BDE-8910-A0D150A8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09E2-0956-463E-8365-17AC2ED3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1E64-5D4A-4DF0-A0D4-91F318B1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F88A-07C6-4896-8674-F2CD2B00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6CA8-1A35-4823-98D8-1FA4BB4F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A728-1C96-4C27-B421-029E31C2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12E4-7365-4CDA-B348-3F2D523F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5F3D-6308-4D95-AD89-773F919B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2DF-A2E3-4BF4-A479-8F1D92A1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18D8-793A-478A-847A-5F2003A9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C83B-616F-4C87-B634-344ACBDF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6B1D-80AA-498E-B908-6B4D414A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8DC2-A487-45CA-8A9D-07BE1BDA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FF8C-DD10-4A81-842B-01847F44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04125-0BF0-4E7D-A278-60C3E6BB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F187E-9642-48E3-AD9D-5BC65697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61CD3-F44C-46E3-9E81-66855D73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8243-B887-47C5-A9F4-9B7C5B0B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F317-006A-4497-A760-67759A43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C93-8451-4FA4-BA75-0CD34361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CEFC1-8A85-401C-8691-2CDE24CF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415CB-6EF3-4A8F-BEC2-B1198C0C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87A59-7BBF-49EA-A67B-2877E307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AE46-00B1-4834-A871-C44D8DA4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7F29-4403-4711-AA47-BD3B3492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03403-810A-4626-A912-E35C2AEB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DD229-AEAC-4534-95E4-4DEA474D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5F81F-DC5B-4CD3-9CD7-14857866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5785C-767A-4DCA-BCF7-3F15FF23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2BD0F-799A-4049-A42E-54B3A2B0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214-4302-4DB0-97CB-F737F6EE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E70FE-362E-4E2F-8756-3220EB0A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3BD1-6895-4806-A248-8330A947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60062-9E15-41E5-9A8D-668B2374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7CC1F-2F41-4E56-B11C-25188491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747D7-BEFF-4B16-B2F4-7E4412C7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A3E7B-DFF8-4958-A1E9-B4A09088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AC538-09D5-4F2D-BA1D-8661FBEA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E02EC-09F1-472A-92D2-CEF5E4F1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4D48-043B-4C20-9118-6094A33E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4C4A7-27E3-4D27-9F04-8B9B0256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DEC-B8F2-4DF4-A1AC-38100BB8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D4B04-118A-4EF2-AD4D-B0592E7D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42044-8105-4B84-B35D-C65DA57C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7F187-4253-4751-84C4-5533FDE0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024D6-2967-4E96-8362-E8B6BAFC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7F32B-151B-4A46-AA00-66473FC7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02ACD-02EF-4832-BA44-A83A8784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B82C5-227E-4BB4-8F71-5B0E81FB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11646-1D8A-4321-B69A-2B041C50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71950-CCCF-4B41-BB0A-E306BE08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059F5-617F-4CE7-8B1E-D97F3C78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9E5-95F7-4D53-BD80-A49C987B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9E609-B328-4DDD-A22B-BB21A936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B26B4-2B68-43EA-87D8-8891824B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1F866-B4B6-4EA2-8CC2-8AD48807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0EA83-FA0D-4AAA-BAE6-7E40291B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76D87-AF83-47F4-9D45-AC71A2BB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38D0D-F7F4-420C-958C-40FAAD76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5272A-54CB-497D-B392-400AC452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90207-8946-4E46-8E04-FAA823C0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A0679-F87E-4670-A84D-7B8E83DA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BC244-2E1E-4536-9834-B7A05635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632-E7CC-4E24-AA76-1A08CFED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CCFC4-EAAD-4469-A947-A573B251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85FE8-F64D-4492-B12E-178967A7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342A8-0F00-4E77-B83F-A385ED82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76EAE-024E-4E36-B463-249B7728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69865-4FB9-448C-A90A-D03AB5B3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3268C-E577-429F-B928-390CB4A4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10C94-31FB-494A-8926-E5E1CED2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08423-A13B-49A1-AFD4-817EE2C0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72860-8804-4483-B8DC-6E27CFF5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38B01-0B47-4AD9-9C5B-FACC4DD7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113-D6F1-4CA9-B892-AB8B6085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F909E-0E78-4154-A27A-172DFEB5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B92C3-2D72-47F5-BF50-95C638D7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C72C5-7E3D-4F55-9EEF-5B05014F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108E0-E054-4C1F-B95D-6BBE6660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DE25B-1D7D-4212-9785-8D6612BE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7FF8E-952D-4E1B-A929-26A9F7B7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186F3-2B63-42CD-8BD7-F485B61D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61619-34C4-4C8E-8CCC-5BDEFF7E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EF997-B88A-4897-9924-681705F4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15A5A-960D-468D-9204-6342788F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A08-355C-4226-98B7-06034C82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A34FB-90D7-4D65-A2D4-48F5CE84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F08CC-A08D-4BF9-AF65-D9A368C3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D42F3-4094-4053-A1D8-73CFD3B7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4D3BC-B213-4A79-B3A5-4590E7A4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3F119-0976-4E9E-8A76-6790C848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C36AF-4BB3-433B-8CCF-9764A0A2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2EFA7-FBF7-4A2F-83F9-7C645AFA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8C84-C00D-4B36-B554-C7938D9233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4547-79B3-4BA0-98C0-03CF9B7327B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325C-EB27-4780-8114-F62EBE6BE36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0AC7-B190-4CEA-8215-E3F6155367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F4E8-C869-4F8D-ACF0-0686A62945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E2F0-0886-4FED-9EC7-C6ED91B2504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E1F3-6EFB-49D5-81B5-91C019552D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A131-E786-46BE-9AEA-A8B94CFBB6F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9" descr="0_8da05_9df99442_XL.png"/>
          <p:cNvPicPr/>
          <p:nvPr/>
        </p:nvPicPr>
        <p:blipFill>
          <a:blip r:embed="rId1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6"/>
          <p:cNvSpPr/>
          <p:nvPr/>
        </p:nvSpPr>
        <p:spPr>
          <a:xfrm>
            <a:off x="1523880" y="281952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cademy"/>
              </a:rPr>
              <a:t>Повторение изуче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cademy"/>
              </a:rPr>
              <a:t>в 5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2666880" y="510552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cademy"/>
              </a:rPr>
              <a:t>Чачкова Анна Вале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cademy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cademy"/>
              </a:rPr>
              <a:t>МОУ Будинской ООШ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Прямоугольник 8" descr=""/>
          <p:cNvPicPr/>
          <p:nvPr/>
        </p:nvPicPr>
        <p:blipFill>
          <a:blip r:embed="rId2"/>
          <a:stretch/>
        </p:blipFill>
        <p:spPr>
          <a:xfrm>
            <a:off x="0" y="103320"/>
            <a:ext cx="5310360" cy="811080"/>
          </a:xfrm>
          <a:prstGeom prst="rect">
            <a:avLst/>
          </a:prstGeom>
          <a:ln w="0">
            <a:noFill/>
          </a:ln>
        </p:spPr>
      </p:pic>
      <p:pic>
        <p:nvPicPr>
          <p:cNvPr id="374" name="Rectangle 5" descr=""/>
          <p:cNvPicPr/>
          <p:nvPr/>
        </p:nvPicPr>
        <p:blipFill>
          <a:blip r:embed="rId3"/>
          <a:stretch/>
        </p:blipFill>
        <p:spPr>
          <a:xfrm>
            <a:off x="225360" y="1006560"/>
            <a:ext cx="86994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152280" y="808200"/>
            <a:ext cx="899172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marL="611280" indent="12600" algn="ctr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ть правило с. 5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533520" y="107640"/>
            <a:ext cx="8381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a1f28"/>
                </a:solidFill>
                <a:latin typeface="Times New Roman"/>
              </a:rPr>
              <a:t>Цель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репить понятия о лексикологии как науки о язы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репить понятие «лексическое» и «грамматическое» значение сл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репить понятия однозначные и многозначные слова, переносное значение слова; синонимы, антони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304920" y="-2520"/>
            <a:ext cx="8686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       </a:t>
            </a: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Словарно-орфографическая рабо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осв..тить стихотворение, пос..деть у говорливого ручья, разр..дить обстановку, разд..дил морковь, дремл..т камыш(?), горячий ключ(?), хороший товарищ(?), ярк..м колоритом, пл..хая погода, верн..го  друг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304920" y="-1800"/>
            <a:ext cx="853416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Работа по материалам словарного дикт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слова, для правильного написания которых необходимо знать их лексическ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синонимы к прилагате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антонимы к слову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ряч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р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ишите слова, употребленные в переносном значении. Составьте словосочетания, в которых они имели бы прям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304920" y="306000"/>
            <a:ext cx="8534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Работа по материалам словарного дикт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ишите слово, значение которого можно определить только в контексте (словосочетании или предложении). Как называются такие сло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я толковый словарь учебника, определите, однозначное или многозначное слово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оряч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лори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04920" y="1800"/>
            <a:ext cx="8534160" cy="61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Работаем с текст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ябнет оси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рожит на вет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ынет на солныш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рзнет в ж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Если б дали березке расчес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зменила б березка причес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речку, как в зеркало, гляд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счесала б кудрявые пряд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вошло б у нее в привы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утрам заплетать коси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 Токмаков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152280" y="-212040"/>
            <a:ext cx="8991720" cy="66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Работаем с текст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метаф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метафоры использует поэт, чтобы образнее ярче представить карти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ишите из первого отрывка синонимы к слов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рзну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акова их роль в тек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ишите из второго отрывка глаголы, которые употребляются в переносном значении. Графически объясните в них правописание гласной в коне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ерите и запишите синонимы к слов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яде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ли возможна синонимическая замена? Например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мотреть (глядеть) филь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152280" y="518760"/>
            <a:ext cx="8991720" cy="51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marL="611280" indent="-343080" algn="ctr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Лексический дикта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по лексическому значению слово и запиши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 слова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рный запас одного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дел лингвистики, изучающий лекс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, имеющие одно лексическ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, имеющие несколько лексических знач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 одной части речи,  одинаковые по звучанию и написанию, но разные по зна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 одной части речи, обозначающие одно и то же, но с разными оттенками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152280" y="154080"/>
            <a:ext cx="8991720" cy="53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marL="611280" indent="12600" algn="ctr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Проверьте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кс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ксико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ксиколог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днозна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ногозначные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мони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ин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ольцева Э.М-А.</cp:lastModifiedBy>
  <dcterms:modified xsi:type="dcterms:W3CDTF">2013-09-29T06:28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