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B34-29CB-4926-BAE4-58C827EB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698-4573-4DC0-9A63-FA1E4341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AC8-4A10-4BE4-98C8-F63DAA42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5FF-7854-42C1-894E-431121CE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70F-30B1-4E99-B70C-3BD143AE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703-1D3B-461E-B341-6D18A115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A92-8A61-45EF-81AE-514F63C8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E8E-E9A2-4E21-AE7D-863693CC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995-8687-4E43-91AD-36015A8C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2F7-00E2-46CE-A427-DD9D491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3F8-4A26-4D0E-A192-8DDA5EB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351-9828-4CD8-A87D-A5809EA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B19A-0418-48B1-BE7A-00BA3269D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7FE3-D47F-449E-846F-E12DD74BA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61инкора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542880" y="3706920"/>
            <a:ext cx="6004080" cy="1315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304920" y="308160"/>
            <a:ext cx="6248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Управление образования администрации города  Прокопьев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Муниципальное казенное образовательное учреждение для детей-сирот и детей, оставшихся без попечения родителей </a:t>
            </a:r>
            <a:r>
              <a:rPr b="0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(законных представителей) «Специальный (коррекционный) детский дом № 6 для детей-сирот и детей, оставшихся без попечения родителей (законных представителей), с ограниченными возможностями здоровья»</a:t>
            </a:r>
            <a:r>
              <a:rPr b="0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(МКОУ «Детский дом № 6»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750400" y="929628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копьевск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1" descr="1.gif"/>
          <p:cNvPicPr/>
          <p:nvPr/>
        </p:nvPicPr>
        <p:blipFill>
          <a:blip r:embed="rId3"/>
          <a:stretch/>
        </p:blipFill>
        <p:spPr>
          <a:xfrm>
            <a:off x="304920" y="5943600"/>
            <a:ext cx="3514680" cy="3063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3822840" y="5943600"/>
            <a:ext cx="277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ванова Елена Васил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57200" y="304920"/>
            <a:ext cx="59436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коррекционно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е занятие имеет логически законченную, целостную ограниченную временными рамками систему. В коррекционном занятии представлены почти все основные элементы коррекционно-образовательного процесса: задачи, содержание, средства, методы организации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Качество занятия зависит от правильного определения каждого из этих компонентов и их рационального сочетания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При построении коррекционного занятия, необходимо определить на каком уровне ребенок будет усваивать  предлагаемый матери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заимодействия в процессе сопряжённых (совместных) с педагогом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заимодействия с помощью полусопряжённых  (частично совместных) с педагогом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осприятия (работа после обучающего эксперимен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применения знаний по образц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речевой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ременное содержание специального образования детей с особыми образовательными потребностями определяют ряд обязательных требований к коррекционному занятию, которые необходимо учитывать при построении структуры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занятия имеют гибкую структуру, разработанную с учетом возрастных особенностей детей и степени выраженности деф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EC09-80BF-4580-900A-F8AB2D9A2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251760" y="9296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533520" y="57600"/>
            <a:ext cx="59436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я строятся на основе принципов интегрирования (включение элементов музо-, изо-, песко-, водо-, кукло-, танцевально-двигательной терап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нятиях должна прослеживаться системность и преем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тематики занятий должен определяться характером нарушения развития детей с особыми образовательными потребностями и подбором наиболее адекватной тактики коррекционной 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работы должны определяться задачами занятия, для которых характерно сочетание как традиционных приемов и методов (фронтальные и индивидуальные занятия), так и инновацио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 инновационным приемам относятся следующие виды работ на заня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ребенка в процесс взаимодействия с педагогом, группой детей или сверстником с использованием метода «аттракции» (называние по имени, активное включение в процесс рассматривания себя в зеркале, телесный контакт с ребенком с целью расслабления, успокоение, вселение уверенности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сование под музыку, используя различные методики рисования – ладошкой, пальчиком, губкой, тампоном и т.д. (из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песком (песк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водой (вод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куклами (куклотерапия)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0DC-3D8F-47D1-802B-5653CF215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81885ffaaae5.png"/>
          <p:cNvPicPr/>
          <p:nvPr/>
        </p:nvPicPr>
        <p:blipFill>
          <a:blip r:embed="rId2"/>
          <a:stretch/>
        </p:blipFill>
        <p:spPr>
          <a:xfrm>
            <a:off x="4114800" y="7184880"/>
            <a:ext cx="2430360" cy="2721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248520" y="929628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80880" y="457200"/>
            <a:ext cx="6172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 традиционным приёмам относятся следующие виды работ на заня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е должно включать как познавательный материал, так и различные релаксационные упражнения, которые способствуют развитию у детей коммуникативных умений, обогащают эмоциональный опыт, формируют личност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в структуру занятий заданий, способствующих развитию поисковых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ложение материала на занятии должно быть вариативным по своей струк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дних случаях предъявляется готовая информация в форме практического объяснения, сопровождающегося показом, демонстрацией определённых действий с простой речевой инструк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ругих случаях используется частичная инструкция, регламентирующая частичное выполнение действия, задания с последующими усложнениями. Используются варианты  сопряжённых и полусопряжённых действий с педаг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4e96c18fed68.png"/>
          <p:cNvPicPr/>
          <p:nvPr/>
        </p:nvPicPr>
        <p:blipFill>
          <a:blip r:embed="rId2"/>
          <a:stretch/>
        </p:blipFill>
        <p:spPr>
          <a:xfrm>
            <a:off x="2133720" y="6472080"/>
            <a:ext cx="3124080" cy="287352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A0F6-6A49-4934-9AB0-2A34BF812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60994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DBD2-E0F7-4E98-A166-7821B85F8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5" descr=""/>
          <p:cNvPicPr/>
          <p:nvPr/>
        </p:nvPicPr>
        <p:blipFill>
          <a:blip r:embed="rId2"/>
          <a:stretch/>
        </p:blipFill>
        <p:spPr>
          <a:xfrm>
            <a:off x="1109520" y="585720"/>
            <a:ext cx="4761000" cy="24624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2" descr="dosk126.png"/>
          <p:cNvPicPr/>
          <p:nvPr/>
        </p:nvPicPr>
        <p:blipFill>
          <a:blip r:embed="rId3"/>
          <a:stretch/>
        </p:blipFill>
        <p:spPr>
          <a:xfrm>
            <a:off x="1295280" y="3429000"/>
            <a:ext cx="4740480" cy="4040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251760" y="9296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0880" y="1397880"/>
            <a:ext cx="624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жде всего, обдумай тему сочинения. Помни: каждое слово в названии темы имеет значение. Определи, о чем следует писать в сочин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думай свой замысел, зачем, кому адресуешь своё сочинение, какова его мысль.  Что и как (в каком стиле и в какой форме) напишешь, чтобы ее раскрыть. Составь, если нужно,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 круг слов, предложений для отражения темы соч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первый вариант своего сочинения: раскрыты ли в нем тема и основная мысль? Зачеркни то, о чём можно не говорить в сочинении на данную тему (лишнее); дополни те части сочинения, в которых тема и основная мысль раскрыты недостаточно. Соответствует ли заголовок сочинения его содержа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ти внимание на язык сочинения. Насколько удачно выражены мысли и чувства? Внеси ис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359000" y="914400"/>
            <a:ext cx="38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СОЧИ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6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85E2-3957-44AC-9C28-07970FFFB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9" descr="29244dc814c5.png"/>
          <p:cNvPicPr/>
          <p:nvPr/>
        </p:nvPicPr>
        <p:blipFill>
          <a:blip r:embed="rId2"/>
          <a:stretch/>
        </p:blipFill>
        <p:spPr>
          <a:xfrm>
            <a:off x="2438280" y="7010280"/>
            <a:ext cx="1943280" cy="28958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63280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914400" y="856080"/>
            <a:ext cx="5029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КА К ДИКТАН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нимательно, не торопясь; уясни его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 правописание выделенных и пропущенных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я текст вторично, останови свое внимание на тех словах, которые не выделены, но правописание которых может вас затруднить. Если сможешь, объясни их 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еще раз. Объясни знаки препинания в известных вам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5C44-140D-4B54-9E30-AAB16F784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5" descr="4414d6e477eb.png"/>
          <p:cNvPicPr/>
          <p:nvPr/>
        </p:nvPicPr>
        <p:blipFill>
          <a:blip r:embed="rId2"/>
          <a:stretch/>
        </p:blipFill>
        <p:spPr>
          <a:xfrm>
            <a:off x="1676520" y="5486400"/>
            <a:ext cx="3373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63280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685800" y="731520"/>
            <a:ext cx="5715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ИЗЛО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нимательно, не торопясь; уясни его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 правописание выделенных и пропущенных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я текст вторично, останови свое внимание на тех словах, которые не выделены, но правописание которых может вас затруднить. Если сможешь, объясни их 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еще раз. Объясни знаки препинания в известных вам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7AA1-A064-4BD0-A86C-23F66A4AA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199cc7796884.png"/>
          <p:cNvPicPr/>
          <p:nvPr/>
        </p:nvPicPr>
        <p:blipFill>
          <a:blip r:embed="rId2"/>
          <a:stretch/>
        </p:blipFill>
        <p:spPr>
          <a:xfrm>
            <a:off x="2438280" y="6477120"/>
            <a:ext cx="230184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6404040" y="9448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380880" y="417600"/>
            <a:ext cx="6096240" cy="82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АРАГРАФОМ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о прочитай название параграфа, уясни, и чём в нём говор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весь параграф. Найди в нём главное. Отметь непонятные места, выражения, слова. Попытайся разобраться в них самостоятельно. В случае необходимости обратись к предыдущим параграфам, к своим товарищам, а если нужно, к воспитате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леди, из каких частей состоит правило, какие признаки изучаемого материала в нём отличаются. Найди эти признаки в приме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оставь изучаемый параграф с параграфом, в котором излагается похожий материал, изученный ранее. Найди в них сходное и различ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и, что ты узнал из нового параграф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содержание параграф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ытайся запомнить вывод из параграфа, а правило выучи наизу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леди по учебнику, как применяется данное правило. Сделай то же на своем примере. Если ты выполнял задание письменно, проверь написанное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EBAA-C76C-4456-A9F9-67410FE0C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5" descr="0c119f17d7bc.png"/>
          <p:cNvPicPr/>
          <p:nvPr/>
        </p:nvPicPr>
        <p:blipFill>
          <a:blip r:embed="rId2"/>
          <a:stretch/>
        </p:blipFill>
        <p:spPr>
          <a:xfrm>
            <a:off x="4495680" y="7763040"/>
            <a:ext cx="2057400" cy="2143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6251760" y="92203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304920" y="696960"/>
            <a:ext cx="601956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О 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еть порядок выполнения проверки: сначала проверь по смыслу, потом проверь по напис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роверить предложение по смысл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предложение вслу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, подходят ли слова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ли пропуска слов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чём говорится в предложении, бывает ли 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роверить предложение по написани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й каждое слово по порядку по слогам и выделяй каждый с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, подходят ли буквы к сло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ли пропуска бук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7899-47F9-47D6-BCF8-F8EADD9B0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6" descr="f5d620e07ee2.png"/>
          <p:cNvPicPr/>
          <p:nvPr/>
        </p:nvPicPr>
        <p:blipFill>
          <a:blip r:embed="rId2"/>
          <a:stretch/>
        </p:blipFill>
        <p:spPr>
          <a:xfrm>
            <a:off x="1981080" y="6429240"/>
            <a:ext cx="2863800" cy="34768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219320" y="609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57200" y="1361520"/>
            <a:ext cx="586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 медленном темп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меть слова, которые тебе непоня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арайся ответить на главн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ком говорится в рассказ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действующие лица (персонажи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чем говорится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сни у воспитателя значения новых или  незнакомых 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в тексте слова, которыми автор характеризует главного героя, либо описывает природу (дерево, цветок, животное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ти рассказ еще раз, выделяя смысловы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ждой части выдели важные мысли (2-3 предло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текст по частям (при затруднении можно заглядывать в книг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6" descr="1.gif"/>
          <p:cNvPicPr/>
          <p:nvPr/>
        </p:nvPicPr>
        <p:blipFill>
          <a:blip r:embed="rId2"/>
          <a:stretch/>
        </p:blipFill>
        <p:spPr>
          <a:xfrm>
            <a:off x="3886200" y="6640560"/>
            <a:ext cx="1828800" cy="3265560"/>
          </a:xfrm>
          <a:prstGeom prst="rect">
            <a:avLst/>
          </a:prstGeom>
          <a:ln w="0">
            <a:noFill/>
          </a:ln>
        </p:spPr>
      </p:pic>
      <p:sp>
        <p:nvSpPr>
          <p:cNvPr id="150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AC2C-D153-45EE-BA1D-6C9D337A3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617544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1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FA6D-C91C-4A65-954C-6A7B6907A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533520" y="457200"/>
            <a:ext cx="601956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  Коррекционный уголок………………………………………………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    Содержание коррекционно-развивающего уголка………………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коррекционного занятия………………………………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   Список используемой литературы…………………………………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  Приложения…………………………………………………………... 14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533520" y="228600"/>
            <a:ext cx="586728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 ПО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ни, над какой темой работали на   уроке. Творчество и произведения какого автора изуч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о прочти опорные записи в тетр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статью или теоретический   материал по заданно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прочита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хрестоматии по литературе нет художественного произведения, которое задали прочитать, возьми его в библиот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ься с текстом целиком или с отдельно взятыми частями, в зависимости от полученного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 на вопросы учебника и выполни, если задано, индивидуальное задание устно или письменно в тетради по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BFF2-2BC6-4079-8767-971A7EFF2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6" descr="4414d6e477eb.png"/>
          <p:cNvPicPr/>
          <p:nvPr/>
        </p:nvPicPr>
        <p:blipFill>
          <a:blip r:embed="rId2"/>
          <a:stretch/>
        </p:blipFill>
        <p:spPr>
          <a:xfrm>
            <a:off x="533520" y="6580080"/>
            <a:ext cx="2886120" cy="33260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457200" y="402840"/>
            <a:ext cx="59436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 ПО МАТЕМА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ни, что изучали на уроке, просмотри записи в тетр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и усвой материал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задания, изучи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, какие правила и приёмы следует применять для их выполнения, пользуясь, если нужно, предыдущей письменной работой, общими и частными приёмами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нужно, выполни полностью или частично задание на чернов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тем или иным способом решения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и выполненное задание в тетрадь, соблюдая правила ведения тетради по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правильность записей, чертежей,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3147-0436-4BE2-B07F-CCDD88A96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6328080" y="92203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 flipV="1" rot="10800000">
            <a:off x="533520" y="385920"/>
            <a:ext cx="586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задачу и представь себе, о чем говорится в зада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и задачу кратко или выполни чертё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и, что показывает каждое число, повтори вопрос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, можно ли сразу ответить на вопрос задачи. Если нет, то почему. Что нужно узнать сначала, что пот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план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 реш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решение и ответь на вопрос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5" descr="0c119f17d7bc.png"/>
          <p:cNvPicPr/>
          <p:nvPr/>
        </p:nvPicPr>
        <p:blipFill>
          <a:blip r:embed="rId2"/>
          <a:stretch/>
        </p:blipFill>
        <p:spPr>
          <a:xfrm>
            <a:off x="2438280" y="5334120"/>
            <a:ext cx="365472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A9BC-EE66-4989-9651-13D2DCB45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17544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1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AC7A-5D27-4417-A4FC-DBFE2F03F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2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969920" y="45720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80880" y="1600200"/>
            <a:ext cx="6248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жков, М.И. Воспитание трудного ребенка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 Рожков М.И.-М: ВЛАДОС, 2003-240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лест, Е.Г. Использование игры в работе с детьми.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Шелест Е.Г.-Спб: Речь, 2009-103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   Шевченко, С.Г. Коррекционно-развивающее обучение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Шевченко Е.Г.- М: ВЛАДОС, 2010-136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828800" y="45720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казано, что на развитие ребенка большое влияние оказывает окружающее его пространство, среда, в которой он находится большую часть времени. В условиях детского дома такой средой является групповая комн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80880" y="2666880"/>
            <a:ext cx="6096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ями организуются индивидуальные и подгрупповые коррекционно-ориентированные формы взаимодействия с детьми. Предметно-развивающая среда позволяет обогатить опыт эмоционально-практического взаимодействия ребенка со сверстниками и педагогом, включить в активную познавательную деятельность всех детей группы. Среда стимулирует развитие самостоятельности, инициативности. В ней дети реализуют свои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c28c59bf13bc.png"/>
          <p:cNvPicPr/>
          <p:nvPr/>
        </p:nvPicPr>
        <p:blipFill>
          <a:blip r:embed="rId2"/>
          <a:stretch/>
        </p:blipFill>
        <p:spPr>
          <a:xfrm>
            <a:off x="304920" y="533520"/>
            <a:ext cx="1582560" cy="195408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8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8A02-4862-4571-B969-A8AD4C448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11"/>
          <p:cNvSpPr/>
          <p:nvPr/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2" descr="e513ec98b236.png"/>
          <p:cNvPicPr/>
          <p:nvPr/>
        </p:nvPicPr>
        <p:blipFill>
          <a:blip r:embed="rId3"/>
          <a:stretch/>
        </p:blipFill>
        <p:spPr>
          <a:xfrm>
            <a:off x="1905120" y="6019920"/>
            <a:ext cx="315108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6558840" y="9536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8"/>
          <p:cNvGrpSpPr/>
          <p:nvPr/>
        </p:nvGrpSpPr>
        <p:grpSpPr>
          <a:xfrm>
            <a:off x="0" y="0"/>
            <a:ext cx="6858000" cy="9906120"/>
            <a:chOff x="0" y="0"/>
            <a:chExt cx="6858000" cy="9906120"/>
          </a:xfrm>
        </p:grpSpPr>
        <p:pic>
          <p:nvPicPr>
            <p:cNvPr id="59" name="Рисунок 3" descr="4ccca622295c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5"/>
            <p:cNvSpPr/>
            <p:nvPr/>
          </p:nvSpPr>
          <p:spPr>
            <a:xfrm>
              <a:off x="1828800" y="380880"/>
              <a:ext cx="4800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 состав предметно-развивающей среды входит коррекционный уголок. В его оборудование входят стеллажи, расположенные на разном уровне, игровой, дидактический и наглядный материа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9" descr="0_86ab5_e49c6ace_orig.png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15238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0"/>
            <p:cNvSpPr/>
            <p:nvPr/>
          </p:nvSpPr>
          <p:spPr>
            <a:xfrm>
              <a:off x="380880" y="2286000"/>
              <a:ext cx="6172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 их помощью воспитатели создают условия для коррекции отклонений в развитии детей, стимуляции речевой деятельности и речевого общения</a:t>
              </a:r>
              <a:r>
                <a:rPr b="0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4"/>
            <p:cNvSpPr/>
            <p:nvPr/>
          </p:nvSpPr>
          <p:spPr>
            <a:xfrm>
              <a:off x="380880" y="3505320"/>
              <a:ext cx="33526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и подборе дидактического материала нужно учитывать: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наполняемость уголка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разнообразие материала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соответствие возрасту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доступность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системность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эстетику оформления;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5"/>
            <p:cNvSpPr/>
            <p:nvPr/>
          </p:nvSpPr>
          <p:spPr>
            <a:xfrm>
              <a:off x="304560" y="6324840"/>
              <a:ext cx="62485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дбор игрового и дидактического материала осуществляется на основе рекомендаций логопеда, что делает его взаимодействие с воспитателями не формальным, а очень тесным и плодотворным. Дидактическое оснащение должно соответствовать индивидуальным и возрастным особенностям. При случайном, формальном подборе игр объем восприятия детей оказывается перегруженным и обучаемость резко снижае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Рисунок 11" descr="4414d6e477eb.png"/>
          <p:cNvPicPr/>
          <p:nvPr/>
        </p:nvPicPr>
        <p:blipFill>
          <a:blip r:embed="rId3"/>
          <a:stretch/>
        </p:blipFill>
        <p:spPr>
          <a:xfrm>
            <a:off x="3809880" y="3505320"/>
            <a:ext cx="2662200" cy="3066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2"/>
          <p:cNvSpPr/>
          <p:nvPr/>
        </p:nvSpPr>
        <p:spPr>
          <a:xfrm>
            <a:off x="6558840" y="9536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380880" y="38088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, содержащийся в коррекционном уголке, имеет многофункциональный характер. Игры должны быть подобраны в порядке нарастающей слож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80880" y="160020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образить деятельность детей в коррекционном уголке.              Дидактическое оснащение должно удовлетворять потребности актуального, ближайшего развития ребенка и его саморазвития. Пуст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80880" y="4038480"/>
            <a:ext cx="601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держанию предметное пространство утомляет, побуждает к безделью и агрессии. В то же время не следует перегружать уголок оборудованием, так как это затрудняет выб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80880" y="525780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ь материал должен соответствовать возрасту детей. Например: опора на игру, как на ведущий вид деятельности дошкольников, обеспечивает педагогам значительный положительный эффект в коррекционной раб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3352680" y="6705720"/>
            <a:ext cx="3200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создает условия для неформального общения ребенка со сверстниками и взрослым, предоставляет ему полную свободу действий. Поэтому игровой материал должен быть доступным для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10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BD2B-D4C6-4632-981C-6E218143F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1" descr="f5d620e07ee2.png"/>
          <p:cNvPicPr/>
          <p:nvPr/>
        </p:nvPicPr>
        <p:blipFill>
          <a:blip r:embed="rId2"/>
          <a:stretch/>
        </p:blipFill>
        <p:spPr>
          <a:xfrm>
            <a:off x="533520" y="6924600"/>
            <a:ext cx="2514600" cy="2560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199cc7796884.png"/>
          <p:cNvPicPr/>
          <p:nvPr/>
        </p:nvPicPr>
        <p:blipFill>
          <a:blip r:embed="rId3"/>
          <a:stretch/>
        </p:blipFill>
        <p:spPr>
          <a:xfrm>
            <a:off x="4876920" y="1828800"/>
            <a:ext cx="1725480" cy="2057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6251040" y="92203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380880" y="114120"/>
            <a:ext cx="6019920" cy="89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оложительно влияет на развитие речи и интеллектуальное развитие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ый уголок дошкольников будет отличаться от коррекционного уголка детей 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коррекционного уголка дошкольников должно способствовать развитию психологических процессов, мелкой моторики. Обучение осуществляется через игровую деятельность. Поэтому в коррекционном уголке преобладает наличие игр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младших школьников ведущим видом деятельности остается игра. Поэтому развитие познавательных процессов проходит через различ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ий школьный возраст - приоритетным направлением является самоподготовка к занятиям, развитие социальных навыков (игра «Магазин», «Поход в театр» и т.п), самообслуживание (штопка и чистка одеж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школьный возраст – приоритетным направлением является профориентационная деятельность, направленная на самоопределение воспита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</a:t>
            </a:r>
            <a:fld id="{F9E65379-2604-4705-9371-2049284B3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6251760" y="9448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30492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вая развивающую среду группы, очень важно, чтобы окружающая детей обстановка была комфортной и эстетичной. Красота формирует ребенка. Поэтому нужно уделять большое внимание эстетике коррекционного уголка. Его оформление должно быть привлекательным для детей и вызывать у них стремление к самостоятельной деятельности. В то же время необходимо научить детей поддерживать порядок в уголке и воспитывать бережное отношение 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7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A8C8-A4E0-4560-923F-36F6A3ED6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f7f44873e759.png"/>
          <p:cNvPicPr/>
          <p:nvPr/>
        </p:nvPicPr>
        <p:blipFill>
          <a:blip r:embed="rId2"/>
          <a:stretch/>
        </p:blipFill>
        <p:spPr>
          <a:xfrm>
            <a:off x="1371600" y="3276720"/>
            <a:ext cx="4500720" cy="4162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640332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80880" y="754200"/>
          <a:ext cx="6019920" cy="8269200"/>
        </p:xfrm>
        <a:graphic>
          <a:graphicData uri="http://schemas.openxmlformats.org/drawingml/2006/table">
            <a:tbl>
              <a:tblPr/>
              <a:tblGrid>
                <a:gridCol w="381240"/>
                <a:gridCol w="1525320"/>
                <a:gridCol w="2284560"/>
                <a:gridCol w="825480"/>
                <a:gridCol w="1003320"/>
              </a:tblGrid>
              <a:tr h="3124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огопед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ран звукопроизнош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 артикуляционной  гимнасти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 упражнений (речевой материал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глядный материал и др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ы на развитие мелкой моторики и графических навыко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ы на развитие крупной мотори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л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огопед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фект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дактические материалы на развитие психологических процессов (память, внимание, мышление и т.д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тодические пособия для восполнения пробелов в знаниях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фектолог, 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лаксационные упражн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с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ические игр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ксты сказок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ита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оно и видеотека с релаксационными материала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подгот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рточки-зада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очные материал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 с технологиями подготовки изложения, сочинения, рассказа и др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разцы заполнения деловых бумаг (объяснительная, заявление и т.п.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, библиотека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ы упражнений для глаз, для формирования правильной осанки и т.п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паузы во время выполнения домашних зада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вижные игр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укле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ециальная литература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д.служба, руководитель по ФВ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ЗО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6"/>
          <p:cNvSpPr/>
          <p:nvPr/>
        </p:nvSpPr>
        <p:spPr>
          <a:xfrm>
            <a:off x="914400" y="1522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коррекционно-развивающего уг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F8FF-14CB-470A-BDA4-B1906138F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47964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80880" y="304920"/>
          <a:ext cx="6172200" cy="8764560"/>
        </p:xfrm>
        <a:graphic>
          <a:graphicData uri="http://schemas.openxmlformats.org/drawingml/2006/table">
            <a:tbl>
              <a:tblPr/>
              <a:tblGrid>
                <a:gridCol w="390600"/>
                <a:gridCol w="1563840"/>
                <a:gridCol w="2263680"/>
                <a:gridCol w="925560"/>
                <a:gridCol w="1028520"/>
              </a:tblGrid>
              <a:tr h="14097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удов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хнологические карты (самообслуживание, ремонт одежды, книг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обия по вязанию, вышиванию, бисероплетению и т.д.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торы по труду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дагог д/о, 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1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о-бытовая ори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горитмы действий в определенных  жизненных ситуациях (поход в магазин, оплата коммунальных услуг, вызов скорой помощи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семейному воспитанию), инструкторы по труду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дагоги д/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опасность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ции, памятки, буклеты по действиям в чрезвычайных ситуациях, по правилам дорожного движения и т.п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ЗО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льтура поведения и реч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 («Говори правильно!», «В театре», «В гостях»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духовно-нравственному воспитанию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фори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ции (составление резюме, собеседование при приеме на работу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стовые зада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очник «Куда пойти учиться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духовно-нравственному воспитанию)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ые педаго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4075-B5C2-41CE-A52D-DC90AC919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47964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5:23:17Z</dcterms:created>
  <dc:creator>1</dc:creator>
  <dc:description/>
  <dc:language>en-US</dc:language>
  <cp:lastModifiedBy>Metod-kopilka.ru</cp:lastModifiedBy>
  <dcterms:modified xsi:type="dcterms:W3CDTF">2013-03-06T07:38:43Z</dcterms:modified>
  <cp:revision>80</cp:revision>
  <dc:subject/>
  <dc:title>Слайд 1</dc:title>
</cp:coreProperties>
</file>