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306D-D332-492B-B9AE-F664932B5B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F0D9-2328-47AA-9634-C987AFD3457C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D25F-5981-4A1F-B67D-3885BDE11307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D544-7C4C-446F-A781-6CAE60654D16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AA29-1180-464C-86D9-8BC10E7B8793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9651-3A82-455F-A38A-F5340E17DAD1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AF20-902E-4DC1-BED3-A7A82B4E37BB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E535-E67B-499B-8CDB-76392D0C033B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2B30-C467-4084-9380-CA3EB907C7D7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613E-0B39-4CA1-9379-5757242EA875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FF55-E17C-41CD-983C-205189B30D18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F217-6E8B-4F53-B4B8-83E787366DC7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70C4-0ABE-4425-98DA-4DA66903D633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54C2-A889-417E-BBD4-B7E2EEB439F4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C37-9F53-431A-917A-A59246A6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9E3-6F06-49ED-B1C5-900C6569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C86-F163-43DB-AB92-3BE55C48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92C-64A9-4F3D-880A-90A045BA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0564-4470-4D39-81A4-9ED47EFB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CB7F-6B84-48A5-8F77-9ECF2718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B0F8-EF9D-430F-A907-41E50F0A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9146-948C-4DF3-93A7-49455FA0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69DE-EDC5-4528-9011-9CD632FF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6BA4-04BD-4B28-B333-C5A98922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2399-720A-47E8-ABAD-5C8DDD4D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E55-E872-4F0E-B223-6FB283FA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BCF9-2F71-40ED-B8A1-7F3055FA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DC9C-A9F5-4C20-BEDC-554DCAC8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6608-F090-4B13-9355-A9EC4919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5E3F-E685-4ACC-8766-4517A84C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00DF-2D3E-41D6-8D35-F6C720F6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F4B-917E-4E23-8F89-990BEBB7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7E92-527D-4D2D-9304-66E72906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AF2-BF99-4118-A3B3-AC603D74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384-48AE-427F-A9E2-4C7F39E1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EBA-BC3D-4E11-AB19-07DE7117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4FD-0928-4F2C-B9B4-3A6F7707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C71-70E5-4499-9C58-AD773154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5BD4-58DF-4F4B-BF67-C37E0E8201F2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040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041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05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205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205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205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205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205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205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205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206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206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206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206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320F-5A1F-45F9-BE8F-4FC8D9FA4AE3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1708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Тема урока: «Решение алгоритмических задач. Исполнение фрагмента программ.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572000" y="4437000"/>
            <a:ext cx="40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Автор: Барсукова М.А., </a:t>
            </a:r>
            <a:br>
              <a:rPr sz="2400"/>
            </a:b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учитель информатик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МБОУ СОШ №76 г.Ульяновск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765000"/>
          <a:ext cx="8439120" cy="5212080"/>
        </p:xfrm>
        <a:graphic>
          <a:graphicData uri="http://schemas.openxmlformats.org/drawingml/2006/table">
            <a:tbl>
              <a:tblPr/>
              <a:tblGrid>
                <a:gridCol w="1204920"/>
                <a:gridCol w="1027080"/>
                <a:gridCol w="1076400"/>
                <a:gridCol w="2565360"/>
                <a:gridCol w="2565360"/>
              </a:tblGrid>
              <a:tr h="106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интерации цикл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начение х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начение 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&lt;&gt;y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&gt;y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&gt;20 – нет (вычитаем х из у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&gt;5 – да (вычитаем у из х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&gt;5 – да (вычитаем у из х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00"/>
                </a:solidFill>
                <a:uFillTx/>
                <a:latin typeface="Tahoma"/>
              </a:rPr>
              <a:t>Пример 2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пределите значение целочисленных переменных после выполнения фрагмента программ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8763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x:=5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y:=7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:=x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x:=y mod x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y:=t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6" name="Picture 5" descr="j0288928"/>
          <p:cNvPicPr/>
          <p:nvPr/>
        </p:nvPicPr>
        <p:blipFill>
          <a:blip r:embed="rId1"/>
          <a:stretch/>
        </p:blipFill>
        <p:spPr>
          <a:xfrm>
            <a:off x="5195880" y="2349360"/>
            <a:ext cx="2616120" cy="24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36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836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Решение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им и заполним таблиц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85800" y="1295280"/>
          <a:ext cx="7772400" cy="4783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17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е х после шага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е у после шага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е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 шага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=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=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=x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y mod x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=t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Задание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7632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Что нарисует Улитка, выполнив следующую программу?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24000" y="1341360"/>
            <a:ext cx="453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РОГРАММА </a:t>
            </a:r>
            <a:br>
              <a:rPr sz="1600"/>
            </a:b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2,0)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2,-4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2,-4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2,0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0,0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одними перо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1,-1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опусти перо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1,-3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1,-3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1,-1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1,-1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одними перо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2,0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опусти перо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0,2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2,0) </a:t>
            </a:r>
            <a:br>
              <a:rPr sz="1600"/>
            </a:b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КОНЕЦ   </a:t>
            </a:r>
            <a:br>
              <a:rPr sz="1600"/>
            </a:b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03" name="Group 65"/>
          <p:cNvGrpSpPr/>
          <p:nvPr/>
        </p:nvGrpSpPr>
        <p:grpSpPr>
          <a:xfrm>
            <a:off x="3995640" y="1413000"/>
            <a:ext cx="4392720" cy="4608360"/>
            <a:chOff x="3995640" y="1413000"/>
            <a:chExt cx="4392720" cy="4608360"/>
          </a:xfrm>
        </p:grpSpPr>
        <p:sp>
          <p:nvSpPr>
            <p:cNvPr id="204" name="Line 25"/>
            <p:cNvSpPr/>
            <p:nvPr/>
          </p:nvSpPr>
          <p:spPr>
            <a:xfrm>
              <a:off x="435600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5" name="Line 26"/>
            <p:cNvSpPr/>
            <p:nvPr/>
          </p:nvSpPr>
          <p:spPr>
            <a:xfrm>
              <a:off x="464328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500364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7" name="Line 28"/>
            <p:cNvSpPr/>
            <p:nvPr/>
          </p:nvSpPr>
          <p:spPr>
            <a:xfrm>
              <a:off x="558000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8" name="Line 29"/>
            <p:cNvSpPr/>
            <p:nvPr/>
          </p:nvSpPr>
          <p:spPr>
            <a:xfrm>
              <a:off x="594036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9" name="Line 30"/>
            <p:cNvSpPr/>
            <p:nvPr/>
          </p:nvSpPr>
          <p:spPr>
            <a:xfrm>
              <a:off x="622764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>
              <a:off x="687708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1" name="Line 32"/>
            <p:cNvSpPr/>
            <p:nvPr/>
          </p:nvSpPr>
          <p:spPr>
            <a:xfrm>
              <a:off x="716436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2" name="Line 33"/>
            <p:cNvSpPr/>
            <p:nvPr/>
          </p:nvSpPr>
          <p:spPr>
            <a:xfrm>
              <a:off x="774072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>
              <a:off x="810108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4" name="Line 37"/>
            <p:cNvSpPr/>
            <p:nvPr/>
          </p:nvSpPr>
          <p:spPr>
            <a:xfrm>
              <a:off x="529272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5" name="Line 39"/>
            <p:cNvSpPr/>
            <p:nvPr/>
          </p:nvSpPr>
          <p:spPr>
            <a:xfrm>
              <a:off x="651672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6" name="Line 41"/>
            <p:cNvSpPr/>
            <p:nvPr/>
          </p:nvSpPr>
          <p:spPr>
            <a:xfrm>
              <a:off x="745164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7" name="Line 43"/>
            <p:cNvSpPr/>
            <p:nvPr/>
          </p:nvSpPr>
          <p:spPr>
            <a:xfrm>
              <a:off x="3995640" y="1773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Line 44"/>
            <p:cNvSpPr/>
            <p:nvPr/>
          </p:nvSpPr>
          <p:spPr>
            <a:xfrm>
              <a:off x="3995640" y="206064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9" name="Line 45"/>
            <p:cNvSpPr/>
            <p:nvPr/>
          </p:nvSpPr>
          <p:spPr>
            <a:xfrm>
              <a:off x="3995640" y="2421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0" name="Line 46"/>
            <p:cNvSpPr/>
            <p:nvPr/>
          </p:nvSpPr>
          <p:spPr>
            <a:xfrm>
              <a:off x="3995640" y="2781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1" name="Line 47"/>
            <p:cNvSpPr/>
            <p:nvPr/>
          </p:nvSpPr>
          <p:spPr>
            <a:xfrm>
              <a:off x="3995640" y="306864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2" name="Line 48"/>
            <p:cNvSpPr/>
            <p:nvPr/>
          </p:nvSpPr>
          <p:spPr>
            <a:xfrm>
              <a:off x="3995640" y="3429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3" name="Line 49"/>
            <p:cNvSpPr/>
            <p:nvPr/>
          </p:nvSpPr>
          <p:spPr>
            <a:xfrm>
              <a:off x="3995640" y="3789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4" name="Line 50"/>
            <p:cNvSpPr/>
            <p:nvPr/>
          </p:nvSpPr>
          <p:spPr>
            <a:xfrm>
              <a:off x="3995640" y="407808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5" name="Line 51"/>
            <p:cNvSpPr/>
            <p:nvPr/>
          </p:nvSpPr>
          <p:spPr>
            <a:xfrm>
              <a:off x="3995640" y="4365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6" name="Line 52"/>
            <p:cNvSpPr/>
            <p:nvPr/>
          </p:nvSpPr>
          <p:spPr>
            <a:xfrm>
              <a:off x="3995640" y="4653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7" name="Line 53"/>
            <p:cNvSpPr/>
            <p:nvPr/>
          </p:nvSpPr>
          <p:spPr>
            <a:xfrm>
              <a:off x="3995640" y="5013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Line 54"/>
            <p:cNvSpPr/>
            <p:nvPr/>
          </p:nvSpPr>
          <p:spPr>
            <a:xfrm>
              <a:off x="3995640" y="5013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Line 55"/>
            <p:cNvSpPr/>
            <p:nvPr/>
          </p:nvSpPr>
          <p:spPr>
            <a:xfrm>
              <a:off x="3995640" y="537372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0" name="Line 56"/>
            <p:cNvSpPr/>
            <p:nvPr/>
          </p:nvSpPr>
          <p:spPr>
            <a:xfrm>
              <a:off x="3995640" y="5661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1" name="Line 58"/>
            <p:cNvSpPr/>
            <p:nvPr/>
          </p:nvSpPr>
          <p:spPr>
            <a:xfrm flipV="1">
              <a:off x="6227640" y="1628640"/>
              <a:ext cx="0" cy="40320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Line 61"/>
            <p:cNvSpPr/>
            <p:nvPr/>
          </p:nvSpPr>
          <p:spPr>
            <a:xfrm>
              <a:off x="4356000" y="3429000"/>
              <a:ext cx="3816360" cy="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3" name="Line 66"/>
          <p:cNvSpPr/>
          <p:nvPr/>
        </p:nvSpPr>
        <p:spPr>
          <a:xfrm>
            <a:off x="6227640" y="3429000"/>
            <a:ext cx="6494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Line 67"/>
          <p:cNvSpPr/>
          <p:nvPr/>
        </p:nvSpPr>
        <p:spPr>
          <a:xfrm>
            <a:off x="6877080" y="3429000"/>
            <a:ext cx="0" cy="1224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Line 68"/>
          <p:cNvSpPr/>
          <p:nvPr/>
        </p:nvSpPr>
        <p:spPr>
          <a:xfrm flipH="1">
            <a:off x="5579640" y="4653000"/>
            <a:ext cx="12970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Line 69"/>
          <p:cNvSpPr/>
          <p:nvPr/>
        </p:nvSpPr>
        <p:spPr>
          <a:xfrm flipV="1">
            <a:off x="5580000" y="3429000"/>
            <a:ext cx="0" cy="1224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Line 70"/>
          <p:cNvSpPr/>
          <p:nvPr/>
        </p:nvSpPr>
        <p:spPr>
          <a:xfrm>
            <a:off x="5580000" y="3429000"/>
            <a:ext cx="6476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Line 71"/>
          <p:cNvSpPr/>
          <p:nvPr/>
        </p:nvSpPr>
        <p:spPr>
          <a:xfrm>
            <a:off x="6516720" y="3789360"/>
            <a:ext cx="0" cy="576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Line 72"/>
          <p:cNvSpPr/>
          <p:nvPr/>
        </p:nvSpPr>
        <p:spPr>
          <a:xfrm flipH="1">
            <a:off x="5940000" y="4365720"/>
            <a:ext cx="5763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Line 73"/>
          <p:cNvSpPr/>
          <p:nvPr/>
        </p:nvSpPr>
        <p:spPr>
          <a:xfrm flipV="1">
            <a:off x="5940360" y="3789000"/>
            <a:ext cx="0" cy="576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Line 74"/>
          <p:cNvSpPr/>
          <p:nvPr/>
        </p:nvSpPr>
        <p:spPr>
          <a:xfrm>
            <a:off x="5940360" y="3789360"/>
            <a:ext cx="5763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Line 75"/>
          <p:cNvSpPr/>
          <p:nvPr/>
        </p:nvSpPr>
        <p:spPr>
          <a:xfrm flipV="1">
            <a:off x="5580000" y="2781000"/>
            <a:ext cx="647640" cy="647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Line 76"/>
          <p:cNvSpPr/>
          <p:nvPr/>
        </p:nvSpPr>
        <p:spPr>
          <a:xfrm>
            <a:off x="6227640" y="2781360"/>
            <a:ext cx="649440" cy="647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4" name="Picture 22" descr="a46"/>
          <p:cNvPicPr/>
          <p:nvPr/>
        </p:nvPicPr>
        <p:blipFill>
          <a:blip r:embed="rId1"/>
          <a:stretch/>
        </p:blipFill>
        <p:spPr>
          <a:xfrm>
            <a:off x="5940360" y="2997360"/>
            <a:ext cx="72072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86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31214E-006 L 0.071 2.31214E-006 E">
                                      <p:cBhvr>
                                        <p:cTn id="287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360"/>
                            </p:stCondLst>
                            <p:childTnLst>
                              <p:par>
                                <p:cTn id="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2.31214E-006 L 0.071 0.16786 E">
                                      <p:cBhvr>
                                        <p:cTn id="295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360"/>
                            </p:stCondLst>
                            <p:childTnLst>
                              <p:par>
                                <p:cTn id="2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0.16787 L -0.07084 0.16787 E">
                                      <p:cBhvr>
                                        <p:cTn id="300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360"/>
                            </p:stCondLst>
                            <p:childTnLst>
                              <p:par>
                                <p:cTn id="3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0.16787 L -0.07084 -0.0104 E">
                                      <p:cBhvr>
                                        <p:cTn id="308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36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-0.0104 L 0.00798 -0.0104 E">
                                      <p:cBhvr>
                                        <p:cTn id="313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360"/>
                            </p:stCondLst>
                            <p:childTnLst>
                              <p:par>
                                <p:cTn id="3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89017E-006 C 0.00972 0.01942 -0.00504 -0.00694 0.00955 0.00856 C 0.01076 0.00994 0.01041 0.01295 0.01111 0.0148 C 0.01198 0.01711 0.01319 0.01896 0.01423 0.02104 C 0.01475 0.02382 0.01423 0.02752 0.0158 0.0296 C 0.01736 0.03168 0.02152 0.0289 0.02222 0.03168 C 0.02413 0.03838 0.02222 0.04578 0.02222 0.05295 E">
                                      <p:cBhvr>
                                        <p:cTn id="321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536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05295 L 0.02222 0.13688 E">
                                      <p:cBhvr>
                                        <p:cTn id="324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40360"/>
                            </p:stCondLst>
                            <p:childTnLst>
                              <p:par>
                                <p:cTn id="3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13688 L -0.0408 0.13688 E">
                                      <p:cBhvr>
                                        <p:cTn id="329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536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8 0.13689 L -0.0408 0.05296 E">
                                      <p:cBhvr>
                                        <p:cTn id="337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36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8 0.05295 L 0.02222 0.05295 E">
                                      <p:cBhvr>
                                        <p:cTn id="342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5360"/>
                            </p:stCondLst>
                            <p:childTnLst>
                              <p:par>
                                <p:cTn id="3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3 0.05295 C -0.02066 0.03307 -0.06336 0.01318 -0.07934 0.0044 E">
                                      <p:cBhvr>
                                        <p:cTn id="350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5860"/>
                            </p:stCondLst>
                            <p:childTnLst>
                              <p:par>
                                <p:cTn id="3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-0.0104 L -0.00781 -0.10473 E">
                                      <p:cBhvr>
                                        <p:cTn id="353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60860"/>
                            </p:stCondLst>
                            <p:childTnLst>
                              <p:par>
                                <p:cTn id="3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10474 L 0.06319 0.00023 E">
                                      <p:cBhvr>
                                        <p:cTn id="358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Список литерату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Андреева Е.В. Математические основы информатики. Элективный курс: Учебное пособие/М.: БИНОМ. Лаборатория знаний, 2005.-328с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Бондарев В.М., Рублинецкий В.И., Качко Е.Г. Основы программирования/ Харьков: Фолио, 1997.- 386с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Кузнецов А.А. Информатика. Тестовые задания. – 2-е изд., испр. – М.: БИНОМ. Лаборатория знаний, 2003.-232с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Мациевский С.В., Ишанов С.А., Клевцур С.В. Информатика: Учебное пособие/ Калининград: КГУ, 2003.-140с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http://festival.1september.ru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47" name="Picture 4" descr="j0356789"/>
          <p:cNvPicPr/>
          <p:nvPr/>
        </p:nvPicPr>
        <p:blipFill>
          <a:blip r:embed="rId2"/>
          <a:stretch/>
        </p:blipFill>
        <p:spPr>
          <a:xfrm>
            <a:off x="7288200" y="338040"/>
            <a:ext cx="146052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3000" y="692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ffff"/>
                </a:solidFill>
                <a:latin typeface="Tahoma"/>
              </a:rPr>
              <a:t>Цели урока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закрепить знания систем команд и конструкций алгоритмов-исполнителей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формировать операционный стиль мышления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94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Ход уро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1. Организационной момент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2. Актуализация знаний по теме: «Алгоритмизация и основы программирования в среде Паскаль»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3. Изучение нового материал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4. Закрепление изученного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5. Подведение итогов урок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6. Домашнее задание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3" name="Picture 2" descr="j0283002"/>
          <p:cNvPicPr/>
          <p:nvPr/>
        </p:nvPicPr>
        <p:blipFill>
          <a:blip r:embed="rId1"/>
          <a:stretch/>
        </p:blipFill>
        <p:spPr>
          <a:xfrm>
            <a:off x="6012000" y="3860640"/>
            <a:ext cx="2371680" cy="23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Фронтальный опро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79"/>
          <p:cNvSpPr/>
          <p:nvPr/>
        </p:nvSpPr>
        <p:spPr>
          <a:xfrm>
            <a:off x="179280" y="902160"/>
            <a:ext cx="849636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четкая, понятная исполнителю серия команд, позволяющая выполнить данную задачу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алгоритм, действия которого выполняются строго по порядку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алгоритм, действия в котором выполняются в зависимости от выполнения или невыполнения некоторого условия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алгоритм, действия которого выполняются несколько раз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набор инструкций для компьютера, направленных на решение конкретной задачи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множество величин, объединенных совокупностью допустимых операций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предложение языка программирования, задающее полное описание некоторого действия, которое необходимо выполнить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мы можем запустить написанную нами программу в среде Турбо Паскаль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Назовите основные формы представления алгоритма.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Назовите свойства алгоритма.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Из чего состоит алфавит языка Паскаль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Назовите основные элементы программирования.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6" name="Picture 80" descr="j0288870"/>
          <p:cNvPicPr/>
          <p:nvPr/>
        </p:nvPicPr>
        <p:blipFill>
          <a:blip r:embed="rId1"/>
          <a:stretch/>
        </p:blipFill>
        <p:spPr>
          <a:xfrm>
            <a:off x="7192800" y="5013360"/>
            <a:ext cx="12668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1384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Работа с карточка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AutoShape 7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d5c99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AutoShape 11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d5c99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200240"/>
          <a:ext cx="8280360" cy="5394240"/>
        </p:xfrm>
        <a:graphic>
          <a:graphicData uri="http://schemas.openxmlformats.org/drawingml/2006/table">
            <a:tbl>
              <a:tblPr/>
              <a:tblGrid>
                <a:gridCol w="2760840"/>
                <a:gridCol w="1681200"/>
                <a:gridCol w="38383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Элемент блок-схемы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 языке Паскаль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ыполняемые действия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чало работы программы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(служебное слово)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END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нец работы программы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(служебное слово)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 экране появляется значение переменной </a:t>
                      </a:r>
                      <a:r>
                        <a:rPr b="1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</a:t>
                      </a: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(оператор вывода данных)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28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WRITE</a:t>
                      </a:r>
                      <a:r>
                        <a:rPr b="0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(‘результат=’,S)</a:t>
                      </a: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 экране появляется текст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результат=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и значение переменной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S.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ператор вывода данных)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до вводить два числа с клавиатур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(оператор ввода данных)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осле выполнения операторов, переменным присваиваются следующие значения: </a:t>
                      </a: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C=4T, D=A+B, I=I+1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(операторы присваивания)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57" descr="img1.gif (1061 bytes)"/>
          <p:cNvPicPr/>
          <p:nvPr/>
        </p:nvPicPr>
        <p:blipFill>
          <a:blip r:embed="rId1"/>
          <a:stretch/>
        </p:blipFill>
        <p:spPr>
          <a:xfrm>
            <a:off x="1241280" y="1844640"/>
            <a:ext cx="1386000" cy="488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5" descr="img4.gif (1227 bytes)"/>
          <p:cNvPicPr/>
          <p:nvPr/>
        </p:nvPicPr>
        <p:blipFill>
          <a:blip r:embed="rId2"/>
          <a:stretch/>
        </p:blipFill>
        <p:spPr>
          <a:xfrm>
            <a:off x="539640" y="3139920"/>
            <a:ext cx="266400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7" descr="img6.gif (1087 bytes)"/>
          <p:cNvPicPr/>
          <p:nvPr/>
        </p:nvPicPr>
        <p:blipFill>
          <a:blip r:embed="rId3"/>
          <a:stretch/>
        </p:blipFill>
        <p:spPr>
          <a:xfrm>
            <a:off x="814320" y="4941720"/>
            <a:ext cx="1812960" cy="55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3" descr="img7.gif (1149 bytes)"/>
          <p:cNvPicPr/>
          <p:nvPr/>
        </p:nvPicPr>
        <p:blipFill>
          <a:blip r:embed="rId4"/>
          <a:stretch/>
        </p:blipFill>
        <p:spPr>
          <a:xfrm>
            <a:off x="812880" y="5711760"/>
            <a:ext cx="217476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Какие из перечисленных далее описаний можно рассматривать как алгоритмы? Почему?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8360" y="1954080"/>
            <a:ext cx="81360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Рецепт приготовления торта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Правила поведения в компьютерном классе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Метод перевода двоичных чисел в другую систему счисления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Доказательство теоремы о трех перпендикулярах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Правило правописания сочетаний –чу- и –щю- в русском языке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Способ решения головоломки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Каталог товаров, имеющихся в продаже в магазине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Инструкция по распаковке, установке, подключению и настройки телевизора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0" name="Picture 7" descr="j0283551"/>
          <p:cNvPicPr/>
          <p:nvPr/>
        </p:nvPicPr>
        <p:blipFill>
          <a:blip r:embed="rId1"/>
          <a:stretch/>
        </p:blipFill>
        <p:spPr>
          <a:xfrm>
            <a:off x="7020000" y="1125360"/>
            <a:ext cx="165564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8f8f8"/>
                </a:solidFill>
                <a:latin typeface="Tahoma"/>
              </a:rPr>
              <a:t>Тема урока:</a:t>
            </a:r>
            <a:br>
              <a:rPr sz="5000"/>
            </a:br>
            <a:br>
              <a:rPr sz="1400"/>
            </a:b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ru-RU" sz="5400" spc="-1" strike="noStrike">
                <a:solidFill>
                  <a:srgbClr val="00ffff"/>
                </a:solidFill>
                <a:latin typeface="Tahoma"/>
              </a:rPr>
              <a:t>«Решение алгоритмических задач. Исполнение фрагмента программ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j0223770"/>
          <p:cNvPicPr/>
          <p:nvPr/>
        </p:nvPicPr>
        <p:blipFill>
          <a:blip r:embed="rId1"/>
          <a:stretch/>
        </p:blipFill>
        <p:spPr>
          <a:xfrm>
            <a:off x="6680160" y="4437000"/>
            <a:ext cx="1924200" cy="16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404280"/>
            <a:ext cx="82900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00"/>
                </a:solidFill>
                <a:uFillTx/>
                <a:latin typeface="Tahoma"/>
              </a:rPr>
              <a:t>Пример 1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пределить значение целочисленной переменной х после выполнения следующего фрагмента программ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63"/>
          <p:cNvSpPr/>
          <p:nvPr/>
        </p:nvSpPr>
        <p:spPr>
          <a:xfrm>
            <a:off x="3924360" y="1700280"/>
            <a:ext cx="2001600" cy="74304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х:=5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у:=7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Line 64"/>
          <p:cNvSpPr/>
          <p:nvPr/>
        </p:nvSpPr>
        <p:spPr>
          <a:xfrm>
            <a:off x="4932360" y="242100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AutoShape 65"/>
          <p:cNvSpPr/>
          <p:nvPr/>
        </p:nvSpPr>
        <p:spPr>
          <a:xfrm>
            <a:off x="3924360" y="2781360"/>
            <a:ext cx="2001600" cy="7430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&lt;&gt;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Line 66"/>
          <p:cNvSpPr/>
          <p:nvPr/>
        </p:nvSpPr>
        <p:spPr>
          <a:xfrm>
            <a:off x="4956120" y="355608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AutoShape 67"/>
          <p:cNvSpPr/>
          <p:nvPr/>
        </p:nvSpPr>
        <p:spPr>
          <a:xfrm>
            <a:off x="3954600" y="3927600"/>
            <a:ext cx="2001600" cy="7412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&gt;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Line 68"/>
          <p:cNvSpPr/>
          <p:nvPr/>
        </p:nvSpPr>
        <p:spPr>
          <a:xfrm>
            <a:off x="5956200" y="4297320"/>
            <a:ext cx="75096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Line 69"/>
          <p:cNvSpPr/>
          <p:nvPr/>
        </p:nvSpPr>
        <p:spPr>
          <a:xfrm>
            <a:off x="6707160" y="42973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Rectangle 70"/>
          <p:cNvSpPr/>
          <p:nvPr/>
        </p:nvSpPr>
        <p:spPr>
          <a:xfrm>
            <a:off x="5956200" y="4668840"/>
            <a:ext cx="1752840" cy="55728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у:=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y-x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Line 71"/>
          <p:cNvSpPr/>
          <p:nvPr/>
        </p:nvSpPr>
        <p:spPr>
          <a:xfrm>
            <a:off x="3454560" y="4297320"/>
            <a:ext cx="500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Line 72"/>
          <p:cNvSpPr/>
          <p:nvPr/>
        </p:nvSpPr>
        <p:spPr>
          <a:xfrm>
            <a:off x="3454560" y="42973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Rectangle 73"/>
          <p:cNvSpPr/>
          <p:nvPr/>
        </p:nvSpPr>
        <p:spPr>
          <a:xfrm>
            <a:off x="3203640" y="4668840"/>
            <a:ext cx="1501560" cy="55728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-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Line 74"/>
          <p:cNvSpPr/>
          <p:nvPr/>
        </p:nvSpPr>
        <p:spPr>
          <a:xfrm>
            <a:off x="3703680" y="52261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Line 75"/>
          <p:cNvSpPr/>
          <p:nvPr/>
        </p:nvSpPr>
        <p:spPr>
          <a:xfrm>
            <a:off x="6707160" y="52261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Line 76"/>
          <p:cNvSpPr/>
          <p:nvPr/>
        </p:nvSpPr>
        <p:spPr>
          <a:xfrm>
            <a:off x="3703680" y="5597640"/>
            <a:ext cx="300348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Line 77"/>
          <p:cNvSpPr/>
          <p:nvPr/>
        </p:nvSpPr>
        <p:spPr>
          <a:xfrm>
            <a:off x="4956120" y="5597640"/>
            <a:ext cx="0" cy="3697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Line 78"/>
          <p:cNvSpPr/>
          <p:nvPr/>
        </p:nvSpPr>
        <p:spPr>
          <a:xfrm>
            <a:off x="5956200" y="3184560"/>
            <a:ext cx="25034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Line 79"/>
          <p:cNvSpPr/>
          <p:nvPr/>
        </p:nvSpPr>
        <p:spPr>
          <a:xfrm>
            <a:off x="8459640" y="3184560"/>
            <a:ext cx="0" cy="296856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Line 80"/>
          <p:cNvSpPr/>
          <p:nvPr/>
        </p:nvSpPr>
        <p:spPr>
          <a:xfrm>
            <a:off x="5707080" y="6153120"/>
            <a:ext cx="275256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Line 81"/>
          <p:cNvSpPr/>
          <p:nvPr/>
        </p:nvSpPr>
        <p:spPr>
          <a:xfrm>
            <a:off x="5707080" y="61531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Text Box 82"/>
          <p:cNvSpPr/>
          <p:nvPr/>
        </p:nvSpPr>
        <p:spPr>
          <a:xfrm>
            <a:off x="6443640" y="2492280"/>
            <a:ext cx="1501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Line 84"/>
          <p:cNvSpPr/>
          <p:nvPr/>
        </p:nvSpPr>
        <p:spPr>
          <a:xfrm>
            <a:off x="4859280" y="132876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Line 105"/>
          <p:cNvSpPr/>
          <p:nvPr/>
        </p:nvSpPr>
        <p:spPr>
          <a:xfrm>
            <a:off x="2700360" y="5950080"/>
            <a:ext cx="22478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Line 106"/>
          <p:cNvSpPr/>
          <p:nvPr/>
        </p:nvSpPr>
        <p:spPr>
          <a:xfrm>
            <a:off x="2700360" y="3141720"/>
            <a:ext cx="0" cy="28242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Line 107"/>
          <p:cNvSpPr/>
          <p:nvPr/>
        </p:nvSpPr>
        <p:spPr>
          <a:xfrm>
            <a:off x="2700360" y="3141720"/>
            <a:ext cx="12240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Text Box 108"/>
          <p:cNvSpPr/>
          <p:nvPr/>
        </p:nvSpPr>
        <p:spPr>
          <a:xfrm>
            <a:off x="2987640" y="3429000"/>
            <a:ext cx="1501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Line 109"/>
          <p:cNvSpPr/>
          <p:nvPr/>
        </p:nvSpPr>
        <p:spPr>
          <a:xfrm>
            <a:off x="4859280" y="1341360"/>
            <a:ext cx="0" cy="371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Rectangle 110"/>
          <p:cNvSpPr/>
          <p:nvPr/>
        </p:nvSpPr>
        <p:spPr>
          <a:xfrm>
            <a:off x="3924360" y="1700280"/>
            <a:ext cx="2001600" cy="743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х:=5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у:=7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Line 111"/>
          <p:cNvSpPr/>
          <p:nvPr/>
        </p:nvSpPr>
        <p:spPr>
          <a:xfrm>
            <a:off x="4932360" y="2409840"/>
            <a:ext cx="0" cy="371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AutoShape 112"/>
          <p:cNvSpPr/>
          <p:nvPr/>
        </p:nvSpPr>
        <p:spPr>
          <a:xfrm>
            <a:off x="3924360" y="2781360"/>
            <a:ext cx="2001600" cy="743040"/>
          </a:xfrm>
          <a:prstGeom prst="diamond">
            <a:avLst/>
          </a:prstGeom>
          <a:solidFill>
            <a:srgbClr val="000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&lt;&gt;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Text Box 113"/>
          <p:cNvSpPr/>
          <p:nvPr/>
        </p:nvSpPr>
        <p:spPr>
          <a:xfrm>
            <a:off x="2987640" y="3429000"/>
            <a:ext cx="1501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Line 114"/>
          <p:cNvSpPr/>
          <p:nvPr/>
        </p:nvSpPr>
        <p:spPr>
          <a:xfrm>
            <a:off x="4932360" y="3562200"/>
            <a:ext cx="0" cy="371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AutoShape 115"/>
          <p:cNvSpPr/>
          <p:nvPr/>
        </p:nvSpPr>
        <p:spPr>
          <a:xfrm>
            <a:off x="3995640" y="3933720"/>
            <a:ext cx="2001960" cy="741600"/>
          </a:xfrm>
          <a:prstGeom prst="diamond">
            <a:avLst/>
          </a:prstGeom>
          <a:solidFill>
            <a:srgbClr val="000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&gt;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Text Box 116"/>
          <p:cNvSpPr/>
          <p:nvPr/>
        </p:nvSpPr>
        <p:spPr>
          <a:xfrm>
            <a:off x="2916360" y="3645000"/>
            <a:ext cx="63648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Text Box 117"/>
          <p:cNvSpPr/>
          <p:nvPr/>
        </p:nvSpPr>
        <p:spPr>
          <a:xfrm>
            <a:off x="6300720" y="3645000"/>
            <a:ext cx="1501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Line 118"/>
          <p:cNvSpPr/>
          <p:nvPr/>
        </p:nvSpPr>
        <p:spPr>
          <a:xfrm>
            <a:off x="5940360" y="4292640"/>
            <a:ext cx="750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Line 119"/>
          <p:cNvSpPr/>
          <p:nvPr/>
        </p:nvSpPr>
        <p:spPr>
          <a:xfrm>
            <a:off x="6732720" y="4292640"/>
            <a:ext cx="0" cy="3715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Rectangle 120"/>
          <p:cNvSpPr/>
          <p:nvPr/>
        </p:nvSpPr>
        <p:spPr>
          <a:xfrm>
            <a:off x="5915160" y="4672080"/>
            <a:ext cx="1752480" cy="55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у:=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y-x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Line 121"/>
          <p:cNvSpPr/>
          <p:nvPr/>
        </p:nvSpPr>
        <p:spPr>
          <a:xfrm>
            <a:off x="6732720" y="5229360"/>
            <a:ext cx="0" cy="3715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Line 122"/>
          <p:cNvSpPr/>
          <p:nvPr/>
        </p:nvSpPr>
        <p:spPr>
          <a:xfrm>
            <a:off x="5003640" y="5589720"/>
            <a:ext cx="1708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Line 123"/>
          <p:cNvSpPr/>
          <p:nvPr/>
        </p:nvSpPr>
        <p:spPr>
          <a:xfrm>
            <a:off x="4932360" y="5589720"/>
            <a:ext cx="0" cy="369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Line 124"/>
          <p:cNvSpPr/>
          <p:nvPr/>
        </p:nvSpPr>
        <p:spPr>
          <a:xfrm>
            <a:off x="2700360" y="5950080"/>
            <a:ext cx="2247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Line 125"/>
          <p:cNvSpPr/>
          <p:nvPr/>
        </p:nvSpPr>
        <p:spPr>
          <a:xfrm>
            <a:off x="2700360" y="3141720"/>
            <a:ext cx="0" cy="2824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Line 126"/>
          <p:cNvSpPr/>
          <p:nvPr/>
        </p:nvSpPr>
        <p:spPr>
          <a:xfrm>
            <a:off x="2700360" y="3141720"/>
            <a:ext cx="1224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8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73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0880" y="380880"/>
          <a:ext cx="8439120" cy="6248520"/>
        </p:xfrm>
        <a:graphic>
          <a:graphicData uri="http://schemas.openxmlformats.org/drawingml/2006/table">
            <a:tbl>
              <a:tblPr/>
              <a:tblGrid>
                <a:gridCol w="1204920"/>
                <a:gridCol w="1027080"/>
                <a:gridCol w="1076400"/>
                <a:gridCol w="2565360"/>
                <a:gridCol w="256536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интерации цикл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начение х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начение 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&lt;&gt;y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&gt;y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75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&gt;75 – нет (вычитаем х из у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&gt;20 – да (вычитаем у из х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&gt;20 – да (вычитаем у из х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6:46:59Z</dcterms:created>
  <dc:creator>User</dc:creator>
  <dc:description/>
  <dc:language>en-US</dc:language>
  <cp:lastModifiedBy>Metod-kopilka.ru</cp:lastModifiedBy>
  <dcterms:modified xsi:type="dcterms:W3CDTF">2013-02-09T06:32:36Z</dcterms:modified>
  <cp:revision>148</cp:revision>
  <dc:subject/>
  <dc:title>МОУ-гуманитарно-педагогический лицей-интернат  г. Балашова Саратовской обла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