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EC9-93FC-4A68-8A52-5221AE57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F38-EA3E-47A7-85FD-2CAFCE5C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2F2-1770-4534-A739-FC2E974A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5F5-7F29-4F12-8416-50A89989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813E-3F31-44AC-A607-81D04ED2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2448-BEDF-4828-8CA8-B42D6258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65FA-ABEB-4EB7-88F0-CBFBFC21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4EB3-E466-48F9-83AB-75DA6E7E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E82F-7D79-40C3-924E-B122755D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9858-26F9-4F25-B0B8-F4C68FD6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CFA6-97B5-498B-B897-B39F93BF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587-02EC-4703-9FD0-411B1669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02CC-5EEE-4413-B729-8C0DB112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A1E2-DB85-451B-96A7-3BA1D800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3E1D-7E22-4BC1-B85A-9484B25F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F77A-3BED-4B36-A53F-BDDE6C43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CD4F-68F7-4ACC-ABF3-0BDC6056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02CC-1816-41BC-99A6-3BBCBD65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16AD-453C-4850-81CB-824CEA13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DD0CA-6BDD-4932-9FDE-856A0B7E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6830A-4902-441C-BEC9-B37CDB87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C4138-37D7-44B8-BDEA-92710298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3DA-2159-4006-B006-56DE1C79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6B2C-2C98-40DB-ABDD-56FAF24E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268C2-5795-48D5-B063-3401E645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FF022-D54C-467E-A8F2-CB24B99F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3B14-39A5-496A-A338-DAEDFA69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3B9F7-F863-4D76-8BD0-C3F3D621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451B7-0CE2-4B1E-87A5-75440396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7E2C-673A-4796-8019-30A4EAFE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A5CC2-3020-4A8D-9B4E-8D695C65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74940-3711-49D6-9744-261130C3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51A71-0852-409B-9E2C-8E24B7B2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8B0-C7B8-4CB5-AF55-2B5FBAD2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7198E-2ADB-47D3-AA0D-D07DAAC0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95EBF-9488-411A-8455-CD8E7249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7EB2D-A78F-4C7E-86DB-B00E6A6E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6CAA4-8C8E-47C6-B7D8-EDDB5004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6F864-97E6-418E-85DF-6515B89E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3EAD-60F1-4488-93CD-E02BDFB1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DFA9-92BC-46DC-B676-F546EDB4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E02C8-360A-4408-8F3B-01F1E906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79FB0-1E75-40F4-9C20-743B0B24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A9F82-252E-4748-B9AC-31B05A23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1B8-51D6-49D0-812B-9E576BBB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393A1-7FBA-4937-90F7-AC6635D3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3900E-3510-47EB-ABCE-26BF6687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A8F26-7617-4615-84AD-6DF0AE75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F0301-B9F7-4087-BD17-10A8D692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5C2A4-486F-4DD1-9DA6-894DB1D8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8570-8B7E-4660-AF28-2027B2A4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60F8C-0AA8-4ADA-98C0-851C3A76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ECC7C-B697-4AD2-9BC6-F62B303C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0CEA6-A3CE-49E9-9AAE-11207DE6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1BE5E-A65A-48C5-8762-14FD5105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56D-6F48-4CF1-AFBB-02A8C4B0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EA3B5-72E7-406D-9697-9FAEC23C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1B1B5-E7DA-4F3C-B66A-8B93AF72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01B2D-BC75-43D7-9475-AEE82EA4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819EF-E384-46E9-B491-8BD0F2E7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6B267-557C-4B4A-9871-8D6397CD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12718-9179-4687-B463-D86F5B7B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E2B8B-078F-45DB-B515-227A76EA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38385-3720-435F-BE4B-DC90DCCC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363CB-2C3A-4D24-B6B4-EC6CCF24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3BE56-8978-4272-B8CB-66D9927E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38E-55A4-45AC-81E5-EBBA3411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A6465-00F2-489D-AB8D-FE065BCF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07A93-9FD4-48EC-B2C0-4A5F5EDB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8CD80-7035-47A8-83A5-B37AC04D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EB4EB-0427-4697-A94D-EE987F15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039E8-1932-42F4-BC61-0B05E131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15997-9374-4E20-B65C-EA03DABB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31B75-286E-437E-81EA-5FBF0F54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0F3AA-EFEA-4A4B-98A7-A1238B9F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92280-38DF-4559-A5B0-589F78D2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4BB44-185A-4ADA-B33A-221F5983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404-9B6B-40AA-972B-C80453C6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667D8-2F09-4628-B5C9-CD6594C9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B0CA2-D3E1-4BF3-B375-8F1DE40B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ABE73-ED2C-46B9-A667-41AF7279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78D1C-ED26-4098-A682-1A206CBB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A05BE-F8DA-4C72-BB8C-2F9E24DA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82A-14B7-4801-BD51-EEEFD155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0E42-A471-4CFC-A0FE-CA3C9B4D2584}" type="slidenum">
              <a:rPr b="0" lang="ru-R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D17E-2602-47BF-B02A-E94C4749738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F8DC-400C-4B70-82A7-BC9D96AEB3F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4EE4-86A8-4897-9CBD-2C7DCC7C36D9}" type="slidenum">
              <a:rPr b="0" lang="ru-R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536F-9BA1-4071-8FB2-C6927711A112}" type="slidenum">
              <a:rPr b="0" lang="ru-R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E26F-9D98-431B-A8FB-52D7362CC5ED}" type="slidenum">
              <a:rPr b="0" lang="ru-R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7FB8-6DB6-4F23-B4A1-3F62528530AA}" type="slidenum">
              <a:rPr b="0" lang="ru-R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378000" y="152280"/>
            <a:ext cx="8315280" cy="1262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42926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убарева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Прямоугольник 3" descr=""/>
          <p:cNvPicPr/>
          <p:nvPr/>
        </p:nvPicPr>
        <p:blipFill>
          <a:blip r:embed="rId2"/>
          <a:stretch/>
        </p:blipFill>
        <p:spPr>
          <a:xfrm>
            <a:off x="109440" y="1920960"/>
            <a:ext cx="9004320" cy="31939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5" descr="печать-круглая.png"/>
          <p:cNvPicPr/>
          <p:nvPr/>
        </p:nvPicPr>
        <p:blipFill>
          <a:blip r:embed="rId3"/>
          <a:stretch/>
        </p:blipFill>
        <p:spPr>
          <a:xfrm>
            <a:off x="0" y="4708440"/>
            <a:ext cx="2149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Oval 2"/>
          <p:cNvSpPr/>
          <p:nvPr/>
        </p:nvSpPr>
        <p:spPr>
          <a:xfrm>
            <a:off x="468360" y="62064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Oval 3"/>
          <p:cNvSpPr/>
          <p:nvPr/>
        </p:nvSpPr>
        <p:spPr>
          <a:xfrm>
            <a:off x="2268360" y="692280"/>
            <a:ext cx="1008360" cy="1008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Oval 4"/>
          <p:cNvSpPr/>
          <p:nvPr/>
        </p:nvSpPr>
        <p:spPr>
          <a:xfrm>
            <a:off x="4211640" y="620640"/>
            <a:ext cx="100800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Oval 5"/>
          <p:cNvSpPr/>
          <p:nvPr/>
        </p:nvSpPr>
        <p:spPr>
          <a:xfrm>
            <a:off x="6012000" y="620640"/>
            <a:ext cx="100800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Oval 6"/>
          <p:cNvSpPr/>
          <p:nvPr/>
        </p:nvSpPr>
        <p:spPr>
          <a:xfrm>
            <a:off x="7667640" y="692280"/>
            <a:ext cx="1008000" cy="1008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250920" y="5229360"/>
            <a:ext cx="1368360" cy="1368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2050920" y="5229360"/>
            <a:ext cx="1368720" cy="1368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3924360" y="5229360"/>
            <a:ext cx="1368360" cy="13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5724360" y="5229360"/>
            <a:ext cx="1368720" cy="1368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7524720" y="5229360"/>
            <a:ext cx="136836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C 0.04965 0.17361 0.09948 0.34722 0.03836 0.38241 C -0.02275 0.41759 -0.28976 0.15741 -0.36667 0.21111 C -0.44358 0.26482 -0.43351 0.48472 -0.42327 0.70463 E">
                                      <p:cBhvr>
                                        <p:cTn id="162" dur="5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92593E-006 C -0.05452 0.14282 -0.10886 0.28564 -0.16164 0.30647 C -0.21441 0.32731 -0.26303 0.09606 -0.31667 0.1243 C -0.37049 0.15254 -0.425 0.47476 -0.48334 0.47545 C -0.54167 0.47615 -0.61112 0.14467 -0.66667 0.1287 C -0.7224 0.11272 -0.79653 0.28564 -0.81823 0.37985 C -0.83994 0.47407 -0.80382 0.64004 -0.79671 0.69328 E">
                                      <p:cBhvr>
                                        <p:cTn id="164" dur="5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Oval 2"/>
          <p:cNvSpPr/>
          <p:nvPr/>
        </p:nvSpPr>
        <p:spPr>
          <a:xfrm>
            <a:off x="468360" y="62064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Oval 3"/>
          <p:cNvSpPr/>
          <p:nvPr/>
        </p:nvSpPr>
        <p:spPr>
          <a:xfrm>
            <a:off x="2268360" y="692280"/>
            <a:ext cx="1008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Oval 4"/>
          <p:cNvSpPr/>
          <p:nvPr/>
        </p:nvSpPr>
        <p:spPr>
          <a:xfrm>
            <a:off x="4211640" y="62064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Oval 5"/>
          <p:cNvSpPr/>
          <p:nvPr/>
        </p:nvSpPr>
        <p:spPr>
          <a:xfrm>
            <a:off x="6012000" y="62064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Oval 6"/>
          <p:cNvSpPr/>
          <p:nvPr/>
        </p:nvSpPr>
        <p:spPr>
          <a:xfrm>
            <a:off x="7667640" y="69228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250920" y="5229360"/>
            <a:ext cx="1368360" cy="1368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2050920" y="5229360"/>
            <a:ext cx="1368720" cy="1368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9"/>
          <p:cNvSpPr/>
          <p:nvPr/>
        </p:nvSpPr>
        <p:spPr>
          <a:xfrm>
            <a:off x="3924360" y="5229360"/>
            <a:ext cx="1368360" cy="13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5724360" y="5229360"/>
            <a:ext cx="1368720" cy="1368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7524720" y="5229360"/>
            <a:ext cx="136836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093 C 0.06753 0.12037 0.13455 0.24167 0.22431 0.26204 C 0.31406 0.28241 0.44531 0.13449 0.53958 0.1213 C 0.63385 0.1081 0.75052 0.12384 0.78958 0.18241 C 0.82865 0.24097 0.84566 0.43889 0.77431 0.47315 C 0.70295 0.50741 0.48125 0.425 0.36181 0.38796 C 0.24236 0.35092 0.12344 0.23773 0.05764 0.25092 C -0.00816 0.26412 -0.0224 0.3919 -0.03264 0.46759 C -0.04288 0.54329 -0.01059 0.66505 -0.00347 0.70463 E">
                                      <p:cBhvr>
                                        <p:cTn id="170" dur="5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19 0.14097 0.03455 0.28217 0.03333 0.37592 C 0.03212 0.46967 0.04011 0.575 -0.00694 0.56296 C -0.05399 0.55092 -0.17969 0.34514 -0.24878 0.3037 C -0.31753 0.26227 -0.37621 0.32847 -0.42083 0.31481 C -0.46545 0.30116 -0.47917 0.25092 -0.51667 0.22222 C -0.55417 0.19352 -0.60885 0.13958 -0.64583 0.14259 C -0.68281 0.1456 -0.74601 0.19977 -0.73889 0.24074 C -0.73177 0.28171 -0.62621 0.31088 -0.60278 0.38889 C -0.57934 0.4669 -0.59948 0.65625 -0.59861 0.70926 E">
                                      <p:cBhvr>
                                        <p:cTn id="172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Oval 2"/>
          <p:cNvSpPr/>
          <p:nvPr/>
        </p:nvSpPr>
        <p:spPr>
          <a:xfrm>
            <a:off x="468360" y="62064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Oval 3"/>
          <p:cNvSpPr/>
          <p:nvPr/>
        </p:nvSpPr>
        <p:spPr>
          <a:xfrm>
            <a:off x="2268360" y="692280"/>
            <a:ext cx="1008360" cy="1008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Oval 4"/>
          <p:cNvSpPr/>
          <p:nvPr/>
        </p:nvSpPr>
        <p:spPr>
          <a:xfrm>
            <a:off x="4211640" y="620640"/>
            <a:ext cx="100800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Oval 5"/>
          <p:cNvSpPr/>
          <p:nvPr/>
        </p:nvSpPr>
        <p:spPr>
          <a:xfrm>
            <a:off x="6012000" y="620640"/>
            <a:ext cx="100800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Oval 6"/>
          <p:cNvSpPr/>
          <p:nvPr/>
        </p:nvSpPr>
        <p:spPr>
          <a:xfrm>
            <a:off x="7667640" y="692280"/>
            <a:ext cx="1008000" cy="1008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250920" y="5229360"/>
            <a:ext cx="1368360" cy="1368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2050920" y="5229360"/>
            <a:ext cx="1368720" cy="136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3924360" y="5229360"/>
            <a:ext cx="1368360" cy="13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5724360" y="5229360"/>
            <a:ext cx="1368720" cy="1368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7524720" y="5229360"/>
            <a:ext cx="136836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C 0.01059 0.18935 0.02135 0.3787 0.1 0.42431 C 0.17864 0.46991 0.3592 0.28773 0.4717 0.27338 C 0.5842 0.25903 0.72257 0.26782 0.775 0.33773 C 0.82743 0.40764 0.78472 0.63472 0.78663 0.69329 E">
                                      <p:cBhvr>
                                        <p:cTn id="178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7.03704E-006 C 0.17275 0.10925 0.34549 0.21851 0.41181 0.33772 C 0.47813 0.45694 0.4382 0.5861 0.39844 0.7155 E">
                                      <p:cBhvr>
                                        <p:cTn id="180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C -0.00346 0.29421 -0.00695 0.58866 -0.01007 0.70648 E">
                                      <p:cBhvr>
                                        <p:cTn id="182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C -0.20625 0.11088 -0.4125 0.22176 -0.47968 0.34213 C -0.54687 0.4625 -0.475 0.59236 -0.40312 0.72222 E">
                                      <p:cBhvr>
                                        <p:cTn id="184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92593E-006 C 0.02586 0.21388 0.05225 0.42777 -0.07657 0.47545 C -0.20539 0.52314 -0.65348 0.24768 -0.77344 0.28657 C -0.89323 0.32545 -0.84497 0.51712 -0.79671 0.70879 E">
                                      <p:cBhvr>
                                        <p:cTn id="186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6840" y="134136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orbel"/>
              </a:rPr>
              <a:t>«Девочки нашего класса дежурят в столовой. Сколькими способами можно выбрать двух дежурных в столовую из 5 девочек?»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4" descr=""/>
          <p:cNvPicPr/>
          <p:nvPr/>
        </p:nvPicPr>
        <p:blipFill>
          <a:blip r:embed="rId1"/>
          <a:stretch/>
        </p:blipFill>
        <p:spPr>
          <a:xfrm>
            <a:off x="268200" y="244440"/>
            <a:ext cx="8285400" cy="1260360"/>
          </a:xfrm>
          <a:prstGeom prst="rect">
            <a:avLst/>
          </a:prstGeom>
          <a:ln w="0">
            <a:noFill/>
          </a:ln>
        </p:spPr>
      </p:pic>
      <p:sp>
        <p:nvSpPr>
          <p:cNvPr id="310" name="Oval 8"/>
          <p:cNvSpPr/>
          <p:nvPr/>
        </p:nvSpPr>
        <p:spPr>
          <a:xfrm>
            <a:off x="1403280" y="3429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Oval 13"/>
          <p:cNvSpPr/>
          <p:nvPr/>
        </p:nvSpPr>
        <p:spPr>
          <a:xfrm>
            <a:off x="7740720" y="3429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14"/>
          <p:cNvSpPr/>
          <p:nvPr/>
        </p:nvSpPr>
        <p:spPr>
          <a:xfrm>
            <a:off x="4284720" y="1844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6372360" y="609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Oval 16"/>
          <p:cNvSpPr/>
          <p:nvPr/>
        </p:nvSpPr>
        <p:spPr>
          <a:xfrm>
            <a:off x="2843280" y="609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17"/>
          <p:cNvSpPr/>
          <p:nvPr/>
        </p:nvSpPr>
        <p:spPr>
          <a:xfrm flipV="1">
            <a:off x="1476360" y="1916280"/>
            <a:ext cx="280836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18"/>
          <p:cNvSpPr/>
          <p:nvPr/>
        </p:nvSpPr>
        <p:spPr>
          <a:xfrm>
            <a:off x="1476360" y="3429000"/>
            <a:ext cx="626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19"/>
          <p:cNvSpPr/>
          <p:nvPr/>
        </p:nvSpPr>
        <p:spPr>
          <a:xfrm>
            <a:off x="1476360" y="3429000"/>
            <a:ext cx="489600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20"/>
          <p:cNvSpPr/>
          <p:nvPr/>
        </p:nvSpPr>
        <p:spPr>
          <a:xfrm>
            <a:off x="1476360" y="3429000"/>
            <a:ext cx="136692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397512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3976920" y="136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1026000" y="30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7938000" y="28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27"/>
          <p:cNvSpPr/>
          <p:nvPr/>
        </p:nvSpPr>
        <p:spPr>
          <a:xfrm>
            <a:off x="66423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2249640" y="58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4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26" name="Oval 8"/>
          <p:cNvSpPr/>
          <p:nvPr/>
        </p:nvSpPr>
        <p:spPr>
          <a:xfrm>
            <a:off x="1403280" y="3429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7740720" y="3429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4284720" y="1844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Oval 11"/>
          <p:cNvSpPr/>
          <p:nvPr/>
        </p:nvSpPr>
        <p:spPr>
          <a:xfrm>
            <a:off x="6372360" y="5950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Oval 12"/>
          <p:cNvSpPr/>
          <p:nvPr/>
        </p:nvSpPr>
        <p:spPr>
          <a:xfrm>
            <a:off x="2843280" y="609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3"/>
          <p:cNvSpPr/>
          <p:nvPr/>
        </p:nvSpPr>
        <p:spPr>
          <a:xfrm flipV="1">
            <a:off x="1476360" y="1916280"/>
            <a:ext cx="280836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4"/>
          <p:cNvSpPr/>
          <p:nvPr/>
        </p:nvSpPr>
        <p:spPr>
          <a:xfrm>
            <a:off x="1476360" y="3429000"/>
            <a:ext cx="633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5"/>
          <p:cNvSpPr/>
          <p:nvPr/>
        </p:nvSpPr>
        <p:spPr>
          <a:xfrm>
            <a:off x="1476360" y="3429000"/>
            <a:ext cx="4896000" cy="252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6"/>
          <p:cNvSpPr/>
          <p:nvPr/>
        </p:nvSpPr>
        <p:spPr>
          <a:xfrm>
            <a:off x="1476360" y="3500280"/>
            <a:ext cx="1366920" cy="259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397512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3976920" y="136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1026000" y="30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7938000" y="28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6423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2249640" y="58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3"/>
          <p:cNvSpPr/>
          <p:nvPr/>
        </p:nvSpPr>
        <p:spPr>
          <a:xfrm>
            <a:off x="4284720" y="1916280"/>
            <a:ext cx="345600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4"/>
          <p:cNvSpPr/>
          <p:nvPr/>
        </p:nvSpPr>
        <p:spPr>
          <a:xfrm>
            <a:off x="4284720" y="1916280"/>
            <a:ext cx="2087640" cy="4033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5"/>
          <p:cNvSpPr/>
          <p:nvPr/>
        </p:nvSpPr>
        <p:spPr>
          <a:xfrm flipH="1">
            <a:off x="2916000" y="1916280"/>
            <a:ext cx="1368360" cy="417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4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45" name="Oval 8"/>
          <p:cNvSpPr/>
          <p:nvPr/>
        </p:nvSpPr>
        <p:spPr>
          <a:xfrm>
            <a:off x="1403280" y="3429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Oval 9"/>
          <p:cNvSpPr/>
          <p:nvPr/>
        </p:nvSpPr>
        <p:spPr>
          <a:xfrm>
            <a:off x="7740720" y="3429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4284720" y="1844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Oval 11"/>
          <p:cNvSpPr/>
          <p:nvPr/>
        </p:nvSpPr>
        <p:spPr>
          <a:xfrm>
            <a:off x="6372360" y="609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Oval 12"/>
          <p:cNvSpPr/>
          <p:nvPr/>
        </p:nvSpPr>
        <p:spPr>
          <a:xfrm>
            <a:off x="2843280" y="609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13"/>
          <p:cNvSpPr/>
          <p:nvPr/>
        </p:nvSpPr>
        <p:spPr>
          <a:xfrm flipV="1">
            <a:off x="1476360" y="1916280"/>
            <a:ext cx="280836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14"/>
          <p:cNvSpPr/>
          <p:nvPr/>
        </p:nvSpPr>
        <p:spPr>
          <a:xfrm>
            <a:off x="1476360" y="3429000"/>
            <a:ext cx="633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15"/>
          <p:cNvSpPr/>
          <p:nvPr/>
        </p:nvSpPr>
        <p:spPr>
          <a:xfrm>
            <a:off x="1476360" y="3429000"/>
            <a:ext cx="489600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16"/>
          <p:cNvSpPr/>
          <p:nvPr/>
        </p:nvSpPr>
        <p:spPr>
          <a:xfrm>
            <a:off x="1476360" y="3500280"/>
            <a:ext cx="1366920" cy="259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17"/>
          <p:cNvSpPr/>
          <p:nvPr/>
        </p:nvSpPr>
        <p:spPr>
          <a:xfrm>
            <a:off x="397512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3853080" y="155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1026000" y="30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20"/>
          <p:cNvSpPr/>
          <p:nvPr/>
        </p:nvSpPr>
        <p:spPr>
          <a:xfrm>
            <a:off x="7938000" y="28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21"/>
          <p:cNvSpPr/>
          <p:nvPr/>
        </p:nvSpPr>
        <p:spPr>
          <a:xfrm>
            <a:off x="66423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22"/>
          <p:cNvSpPr/>
          <p:nvPr/>
        </p:nvSpPr>
        <p:spPr>
          <a:xfrm>
            <a:off x="2249640" y="58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23"/>
          <p:cNvSpPr/>
          <p:nvPr/>
        </p:nvSpPr>
        <p:spPr>
          <a:xfrm>
            <a:off x="4284720" y="1916280"/>
            <a:ext cx="345600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24"/>
          <p:cNvSpPr/>
          <p:nvPr/>
        </p:nvSpPr>
        <p:spPr>
          <a:xfrm>
            <a:off x="4284720" y="1916280"/>
            <a:ext cx="2087640" cy="417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25"/>
          <p:cNvSpPr/>
          <p:nvPr/>
        </p:nvSpPr>
        <p:spPr>
          <a:xfrm flipH="1">
            <a:off x="2916000" y="1916280"/>
            <a:ext cx="1368360" cy="417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26"/>
          <p:cNvSpPr/>
          <p:nvPr/>
        </p:nvSpPr>
        <p:spPr>
          <a:xfrm flipH="1">
            <a:off x="6372000" y="3500280"/>
            <a:ext cx="1368360" cy="259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27"/>
          <p:cNvSpPr/>
          <p:nvPr/>
        </p:nvSpPr>
        <p:spPr>
          <a:xfrm flipH="1">
            <a:off x="2916000" y="3429000"/>
            <a:ext cx="482436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28"/>
          <p:cNvSpPr/>
          <p:nvPr/>
        </p:nvSpPr>
        <p:spPr>
          <a:xfrm>
            <a:off x="2916360" y="6093000"/>
            <a:ext cx="345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Corbel"/>
              </a:rPr>
              <a:t>«Девочки нашего класса решили обменяться фотографиями. Сколько нужно фотографий, учитывая что их 5 человек?»</a:t>
            </a:r>
            <a:endParaRPr b="0" lang="en-US" sz="53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4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69" name="Oval 8"/>
          <p:cNvSpPr/>
          <p:nvPr/>
        </p:nvSpPr>
        <p:spPr>
          <a:xfrm>
            <a:off x="1403280" y="3860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Oval 9"/>
          <p:cNvSpPr/>
          <p:nvPr/>
        </p:nvSpPr>
        <p:spPr>
          <a:xfrm>
            <a:off x="7740720" y="3860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4284720" y="2276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Oval 11"/>
          <p:cNvSpPr/>
          <p:nvPr/>
        </p:nvSpPr>
        <p:spPr>
          <a:xfrm>
            <a:off x="6372360" y="6524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Oval 12"/>
          <p:cNvSpPr/>
          <p:nvPr/>
        </p:nvSpPr>
        <p:spPr>
          <a:xfrm>
            <a:off x="2843280" y="6524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1476360" y="2347920"/>
            <a:ext cx="2808360" cy="1512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>
            <a:off x="1476360" y="3860640"/>
            <a:ext cx="62643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1476360" y="3860640"/>
            <a:ext cx="4896000" cy="266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1476360" y="3860640"/>
            <a:ext cx="1366920" cy="266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17"/>
          <p:cNvSpPr/>
          <p:nvPr/>
        </p:nvSpPr>
        <p:spPr>
          <a:xfrm>
            <a:off x="3995640" y="17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399780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19"/>
          <p:cNvSpPr/>
          <p:nvPr/>
        </p:nvSpPr>
        <p:spPr>
          <a:xfrm>
            <a:off x="1026000" y="344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7938000" y="330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6642360" y="604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2249640" y="625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4" descr=""/>
          <p:cNvPicPr/>
          <p:nvPr/>
        </p:nvPicPr>
        <p:blipFill>
          <a:blip r:embed="rId1"/>
          <a:stretch/>
        </p:blipFill>
        <p:spPr>
          <a:xfrm>
            <a:off x="-23760" y="146160"/>
            <a:ext cx="8435880" cy="1298520"/>
          </a:xfrm>
          <a:prstGeom prst="rect">
            <a:avLst/>
          </a:prstGeom>
          <a:ln w="0">
            <a:noFill/>
          </a:ln>
        </p:spPr>
      </p:pic>
      <p:sp>
        <p:nvSpPr>
          <p:cNvPr id="385" name="Oval 26"/>
          <p:cNvSpPr/>
          <p:nvPr/>
        </p:nvSpPr>
        <p:spPr>
          <a:xfrm>
            <a:off x="1403280" y="38624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Oval 27"/>
          <p:cNvSpPr/>
          <p:nvPr/>
        </p:nvSpPr>
        <p:spPr>
          <a:xfrm>
            <a:off x="7740720" y="3862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Oval 28"/>
          <p:cNvSpPr/>
          <p:nvPr/>
        </p:nvSpPr>
        <p:spPr>
          <a:xfrm>
            <a:off x="4284720" y="2278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Oval 29"/>
          <p:cNvSpPr/>
          <p:nvPr/>
        </p:nvSpPr>
        <p:spPr>
          <a:xfrm>
            <a:off x="6372360" y="63831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2843280" y="65260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1"/>
          <p:cNvSpPr/>
          <p:nvPr/>
        </p:nvSpPr>
        <p:spPr>
          <a:xfrm flipV="1">
            <a:off x="1476360" y="2349000"/>
            <a:ext cx="2808360" cy="1513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32"/>
          <p:cNvSpPr/>
          <p:nvPr/>
        </p:nvSpPr>
        <p:spPr>
          <a:xfrm flipV="1">
            <a:off x="1476360" y="3860280"/>
            <a:ext cx="626436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33"/>
          <p:cNvSpPr/>
          <p:nvPr/>
        </p:nvSpPr>
        <p:spPr>
          <a:xfrm>
            <a:off x="1476360" y="3862440"/>
            <a:ext cx="4896000" cy="2520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34"/>
          <p:cNvSpPr/>
          <p:nvPr/>
        </p:nvSpPr>
        <p:spPr>
          <a:xfrm>
            <a:off x="1547640" y="3933720"/>
            <a:ext cx="1366920" cy="259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35"/>
          <p:cNvSpPr/>
          <p:nvPr/>
        </p:nvSpPr>
        <p:spPr>
          <a:xfrm>
            <a:off x="3975120" y="1793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36"/>
          <p:cNvSpPr/>
          <p:nvPr/>
        </p:nvSpPr>
        <p:spPr>
          <a:xfrm>
            <a:off x="3976920" y="179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37"/>
          <p:cNvSpPr/>
          <p:nvPr/>
        </p:nvSpPr>
        <p:spPr>
          <a:xfrm>
            <a:off x="1026000" y="344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38"/>
          <p:cNvSpPr/>
          <p:nvPr/>
        </p:nvSpPr>
        <p:spPr>
          <a:xfrm>
            <a:off x="7938000" y="330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39"/>
          <p:cNvSpPr/>
          <p:nvPr/>
        </p:nvSpPr>
        <p:spPr>
          <a:xfrm>
            <a:off x="6642360" y="604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40"/>
          <p:cNvSpPr/>
          <p:nvPr/>
        </p:nvSpPr>
        <p:spPr>
          <a:xfrm>
            <a:off x="2249640" y="6257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41"/>
          <p:cNvSpPr/>
          <p:nvPr/>
        </p:nvSpPr>
        <p:spPr>
          <a:xfrm>
            <a:off x="4284720" y="2349360"/>
            <a:ext cx="3456000" cy="1513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Line 42"/>
          <p:cNvSpPr/>
          <p:nvPr/>
        </p:nvSpPr>
        <p:spPr>
          <a:xfrm>
            <a:off x="4284720" y="2349360"/>
            <a:ext cx="2087640" cy="4033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43"/>
          <p:cNvSpPr/>
          <p:nvPr/>
        </p:nvSpPr>
        <p:spPr>
          <a:xfrm flipH="1">
            <a:off x="2916000" y="2349360"/>
            <a:ext cx="1368360" cy="41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4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04" name="Oval 8"/>
          <p:cNvSpPr/>
          <p:nvPr/>
        </p:nvSpPr>
        <p:spPr>
          <a:xfrm>
            <a:off x="1403280" y="3789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Oval 9"/>
          <p:cNvSpPr/>
          <p:nvPr/>
        </p:nvSpPr>
        <p:spPr>
          <a:xfrm>
            <a:off x="7740720" y="3789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4284720" y="2205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Oval 11"/>
          <p:cNvSpPr/>
          <p:nvPr/>
        </p:nvSpPr>
        <p:spPr>
          <a:xfrm>
            <a:off x="6372360" y="6453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Oval 12"/>
          <p:cNvSpPr/>
          <p:nvPr/>
        </p:nvSpPr>
        <p:spPr>
          <a:xfrm>
            <a:off x="2843280" y="6453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Line 13"/>
          <p:cNvSpPr/>
          <p:nvPr/>
        </p:nvSpPr>
        <p:spPr>
          <a:xfrm flipV="1">
            <a:off x="1476360" y="2276640"/>
            <a:ext cx="2808360" cy="1512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Line 14"/>
          <p:cNvSpPr/>
          <p:nvPr/>
        </p:nvSpPr>
        <p:spPr>
          <a:xfrm>
            <a:off x="1476360" y="3789360"/>
            <a:ext cx="63356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1476360" y="3789360"/>
            <a:ext cx="4896000" cy="266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16"/>
          <p:cNvSpPr/>
          <p:nvPr/>
        </p:nvSpPr>
        <p:spPr>
          <a:xfrm>
            <a:off x="1476360" y="3860640"/>
            <a:ext cx="1366920" cy="2592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397512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3976920" y="172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Text Box 19"/>
          <p:cNvSpPr/>
          <p:nvPr/>
        </p:nvSpPr>
        <p:spPr>
          <a:xfrm>
            <a:off x="102600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7938000" y="323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21"/>
          <p:cNvSpPr/>
          <p:nvPr/>
        </p:nvSpPr>
        <p:spPr>
          <a:xfrm>
            <a:off x="6642360" y="596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2249640" y="61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Line 23"/>
          <p:cNvSpPr/>
          <p:nvPr/>
        </p:nvSpPr>
        <p:spPr>
          <a:xfrm>
            <a:off x="4284720" y="2276640"/>
            <a:ext cx="3456000" cy="1512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Line 24"/>
          <p:cNvSpPr/>
          <p:nvPr/>
        </p:nvSpPr>
        <p:spPr>
          <a:xfrm>
            <a:off x="4284720" y="2276640"/>
            <a:ext cx="2087640" cy="41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Line 25"/>
          <p:cNvSpPr/>
          <p:nvPr/>
        </p:nvSpPr>
        <p:spPr>
          <a:xfrm flipH="1">
            <a:off x="2916000" y="2276640"/>
            <a:ext cx="1368360" cy="41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Line 26"/>
          <p:cNvSpPr/>
          <p:nvPr/>
        </p:nvSpPr>
        <p:spPr>
          <a:xfrm flipH="1">
            <a:off x="6372000" y="3860640"/>
            <a:ext cx="1368360" cy="2592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Line 27"/>
          <p:cNvSpPr/>
          <p:nvPr/>
        </p:nvSpPr>
        <p:spPr>
          <a:xfrm flipH="1">
            <a:off x="2916000" y="3789360"/>
            <a:ext cx="4824360" cy="266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Line 28"/>
          <p:cNvSpPr/>
          <p:nvPr/>
        </p:nvSpPr>
        <p:spPr>
          <a:xfrm>
            <a:off x="2916360" y="6453360"/>
            <a:ext cx="3456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6:17:03Z</dcterms:created>
  <dc:creator>Alex</dc:creator>
  <dc:description/>
  <dc:language>en-US</dc:language>
  <cp:lastModifiedBy>Ёля</cp:lastModifiedBy>
  <dcterms:modified xsi:type="dcterms:W3CDTF">2012-11-12T15:12:28Z</dcterms:modified>
  <cp:revision>16</cp:revision>
  <dc:subject/>
  <dc:title>РОССИЯ</dc:title>
</cp:coreProperties>
</file>