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-wait%20long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327-A5AB-4CB4-BF54-043A048DC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BD7-6E08-4738-B6E5-E3DAF358ED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98C-60C8-41A7-9005-8944323F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E02-9742-4F0B-8B7A-ECB0E367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8965C-D07C-465C-A9EB-950975C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0757F-6C01-4AB2-972A-33D7AA9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41979-6CFF-47B2-83A0-C967EC7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70CF-C655-4E2C-8C71-DA5F1FC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7903B-DD13-4E1E-BE89-4D940BB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EEBC4-4F81-4EB8-9426-114B771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929CD-91A2-4B23-8597-3D0308BE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B183-3118-47B3-965D-BDA7B013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D7C43-BB99-4156-8656-080AFD7D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0134D-5AA5-4BC7-8D82-7CC3E4B4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DB6-5723-493E-8062-503057D2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DCE4E-087F-4225-B188-2D810EA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1F754-9ED3-4D3F-A13B-302F434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38CB-7080-4954-AB78-C9672C5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12F3A-C055-41E8-93FD-BEF456B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5034F-7F7D-4428-97AE-111B782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63198-B93E-49F7-8B96-F554142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493C5-35D8-4AFA-9B8E-16F85F3F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AF65A-1E9E-44D1-AC61-0CC5C01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6D357-8395-4282-9DDB-995DFDF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16480-EC58-49C2-9921-FD10B576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3E1-C3E2-4790-A9EC-920FBC83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FBA47-4B44-40A2-BF33-B7CB22CD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42C9-85F0-4909-9357-1FAE9598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D120-C5D4-4F7E-99DC-1BA140FA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787D6-4D69-4EF2-8C0F-0CC25BB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CAD93-DD04-485E-A074-7A4DD2E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BA2DA-C6A2-48E1-9A2D-63086C3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32D17-1187-4908-8AA8-9D6B8DE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58CC3-2896-4EC9-B49A-BFCFB449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6E1F-7E49-4026-8F04-80EED6C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DF368-66F1-42C8-AB3B-ABB2042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D159-D535-46EA-972D-97C7010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35BF2-AAEB-46AB-8214-E18F465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B4F2-0F4B-4835-8290-B36E0C95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E085-8ED4-498E-96F6-6741DFC9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64B3F-C096-4398-AA71-DB6270F5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18663-42FB-4BAE-A411-AEC6A2CC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FAE52-BBA2-40F3-9E59-F23C3C4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2C282-EDEF-424B-B4AC-F26CAD7C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1244-06FF-442C-9E79-6FE2AB4D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A45C2-F218-4057-B5F9-FA285BC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D2AC2-CEA2-4A37-AFD7-305F83E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3503-22B8-4CDB-8428-E6DCD6F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ECCA7-91E0-4F76-9941-510A338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175AC-FAC6-4C46-A8BE-307C651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C5602-C18E-4DC5-B031-86C7A49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D286E-AF28-4D0B-81AB-B596F5EF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36FA8-0F90-4DB0-B0F8-8452A5FE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21862-6AF0-49D0-9B33-0722DA26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16EB6-104B-4C70-8A25-B4C6361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05215-1134-4D3A-B345-BE9B530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C24EE-0EA1-4A74-87C2-BE7C8A5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BF23A-A21F-48B3-AEA5-34F3CF8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6BD-C164-4AD4-9930-E297263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67A45-818E-402A-8B54-B2CCAC6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BAD5D-11F2-4DEA-8A40-1AFB4B9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71C65-5AB1-4438-AD90-0697727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3BED1-90CB-415B-99E5-FF8C67A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2408F-10EB-4AB7-9C99-EF07223A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14887-2B8B-47D3-8FA2-E25FA946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592E0-EB8F-458C-BBEF-AA46DAA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D9DDF-3AE4-4B1A-B085-1E0077DE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D3E94-91A5-4CAB-B5FD-392374F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1AFBF-1D0F-4A42-AD8D-367B8EF8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19F5-8569-4E1B-A12E-AA00DE41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2EDF7-1973-4D85-AFA9-A3BED15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51BE7-7D06-4A63-B84E-A5D9AD9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B50FC-99BD-4C78-A8D7-EEAC551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885F9-9783-4480-82F1-EE132265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89504-3560-41E5-BF83-8DE19E7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47022-84EF-4D78-A1D1-C5110A2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D6F87-B671-4C53-92E0-5F0B9D61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B946C-542C-4491-BD2E-8BE7A317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464F1-2137-4E9F-9902-220C791D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4DFF8-1AC6-4874-830C-0FF6C75F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A7E-FCD9-4079-BC73-8DF9BAD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DD2B9-5E7D-4A42-97A8-7DCADD61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35EBB-44AF-4312-B19C-4DE957E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FACA0-D2D4-4DBA-A832-36FF1BC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5960E-3969-4489-8C76-6FF40FC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8D9B8-F0C3-44BC-9EBB-480835C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2DDE0-F78E-45A5-9396-C2CC9C0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C6BB9-538E-493E-B7AB-ACEE7459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6E6E2-6D24-4A40-98A2-8D1D7AB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59421-6203-4C9B-97FF-01DCE1BF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29BF5-4395-42DA-9A70-AA8F0A28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1E3-5EBF-4895-B227-78455876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CCE67-BE8A-456E-B5AB-C586A04C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31428-F59B-418D-AF39-AC0ECD4E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79A2B-8389-4930-B717-44CB195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AFE58-C7CC-4076-8B96-94874A65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9C0AB-0104-4B1C-8D9D-00C28BEC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49B1C-324C-466D-9002-D66BBCB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C9F51-B03A-4BB9-8D69-8172415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07F48-F2ED-4AC4-A54C-07F9174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4AB2D-1BB2-46E1-AA37-140434C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8FB10-4BC7-4CAC-87B4-84BDB4F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8DBD-3240-4282-83B9-15588FC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E5D2E-B3E9-46B4-AC28-AD3651C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7E8C9-0A0B-4337-8925-86C6C44E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8F25D-D824-46D1-A2C0-5DC396D6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05A8D-EA96-4FB2-B027-3A9E9AC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30316-71C1-43CB-A884-CAE4CEE5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493FF-5AEE-4ECC-BE32-DA5269A2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F9AD1-61B5-427F-AE74-5A3BADB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A4B3B-EF1E-4E5E-95BF-7465BA2D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DB465-3081-4675-A56B-0B7156D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4EF7A-A836-40F5-BC8A-F8015A5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5BB-BC1F-4EF6-9411-64B5321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D1F0-6984-4646-90D2-01782AD9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A7AC1-BE49-48DE-840B-E1E40E0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1B8E8-C636-4E3B-8370-C840CA1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ADD88-57C9-4908-8DF8-066475A7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B69A3-9023-4DFC-84B8-00691531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5F536-8F66-42C6-BFDA-E048F3E9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EC27E-D89F-4616-871D-75254603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E6BFB-419A-4EB9-8511-2C5FAE2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BA25D-2C2D-486F-B4D4-A22DF4EC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26C5A-C888-43C9-9E77-09E8E824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0B949-C51A-440D-80ED-F43F476A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520F-9265-4421-8E1B-FF05DBD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C9A0C-C13D-4628-91B4-71E77E9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8C455-68E1-4D09-9D3C-D5ADB0C2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EE6C2-1487-402C-B7CA-DBE4447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58989-CBCB-4B34-9A98-C7177A4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9CEE5-AC43-46C3-88EB-A69B0DA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BAC32-9569-4F90-AB91-0FF3A07F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74658-2FC0-4514-940E-C85419DA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69D0D-8D6A-454F-A663-5F1E0CF9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C285A-657A-4BA1-97B7-A96E418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D15EB-0567-4F9F-8A5F-7549346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6881-465F-4A1F-A861-84B3DAB5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87471-D93B-4B45-BEB9-0381C32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142F6-08B7-444D-9535-6D986EB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D9D7D-98C8-4BB9-8FD7-76B5148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127F6-1EED-4F1B-A8CA-F514121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9F0DD-4C67-424F-9418-B93BA37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870B8-FF27-4BBA-8B2B-7186125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BA0B0-A36C-41C7-8E3B-57461231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FB1A3-B426-4D35-A3E3-9C3D8D72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1898B-F1EA-450A-B95C-24497EE3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8C348-B618-4501-A8AB-F1084FF5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ED45-638E-4048-BEFB-4EDC05CD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AFD52-69F3-4A3B-B0F6-91D9647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0E70C-01D0-4FE7-A365-99214A5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84565-4936-4A8E-AA7D-B9A90657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BFD7D-999F-4645-835A-E73CB5F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04545-1CED-4DB0-B38D-52E7B01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D2EE9-2900-41F6-B044-D4DD988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CD39C-A4A1-4FD3-BA0E-DE8FED1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2D687-5FE3-4F28-8A03-3B4E2C4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79594-74A0-4A3B-A2E5-10C232A3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20742-1386-4FA1-B6B6-6B6A9AE9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B99D-FE06-44A6-90B5-D857E286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883F2-BB51-486D-B097-8AB7A67E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3282A-FED5-4CA8-8ED4-944BE2E5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CD2C53-6F0F-462E-A562-D927347F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20855-0A89-49AA-8F21-98FA7E41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959D4-3BD3-4BCA-AAB9-6F475C7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F1704-3AC2-4E1E-80AF-440BE96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D76AE-42CD-4BC8-A2AB-39C5610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D4248-14B5-414A-8A9B-CB0B8AE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B25DB-C639-444B-AC64-972512D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5B864-1F59-44D0-92FA-133D517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E8531-9C5A-47AB-8472-72D3E7E8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8034C-2BE8-4591-95A8-C67EFD4D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ACD8D-5443-4B11-8969-53F1C18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639AE-69E5-46F2-8360-0707E487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B8DF6-BC59-4B55-9E5B-C1EF2DC1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224B9-5414-406C-960F-9F362932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50BAA-496B-4ACF-9210-AA17B1A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10427B-B6DE-4E08-9F93-71B3183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DD635-19B9-40A2-A516-2CB77BE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FFE8F-88B3-4194-97D9-C1F391C7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A979E-EDF0-4690-801C-E49D894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8759D-54C7-4EB7-A1B2-F7FC909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A7A64-6B47-45E9-A13B-B5C75F8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0CF87-DBCA-4829-B54D-97DEF0B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E5C5C-A7DC-4FEE-B1AE-90DE203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196CA-F3AB-4A1C-854E-1A6A5E7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AE406-2E1E-4D55-B974-B5B3FB4F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F8F8F-D2C0-4792-A0C4-848780A3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C269B-C44A-4A30-86F6-5EE86F5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EDA9F-F407-4434-9137-970DFA47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9B5A0-8252-44EE-8698-AA781A87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879A9E-14C6-4BAB-AE1D-8A0D49B7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BFD60-3592-4BA4-872C-30AE860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5C43B-64DD-4F6F-BADF-F0397E4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6318EB-8619-4377-8BE9-AA9870C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CE6D9-0755-4AA4-9170-E97495B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22039B-1616-486C-8245-7DF61DC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E36B5-647E-4D69-AE75-E3D314A9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C6B04-DA28-4AFD-BB2B-3F668AA6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4D4C9-20B2-47C8-9A02-0D5A7A97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AA1D3-7AE7-4D59-BB9C-ABF13D7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75363B-7277-4991-B0CE-6FB7A24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5BBED1-E272-49F3-986D-3DC3B78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0F590-D544-4725-91FF-7E51FD7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5F55D1-A51F-469A-8632-9142B0E4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60339A-F7A3-4406-8C08-6C2FF89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034156-73D7-499E-BBCC-AE8C3B0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66EAE8-7978-4746-91FD-D5F4C00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940014-21CF-462A-9AF2-73EBCB3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8ABA59-1AE6-4BF6-90AC-395A0FB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64CEBF-E4DA-4E61-898C-80EDDD61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F45DDA-4DB5-4088-AA8C-883949EA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635EC-38BB-411F-B1AE-F508D3C6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8C0E4-37DC-430E-B4E5-1A306184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F4E-411D-4157-9EC4-F4FC3B8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95FCC-7DD0-41D3-B7A3-860E8C8D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8390E-76EC-42F1-B958-7D0796A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8C99B-391C-47A6-B2A2-C475D23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A1926-AF9F-4FEE-8AD8-107B267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5A179-CCB2-44BC-B4AB-D6F644B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C6C4B-0062-4262-89AF-57360249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F2CFD-8BE6-4B8A-82B6-0BB011A2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5022-4662-4EA7-89E3-7CDCD353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A0E0-1CA7-4B6A-953E-E7DF8DD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9BED-1371-4913-A5A6-E4C1CBD6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173-BC55-4DF0-896C-DD6557D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B03B-D2D3-44FB-A4F0-960E193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176F-2EA9-4FE3-BF04-497EF48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B525-E105-48FA-B0AB-5F9BB4FE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8D48-A1F2-4A56-BAF2-C781B4D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F23B-434E-4818-B3C6-265ABE7B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ABDC-CEB1-417C-952D-08A7169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14AE-176E-4562-BBE5-6537516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DA2A-BB68-4130-B6CA-F3A213EF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A7F3-A585-4930-B1FF-EFD5929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3031-B105-4690-994D-4BAD1DDC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56-3083-4F23-967B-73814B54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1804-FE91-4360-951A-E3742B55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73A4-A709-44E5-86E2-6F2F05D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20CD-56A0-44BB-9D76-289F25E4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C4A6-FB01-44BA-A66B-804E1D9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9352-10D6-4878-86CB-7D45BBDB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5526D-89BA-4E5D-B9AE-91620F4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29BE-184A-48F1-A13A-8C69285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789F-721C-4D22-B7AB-AE7120E3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F464-8F19-4CAA-A33C-D67A5C3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5CE3-D3BF-4E95-B9AA-7ED2566C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D58-70A0-4534-B7FF-3B54072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32CE-9121-416F-9C39-4A09611A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8FA9-A19B-45BE-8E76-0EF569B8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3415-FB84-4406-86CF-24706DB2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577D8-557C-41AF-B22D-DC10113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8600-E334-4781-A864-6DEE147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9502-0F10-4AD6-9A7C-7B9E2A33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2D9A-E522-426F-9F1E-7E491C98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7672-A7B2-4F83-94B9-F6B75D1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EF64-9781-4064-8DCD-7C6C19E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379D-FF12-43EF-9C7E-E39BA56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D3C-8C95-42D0-AA92-EC38221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6255-BBD4-498E-B723-E4B30E0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7DADC-1A07-4A75-97AB-BC9BC5D8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6164-073B-4351-BF25-1F008C23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4765-FEAE-4805-85FC-7CB87B2B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8EFD-4DCB-4EB0-BBDE-FF041047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EDF70-E0D3-4599-A063-DDE160A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61D8-DAFE-49F5-BEE2-BE477C4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B5496-21E1-4F2A-96AC-5EC1C59E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3810-F269-4A4E-A416-70A838E9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21205-4227-41D5-ACEA-C04890C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03A-0FD7-4741-AE0A-1A93220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A10C-081A-47C6-892C-78C1B07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80D6-E66C-4639-A5EB-D8B7D44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7BE3-D1F8-4A1B-9DBC-10924CF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91D8D-D133-4556-8430-11FE72C6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F805-7378-4907-BC1C-505BB2A1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B7C6-3A46-4E64-A258-408ED628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A484-D6D8-4B79-80B9-1CE20C2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73E9-DAFC-4A51-89D2-5108B962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09F1-4493-4DD3-A810-558EAFB8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DDD4-6AE6-4DFB-85D1-E128588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954-425B-4ABE-93B8-F0BB733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9C8F-B1A6-44F4-B4CC-833D7DA2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0DB6-F8D1-4343-9CB4-156F8D9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1A5E-B1DD-49D4-8C24-7579751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73DD-DB04-4E8F-9C00-638658B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90BA-CC07-4484-BD71-F33DE2A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C373-96C8-4800-8258-3021FD16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BB646-92C0-40F1-9FF2-CD217BE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64F7B-EB6A-4E25-83A4-EAFB7D5B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9401C-988F-420F-83E5-33D9BF2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56F7-C963-4CC2-A881-42F7161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5D8-FECC-4836-9F94-73E13A5D9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252-D385-4ACA-BAD6-72FDDA910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EFF8-80B3-47AB-B400-00EBBC7DD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0EB-DF8B-45DC-8BC6-1331CED19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69F-9AEB-4091-ADEF-4D8F05E36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3518-37FE-45AA-8898-673D6CC36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8D9-BF2F-4CA9-A678-2CC805D531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00F-C300-4FED-8F49-A820B9697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F089-B5C9-43BF-A846-3EF75C830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405-9A6F-4EA2-B51A-C63C295296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2CD-CDA5-4402-BDE6-5969C8502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CC3F-703D-4D27-A444-CAF309866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201-1476-4FE0-8274-FC1959139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2B6E-FDF3-49FA-980F-11798A84E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D73-39D6-4750-BA36-2A671248F1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A85-93A7-4F24-8B24-27C478457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DCC-5A76-43B6-AD24-74941196F45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8EAD-31F7-409F-BB50-4CD222127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A020-F65C-451D-8B17-EA180B9B3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4FD2-85DA-447A-99C3-8429F5F27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4BA-4808-41F4-A465-5003804A1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D59-76B8-49F2-810F-CD4C02CA0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5E3-87F5-4246-AC9C-3ABF35BBD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7B9-3355-4ADC-8780-3196E7C6C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jeopardy-wait%20long.wav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евое 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«Специальная (коррекционная) общеобразовательная школа V вида №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Комсомольска – на – Амуре Хабаровского края»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6920" y="4292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мова Наталья Петровна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математики и информа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акая битва стала началом коренного перелома в ходе ВОВ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539640" y="4797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итва под Москвой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честь каких городов Москва впервые салютовала победителям в 1943 г. ?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75132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елгород, Орё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Советский военачальник. С сентября 1942 года командовал 62-й армией, прославившейся героической обороной Сталинграда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9280" y="20606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95280" y="522936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Чуйков Василий Иванович (1900-1982)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Генерал Советской армии был захвачен в плен в августе 1941 года. Немцы много раз предлагали перейти на их сторону. Ему сулили свободу и всяческие блага. Он решительно отказался. В нескольких лагерях смерти (Майданек, Освенцим и др.) он продолжал вести антифашистскую работу среди военнопленных. Наконец, в морозный зимний день 1945 года у стены лагеря Маутхаузен, фашисты, поливая его водой из шланга, превратили его в ледяную статую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17576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395280" y="587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енерал Карбышев Дмитрий Михайлович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оветский военачальник. В январе-июле 1941 года – начальник Генштаба Вооруженных сил, заместитель наркома обороны СССР. Сыграл выдающуюся роль в Московской битве. С августа 1942 года – первый заместитель наркома обороны СССР и заместитель Верховного Главнокомандующего, координировал действия фронтов в Сталинградской битве, по прорыву блокады Ленинграда, в битвах под Курском и за Днепр, в Белорусской и других операциях. 9 мая 1945 года принял в Берлине капитуляцию вооруженных сил Германии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888480" y="270828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880920" y="566064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уков Георгий Константинович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оветский военачальник. Участник Первой мировой и гражданский войн. В 1939 году необоснованно репрессирован, восстановлен на службе в 1940 году. В Великой Отечественной войне войска под его командованием успешно действовали в Смоленском сражении 1941 го, в Московской, Сталинградской и Курской битвах, Берлинской операции. С 1944 года Маршал Советского Союза. Командовал Парадом Победы в Москве 24 июня 1945 г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10448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8000" y="52311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стантин Константинович Рокоссовский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4"/>
          <p:cNvSpPr/>
          <p:nvPr/>
        </p:nvSpPr>
        <p:spPr>
          <a:xfrm>
            <a:off x="1436760" y="1773360"/>
            <a:ext cx="623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оенная тех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и вооружение ВОВ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0" y="58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ихаил Тимофеевич Калашнико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то из советских конструкторов стрелкового оружия создал новый тип автомата и автоматические пулеметы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1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Лучшим танком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мировой войны считается легендарная машина, созданная в 1940 году коллективом под руководством М.И. Кошкина, Н.А. Кучеренко и А.А. Морозова. Один экземпляр стоит на берегу озера Балхаш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478160" y="1484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68360" y="5445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Танк Т-34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розное оружие ВОВ или языком официальных документов «мобильная установка залпового огня», ей устанавливали монументы и памятники, ей посвящали свои произведения писатели поэты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621080" y="2492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атюш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ак назывались танки до того, как появился танк Т-34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1441800" y="177336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763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нкет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4"/>
          <p:cNvSpPr txBox="1"/>
          <p:nvPr/>
        </p:nvSpPr>
        <p:spPr>
          <a:xfrm>
            <a:off x="1835280" y="436572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135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Impact"/>
              </a:rPr>
              <a:t>Своя   игра</a:t>
            </a:r>
            <a:endParaRPr b="1" lang="en-US" sz="4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13500000"/>
              </a:gradFill>
              <a:effectLst>
                <a:outerShdw dist="0" dir="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1" name="Rectangle 6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199360" cy="1311120"/>
          </a:xfrm>
          <a:prstGeom prst="rect">
            <a:avLst/>
          </a:prstGeom>
          <a:ln w="0">
            <a:noFill/>
          </a:ln>
        </p:spPr>
      </p:pic>
      <p:pic>
        <p:nvPicPr>
          <p:cNvPr id="1122" name="Прямоугольник 6" descr=""/>
          <p:cNvPicPr/>
          <p:nvPr/>
        </p:nvPicPr>
        <p:blipFill>
          <a:blip r:embed="rId2"/>
          <a:stretch/>
        </p:blipFill>
        <p:spPr>
          <a:xfrm>
            <a:off x="1438200" y="1500120"/>
            <a:ext cx="622476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 назван по имени выдающегося русского полководца, героя Ледового побоища 1242 г. этим орденом награждали офицеров Сов. Армии за личную храбрость и умение воевать малыми силами против значительно превосходящих сил противника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1182960" y="292428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84360" y="5516640"/>
            <a:ext cx="57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Александра Невского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каком году были вручены первые награды – медали «За оборону Ленинграда», «За оборону Одессы»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За оборону Севастополя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09584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1258920" y="544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941-1942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ский знак сияет золотыми лучами, которые исходят от красной звезды, а сама звезда прикрывает собою кавалерийскую шашку и винтовку пехотинца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2420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Отечественной войны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то написано на медали «За победу над Германией в ВОВ 1941-45 гг.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95840" y="206064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468360" y="494172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аше дело правое мы победили!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лчо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Группа 29"/>
          <p:cNvGrpSpPr/>
          <p:nvPr/>
        </p:nvGrpSpPr>
        <p:grpSpPr>
          <a:xfrm>
            <a:off x="324000" y="620640"/>
            <a:ext cx="8493120" cy="5662800"/>
            <a:chOff x="324000" y="620640"/>
            <a:chExt cx="8493120" cy="5662800"/>
          </a:xfrm>
        </p:grpSpPr>
        <p:sp>
          <p:nvSpPr>
            <p:cNvPr id="1124" name="Rectangle 4">
              <a:hlinkClick r:id="" action="ppaction://hlinkshowjump?jump=nextslide"/>
            </p:cNvPr>
            <p:cNvSpPr/>
            <p:nvPr/>
          </p:nvSpPr>
          <p:spPr>
            <a:xfrm>
              <a:off x="324000" y="62208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Геро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 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йны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5">
              <a:hlinkClick r:id="" action="ppaction://hlinkshowjump?jump=nextslide"/>
            </p:cNvPr>
            <p:cNvSpPr/>
            <p:nvPr/>
          </p:nvSpPr>
          <p:spPr>
            <a:xfrm>
              <a:off x="2050920" y="622080"/>
              <a:ext cx="1655640" cy="1006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пераци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7">
              <a:hlinkClick r:id="" action="ppaction://hlinkshowjump?jump=nextslide"/>
            </p:cNvPr>
            <p:cNvSpPr/>
            <p:nvPr/>
          </p:nvSpPr>
          <p:spPr>
            <a:xfrm>
              <a:off x="7236000" y="62208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рден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медали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8"/>
            <p:cNvSpPr/>
            <p:nvPr/>
          </p:nvSpPr>
          <p:spPr>
            <a:xfrm>
              <a:off x="395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9"/>
            <p:cNvSpPr/>
            <p:nvPr/>
          </p:nvSpPr>
          <p:spPr>
            <a:xfrm>
              <a:off x="2124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0"/>
            <p:cNvSpPr/>
            <p:nvPr/>
          </p:nvSpPr>
          <p:spPr>
            <a:xfrm>
              <a:off x="3851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11"/>
            <p:cNvSpPr/>
            <p:nvPr/>
          </p:nvSpPr>
          <p:spPr>
            <a:xfrm>
              <a:off x="7236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12"/>
            <p:cNvSpPr/>
            <p:nvPr/>
          </p:nvSpPr>
          <p:spPr>
            <a:xfrm>
              <a:off x="395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14"/>
            <p:cNvSpPr/>
            <p:nvPr/>
          </p:nvSpPr>
          <p:spPr>
            <a:xfrm>
              <a:off x="2124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851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7236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17"/>
            <p:cNvSpPr/>
            <p:nvPr/>
          </p:nvSpPr>
          <p:spPr>
            <a:xfrm>
              <a:off x="395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18"/>
            <p:cNvSpPr/>
            <p:nvPr/>
          </p:nvSpPr>
          <p:spPr>
            <a:xfrm>
              <a:off x="2124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19"/>
            <p:cNvSpPr/>
            <p:nvPr/>
          </p:nvSpPr>
          <p:spPr>
            <a:xfrm>
              <a:off x="3851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0"/>
            <p:cNvSpPr/>
            <p:nvPr/>
          </p:nvSpPr>
          <p:spPr>
            <a:xfrm>
              <a:off x="7236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1"/>
            <p:cNvSpPr/>
            <p:nvPr/>
          </p:nvSpPr>
          <p:spPr>
            <a:xfrm>
              <a:off x="395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22"/>
            <p:cNvSpPr/>
            <p:nvPr/>
          </p:nvSpPr>
          <p:spPr>
            <a:xfrm>
              <a:off x="2124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23"/>
            <p:cNvSpPr/>
            <p:nvPr/>
          </p:nvSpPr>
          <p:spPr>
            <a:xfrm>
              <a:off x="3851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Rectangle 24"/>
            <p:cNvSpPr/>
            <p:nvPr/>
          </p:nvSpPr>
          <p:spPr>
            <a:xfrm>
              <a:off x="7236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Rectangle 25">
              <a:hlinkClick r:id="" action="ppaction://hlinkshowjump?jump=nextslide"/>
            </p:cNvPr>
            <p:cNvSpPr/>
            <p:nvPr/>
          </p:nvSpPr>
          <p:spPr>
            <a:xfrm>
              <a:off x="5508720" y="62064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4" name="Rectangle 26">
              <a:hlinkClick r:id="" action="ppaction://hlinkshowjump?jump=nextslide"/>
            </p:cNvPr>
            <p:cNvSpPr/>
            <p:nvPr/>
          </p:nvSpPr>
          <p:spPr>
            <a:xfrm>
              <a:off x="3851280" y="62208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Совет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ачальник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27"/>
            <p:cNvSpPr/>
            <p:nvPr/>
          </p:nvSpPr>
          <p:spPr>
            <a:xfrm>
              <a:off x="550872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>
              <a:off x="550872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Rectangle 29"/>
            <p:cNvSpPr/>
            <p:nvPr/>
          </p:nvSpPr>
          <p:spPr>
            <a:xfrm>
              <a:off x="550872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8" name="Rectangle 30"/>
            <p:cNvSpPr/>
            <p:nvPr/>
          </p:nvSpPr>
          <p:spPr>
            <a:xfrm>
              <a:off x="550872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9" name="Rectangle 32"/>
            <p:cNvSpPr/>
            <p:nvPr/>
          </p:nvSpPr>
          <p:spPr>
            <a:xfrm>
              <a:off x="5508720" y="69516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а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техник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вооружен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7 января 1942 года в газете «Правда»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публикован очерк Петра Лидова «Таня».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зовите подлинное имя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героини этого очерка, героини-партизанки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784160" y="220500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611280" y="4797360"/>
            <a:ext cx="7488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оя Космодемьянская (1923-41) – партизанка, Герой Советского Союза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 весь мир прозвучало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имя московского парня, в прошлом рабочего мясокомбината, а теперь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летчика. В ночном воздушном бою он таранил фашистский бомбардировщик. Это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ервый в мире ночной таран! После этого летчик сбил еще 5 вражеских самолетов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498320" y="299736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0920" y="530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лалихин Виктор Васильевич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тважный летчик, в марте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942 года его самолет был подбит и ему пришлось приземлиться в тылу врага.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8 суток он пробирался к своим. После ампутации обеих ног освоил протезы 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вернулся в строй. Назовите имя героя, как сложилась его судьба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857240" y="3357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79280" y="580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ресьев Алексей Петрович (1916-2001)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ядовой гвардейского стрелкового полка 23.02.1943 года в бою за деревню Чернушк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Псковская обл.) закрыл телом амбразуру пулеметного дзота гитлеровцев, препятствовавшего продвижению подразделения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714320" y="3141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24000" y="5734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тросов Александр Матвеевич (1924-4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емецкий план ведения войны против СССР назывался…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лан Барбаросс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Назовите кодовое название операции немецких войск под Москво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75276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2556000" y="465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Тайфун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Ёля</cp:lastModifiedBy>
  <dcterms:modified xsi:type="dcterms:W3CDTF">2012-10-08T15:35:30Z</dcterms:modified>
  <cp:revision>47</cp:revision>
  <dc:subject/>
  <dc:title>Презентация PowerPoint</dc:title>
</cp:coreProperties>
</file>