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23E-DA6B-4D19-A093-5833CB75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C5F-6DC4-4AFE-8096-52D45B5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08E-CA17-432B-9B62-433F778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0D2-4381-4B6A-BFEC-19957053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D1F-A4F3-4CDD-A399-2A26066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2EA-C3DA-4083-9F27-B0B44F9C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AE-6653-4BE3-8C74-B8000B5E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0D7-A32B-4CF9-8C1D-69838A42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6A2-C00C-4786-AF83-37C09259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BBD-6F85-4943-9772-7150241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45F-32F3-480E-82A3-28B05D9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31C-8D12-4859-9EF4-2ABF954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1EAD-DEA5-4122-B8CF-7D9F17A00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86120" y="507204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готовила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чальных классов МКОУ Аннинская СОШ № 3 с УИ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ла Алексеевна Кузь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уке"/>
          <p:cNvPicPr/>
          <p:nvPr/>
        </p:nvPicPr>
        <p:blipFill>
          <a:blip r:embed="rId1"/>
          <a:stretch/>
        </p:blipFill>
        <p:spPr>
          <a:xfrm rot="20259000">
            <a:off x="755280" y="3573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сап"/>
          <p:cNvPicPr/>
          <p:nvPr/>
        </p:nvPicPr>
        <p:blipFill>
          <a:blip r:embed="rId2"/>
          <a:stretch/>
        </p:blipFill>
        <p:spPr>
          <a:xfrm rot="20228400">
            <a:off x="6732720" y="3330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-195120"/>
            <a:ext cx="61930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116000" y="0"/>
            <a:ext cx="734364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ая 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ифы Древней Греци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рой, обладатель шапки-невидимки. Он добыл голову Медузы Горгоны, убил морское чудище и освободил Андроме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067280" y="4221000"/>
            <a:ext cx="4344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Персей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кен"/>
          <p:cNvPicPr/>
          <p:nvPr/>
        </p:nvPicPr>
        <p:blipFill>
          <a:blip r:embed="rId1"/>
          <a:stretch/>
        </p:blipFill>
        <p:spPr>
          <a:xfrm>
            <a:off x="971640" y="400536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Богиня – покровительница воинов, героев, богиня мудрости и зн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547640" y="4581360"/>
            <a:ext cx="684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 Афина - Паллад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Picture 5" descr="мит"/>
          <p:cNvPicPr/>
          <p:nvPr/>
        </p:nvPicPr>
        <p:blipFill>
          <a:blip r:embed="rId1"/>
          <a:stretch/>
        </p:blipFill>
        <p:spPr>
          <a:xfrm>
            <a:off x="3419640" y="2708280"/>
            <a:ext cx="28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итан похитил с Олимпа огонь и принёс его людя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547640" y="3789360"/>
            <a:ext cx="6193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Прометей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" name="Picture 5" descr="свы"/>
          <p:cNvPicPr/>
          <p:nvPr/>
        </p:nvPicPr>
        <p:blipFill>
          <a:blip r:embed="rId1"/>
          <a:stretch/>
        </p:blipFill>
        <p:spPr>
          <a:xfrm>
            <a:off x="3492360" y="256536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Юноша, улетевший из плена с помощью крыльев из перьев, скреплённых воском. Он поднялся слишком высоко, солнце растопило воск, и юноша упал в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987640" y="4437000"/>
            <a:ext cx="446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Икар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сми"/>
          <p:cNvPicPr/>
          <p:nvPr/>
        </p:nvPicPr>
        <p:blipFill>
          <a:blip r:embed="rId1"/>
          <a:stretch/>
        </p:blipFill>
        <p:spPr>
          <a:xfrm>
            <a:off x="468360" y="429264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оролся с Тефон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50920" y="4005360"/>
            <a:ext cx="554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Аполлон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сч"/>
          <p:cNvPicPr/>
          <p:nvPr/>
        </p:nvPicPr>
        <p:blipFill>
          <a:blip r:embed="rId1"/>
          <a:stretch/>
        </p:blipFill>
        <p:spPr>
          <a:xfrm>
            <a:off x="3995640" y="234936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ился с немейским льв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3789360"/>
            <a:ext cx="59752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Геракл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Чудовище, которое жило на горе Эриманф. Его одолел Геракл, пустив ему в глаза солнечный зайч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268360" y="4365720"/>
            <a:ext cx="61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( Эриманф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епрь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5" descr="фыв"/>
          <p:cNvPicPr/>
          <p:nvPr/>
        </p:nvPicPr>
        <p:blipFill>
          <a:blip r:embed="rId6"/>
          <a:stretch/>
        </p:blipFill>
        <p:spPr>
          <a:xfrm>
            <a:off x="395280" y="4292640"/>
            <a:ext cx="1739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96840" y="1785960"/>
            <a:ext cx="8742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рокрустово лож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Мерка, под которую насильственно подгоняют что-либо для неё не 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Что значит крылатое выражение «Загадка Сфинкс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Готовы ли вы познакомиться с этой истор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Если да, то в пу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Самовлюблённы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332000" y="404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анталовы м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1989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Нестерпимые муки из-за невозможности достигнуть цели, несмотря на её близ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пр"/>
          <p:cNvPicPr/>
          <p:nvPr/>
        </p:nvPicPr>
        <p:blipFill>
          <a:blip r:embed="rId1"/>
          <a:stretch/>
        </p:blipFill>
        <p:spPr>
          <a:xfrm>
            <a:off x="324000" y="2060640"/>
            <a:ext cx="19764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сап"/>
          <p:cNvPicPr/>
          <p:nvPr/>
        </p:nvPicPr>
        <p:blipFill>
          <a:blip r:embed="rId2"/>
          <a:stretch/>
        </p:blipFill>
        <p:spPr>
          <a:xfrm>
            <a:off x="6156360" y="620640"/>
            <a:ext cx="251928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ми"/>
          <p:cNvPicPr/>
          <p:nvPr/>
        </p:nvPicPr>
        <p:blipFill>
          <a:blip r:embed="rId3"/>
          <a:stretch/>
        </p:blipFill>
        <p:spPr>
          <a:xfrm>
            <a:off x="2771640" y="620640"/>
            <a:ext cx="2592360" cy="254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сч"/>
          <p:cNvPicPr/>
          <p:nvPr/>
        </p:nvPicPr>
        <p:blipFill>
          <a:blip r:embed="rId4"/>
          <a:stretch/>
        </p:blipFill>
        <p:spPr>
          <a:xfrm>
            <a:off x="2987640" y="3933720"/>
            <a:ext cx="3097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163520" y="1279440"/>
            <a:ext cx="6913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58920" y="1268280"/>
            <a:ext cx="7058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-139680" y="1305000"/>
            <a:ext cx="9387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от рассказ, который объясняет, почему издавна слово «сфинкс» применяют к непонятным, загадочным людям, а выражение « Загадка Сфинкса » означает любую хитроумную, трудноразрешимую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финкс, рассказывали древние легенды, был чудовищем с лицом женщины, туловищем льва и крыльями хищной птицы. Сфинкс подстерегал путников на утёсе у ворот города Фивы и задавал каждому за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 загадка была такая: «Кто ходит утром на четырёх ногах, днём на двух, вечером на трёх?» Долгое время никто не мог правильно ответить на этот вопрос. Недогадливых Сфинкс уби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 однажды перед кровожадным чудовищем оказался сын фивского царя Эдип. «Отвечай, - прорычал Сфинкс, - кто ходит утром на четырёх ногах, днём на двух, вечером на трёх?» И царевич нашёл верный ответ: «Это человек. В детстве (утром) он ползает на четвереньках, повзрослев (днём) – ходит на двух ногах, а в старости (вечером) – опирается ещё и на палку». Посрамлённый Сфинкс взвыл от отчаяния, бросился с утёса в море и поги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- Что такое миф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повествование, не основанное на реальных фактах; обычно герои – существа сверхъестественные, а значит, мифы – истории выдуманные. Однако часто именно благодаря им можно понять местные обычаи или явл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ифы – это народные сказания о легендарных героях, богах, явлениях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ерои мифов – это боги и люди, у каждого есть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ревняя Греция является родиной м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Это было большое госуд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никли мифы так же, как и ск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 Что такое пред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жанр фольклора: устный рассказ, который содержит сведения об исторических лицах, событиях, местностях, передающиеся из поколения в поколение. Возникнув нередко из рассказа очевидца, предание при передаче подвергается вольной поэтической интерпретации.В центре любых событий стоит яркая личность: князь, царь, разбой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Что такое легенд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ы – это поэтические предания о каком-то историческом событии, могут быть религиозного содержания. В них наряду с людьми и животными действуют  Бог и свя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а очень похожа на миф. Но в ней чаще всего действуют реально существовавшие личности и описываются события, имевшие место в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7:15:11Z</dcterms:created>
  <dc:creator>Пользователь</dc:creator>
  <dc:description/>
  <dc:language>en-US</dc:language>
  <cp:lastModifiedBy>Ёля</cp:lastModifiedBy>
  <dcterms:modified xsi:type="dcterms:W3CDTF">2012-04-29T15:07:33Z</dcterms:modified>
  <cp:revision>12</cp:revision>
  <dc:subject/>
  <dc:title>Слайд 1</dc:title>
</cp:coreProperties>
</file>