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48F-37EF-4989-B7A7-121B0163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E10-73DE-4934-99F3-229F6034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4C68-75F4-433F-94E2-8ECBDE9A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6E33-213B-418D-94E5-4C58084F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C642-2D24-43F6-BC81-554AD219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6E08-3580-4958-8066-5A88A16C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B7F8-B8D9-44D2-93F7-056FADF8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0278-4615-4E0E-8BCE-4829147A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BC5E-F6F6-4FDF-BE97-E49CE1D3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246E-503A-44B1-9775-A6B56275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31F8-099E-4BEC-9182-3DBDB145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F69F-AD21-40EF-A28E-C67FC69E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3A89-F6E4-40AC-A1F4-73B535AD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7B96-4955-4B12-83D8-753D84E9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B022-9993-425D-B114-26927E53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6C7F-EC74-4C90-954E-01226DFF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9B2D-90E5-4E01-A311-69E40325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583-79EF-4899-A30D-1390019E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3E5-82C2-4F8C-BEF5-DB412E0A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393-FBBF-43FA-9AC3-097168A4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E50-ACEE-4980-8FF9-98E089AC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84A-BFA2-435D-AE4A-98E6EFBF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1B02-1E69-49E5-81C6-808206A4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6A12-343F-4BCF-9A2C-AB923380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6559-B69C-4447-94EA-A223BAD132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337E-FC19-48D1-BE62-D72B80D4DB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880" y="5562720"/>
            <a:ext cx="8458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 ИНФОРМАТИК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0"/>
            <a:ext cx="7924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Й  УМНЫЙ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3520" y="990720"/>
            <a:ext cx="79246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ФИЧЕСКИЙ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ДАКТОР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533520" y="1219320"/>
            <a:ext cx="79246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РХИТЕКТУРА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ПЬЮТЕРА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33520" y="1981080"/>
            <a:ext cx="7924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33520" y="1295280"/>
            <a:ext cx="792468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СТЕМЫ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ЧИСЛЕНИЯ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09480" y="1143000"/>
            <a:ext cx="792504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ЛЕКТРОННЫ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БЛИЦЫ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1828800"/>
            <a:ext cx="8458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ЛЬТИМЕДИА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09480" y="1295280"/>
            <a:ext cx="792504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РОЙСТВО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ПЬЮТЕРА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1905120"/>
            <a:ext cx="79246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I ТУР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228600"/>
            <a:ext cx="8763120" cy="4114800"/>
          </a:xfrm>
          <a:prstGeom prst="ellipse">
            <a:avLst/>
          </a:prstGeom>
          <a:solidFill>
            <a:srgbClr val="0099cc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5791320"/>
            <a:ext cx="1557360" cy="7617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" y="228600"/>
            <a:ext cx="8231040" cy="6324480"/>
            <a:chOff x="457200" y="228600"/>
            <a:chExt cx="8231040" cy="6324480"/>
          </a:xfrm>
        </p:grpSpPr>
        <p:grpSp>
          <p:nvGrpSpPr>
            <p:cNvPr id="87" name=""/>
            <p:cNvGrpSpPr/>
            <p:nvPr/>
          </p:nvGrpSpPr>
          <p:grpSpPr>
            <a:xfrm>
              <a:off x="5735520" y="811080"/>
              <a:ext cx="2952360" cy="3406680"/>
              <a:chOff x="5735520" y="811080"/>
              <a:chExt cx="2952360" cy="3406680"/>
            </a:xfrm>
          </p:grpSpPr>
          <p:sp>
            <p:nvSpPr>
              <p:cNvPr id="88" name=""/>
              <p:cNvSpPr/>
              <p:nvPr/>
            </p:nvSpPr>
            <p:spPr>
              <a:xfrm>
                <a:off x="5735520" y="811080"/>
                <a:ext cx="2952360" cy="108000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Ж З И 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735520" y="1974600"/>
                <a:ext cx="2952360" cy="107964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Р С Т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735520" y="3137760"/>
                <a:ext cx="2952360" cy="108000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Щ Ы Ь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3097080" y="228600"/>
              <a:ext cx="2952360" cy="4571640"/>
              <a:chOff x="3097080" y="228600"/>
              <a:chExt cx="2952360" cy="4571640"/>
            </a:xfrm>
          </p:grpSpPr>
          <p:sp>
            <p:nvSpPr>
              <p:cNvPr id="92" name=""/>
              <p:cNvSpPr/>
              <p:nvPr/>
            </p:nvSpPr>
            <p:spPr>
              <a:xfrm>
                <a:off x="3097080" y="3719520"/>
                <a:ext cx="2952360" cy="108072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Э Ю Я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097080" y="228600"/>
                <a:ext cx="2952360" cy="108072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Г Д Е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97080" y="1392480"/>
                <a:ext cx="2952360" cy="108000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Н О П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097080" y="2556000"/>
                <a:ext cx="2952360" cy="108072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Ц Ч Ш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458640" y="811080"/>
              <a:ext cx="2952360" cy="3406680"/>
              <a:chOff x="458640" y="811080"/>
              <a:chExt cx="2952360" cy="3406680"/>
            </a:xfrm>
          </p:grpSpPr>
          <p:sp>
            <p:nvSpPr>
              <p:cNvPr id="97" name=""/>
              <p:cNvSpPr/>
              <p:nvPr/>
            </p:nvSpPr>
            <p:spPr>
              <a:xfrm>
                <a:off x="458640" y="811080"/>
                <a:ext cx="2952360" cy="108000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А Б В 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58640" y="1974600"/>
                <a:ext cx="2952360" cy="107964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К Л М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8640" y="3137760"/>
                <a:ext cx="2952360" cy="1080000"/>
              </a:xfrm>
              <a:prstGeom prst="ellipse">
                <a:avLst/>
              </a:prstGeom>
              <a:gradFill rotWithShape="0">
                <a:gsLst>
                  <a:gs pos="0">
                    <a:srgbClr val="cc0099"/>
                  </a:gs>
                  <a:gs pos="100000">
                    <a:srgbClr val="5e0046"/>
                  </a:gs>
                </a:gsLst>
                <a:path path="rect">
                  <a:fillToRect l="50000" t="50000" r="50000" b="50000"/>
                </a:path>
              </a:gradFill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У Ф Х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457200" y="5791320"/>
              <a:ext cx="1557360" cy="7617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63600" y="5791320"/>
              <a:ext cx="1557360" cy="7617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70360" y="5791320"/>
              <a:ext cx="1557360" cy="7617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76760" y="5791320"/>
              <a:ext cx="1557360" cy="7617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534960" y="4952880"/>
              <a:ext cx="8153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5560">
                    <a:solidFill>
                      <a:srgbClr val="0000a4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КОМПЬЮТЕРНОЕ ЖИВОТНОЕ</a:t>
              </a:r>
              <a:endParaRPr b="0" lang="en-US" sz="1800" spc="1" strike="noStrike">
                <a:ln w="255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1677960" y="990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4421160" y="388620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0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7088040" y="3276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9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4344840" y="274320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8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754280" y="3276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7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7088040" y="2133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6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4421160" y="160020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5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7012080" y="990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4421160" y="380880"/>
              <a:ext cx="3142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1754280" y="2133720"/>
              <a:ext cx="3142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a4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4</a:t>
              </a:r>
              <a:endParaRPr b="0" lang="en-US" sz="1800" spc="1" strike="noStrike">
                <a:ln w="19080">
                  <a:solidFill>
                    <a:srgbClr val="0000a4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73280" y="5977080"/>
            <a:ext cx="7597440" cy="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8200" y="1033560"/>
            <a:ext cx="7912080" cy="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88080" y="474840"/>
            <a:ext cx="0" cy="606096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32400" y="566640"/>
            <a:ext cx="0" cy="606276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7800" y="566640"/>
            <a:ext cx="0" cy="606276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91160" y="532440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СТРОЙ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35480" y="5324400"/>
            <a:ext cx="227304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УЛЬТИМЕДИ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32440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ЛЕКТРО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АБЛИ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3280" y="2712960"/>
            <a:ext cx="7832520" cy="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2058840"/>
            <a:ext cx="2271960" cy="13068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ТЕКСТОВ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РЕДАК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91160" y="2058840"/>
            <a:ext cx="2271960" cy="13068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РАФИЧЕ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ДАК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35480" y="2058840"/>
            <a:ext cx="2273040" cy="13068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ГРАММ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ЕСПЕ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91160" y="38088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ИНТЕР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35480" y="380880"/>
            <a:ext cx="227304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АЛГОРИТ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8088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ИНФОРМ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3280" y="4390920"/>
            <a:ext cx="7832520" cy="0"/>
          </a:xfrm>
          <a:prstGeom prst="line">
            <a:avLst/>
          </a:prstGeom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73860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РХИТЕК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91160" y="3738600"/>
            <a:ext cx="227196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ЧИС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35480" y="3738600"/>
            <a:ext cx="2273040" cy="1305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Щ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1905120"/>
            <a:ext cx="7924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Я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33520" y="1828800"/>
            <a:ext cx="7924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Ы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1905120"/>
            <a:ext cx="79246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РНЕТ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09480" y="1295280"/>
            <a:ext cx="79250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КСТОВЫЙ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ДАКТОР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1219320"/>
            <a:ext cx="79246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ГРАММНО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ЕСПЕЧЕНИ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861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4-10T17:44:5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