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0C0-5EDB-4A8F-8F75-ED00CEC1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96D-A566-4948-B3CB-8A2D050B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D6A-599A-4F8B-916B-22F2C2FF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211-A2B0-4259-8760-5D95E2C0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68C2-0B53-4FC7-BABE-04DE5B13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828C-9D4F-43FD-8532-2EC58795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4398-C87C-43D8-9F41-BDDBB3E1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B3F1-69FC-48F4-9A21-F59F5E86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8BD3-B00B-42F5-A6EB-A061012E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5047-5AFC-4341-859E-1EFC63FF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9E6B-56A3-4737-AD12-6411C2E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D55-0B11-4F77-82F3-9213CACF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CD46-F52B-4445-9094-9FF83B4F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1420-6C23-4DBB-93E8-8F731B8B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C7CB-22FD-44AA-B111-BC10F78C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0A1F-9827-4D2C-AA26-468BA47D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2429-0C2F-4380-84A3-334D3888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B84-39C6-4819-BE71-C82421EC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806-69F5-4E83-96C9-A951438E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B88-8982-496C-9B84-79FA40A5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E55-9741-4EAE-8706-1883D269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6CC-86EC-4A61-A6EA-F11C6700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25D-EA55-481D-90E9-F539DCEC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070-5891-4706-A8D4-4706F0A2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F2D4-1436-4A90-B99A-92BC668EE1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C42F-4082-4CD5-ADCF-4BD03D247D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5562720"/>
            <a:ext cx="8458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 ИНФОРМАТИКЕ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 УМНЫЙ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85800"/>
            <a:ext cx="77724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корость передач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нформации измеряется 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бай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д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бай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685800"/>
            <a:ext cx="7696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лово информация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ереводе с латинск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значает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формирова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ледние нов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меньшение неопредел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609480"/>
            <a:ext cx="77724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нформация, хранимая на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нешнем носителе 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бладающая именем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называе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нешней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ай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реносимой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талог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914400"/>
            <a:ext cx="8381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ое количество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отребуется для кодирования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одного из 256 символов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 бай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бай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52280"/>
            <a:ext cx="76960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ля кого будет информативно следующее сообщени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«Программа- это алгоритм, записанны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на языке программирования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программи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учителя инфор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уче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шо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533520"/>
            <a:ext cx="77724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ое понятие объединяет камень, папирус, бересту, книгу и дискет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родное происхож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торическая ц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ранение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09480"/>
            <a:ext cx="84582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ие элементы не могут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лужить носителями информации при ее хране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к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ума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агнитные материа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уч св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685800"/>
            <a:ext cx="86104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омпьютер – это универсальное устрой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ля работы с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исл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гровыми программ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ормальными язы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914400"/>
            <a:ext cx="77724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лько бит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необходимо для кодирования одной букв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1066680"/>
            <a:ext cx="7315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лько бит в слов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НФОРМАЦ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05120"/>
            <a:ext cx="7924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a4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ТУР</a:t>
            </a:r>
            <a:endParaRPr b="0" lang="en-US" sz="1800" spc="1" strike="noStrike">
              <a:ln w="57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a4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066680"/>
            <a:ext cx="71625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лько байт в сло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ТЕХНОЛОГ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50880" y="350640"/>
            <a:ext cx="1038132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9640" rIns="539640" tIns="539640" bIns="539640" anchor="ctr">
            <a:spAutoFit/>
          </a:bodyPr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то изучает информати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струкцию компью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особы представления, накопл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ботки и передачи информации 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мощью технических сред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компьютерные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) общешкольные дисципл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1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80880"/>
            <a:ext cx="86868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корость передач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данных – э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ичество информации,  передаваемой за 1 ч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ичество информации, передаваемой с одного ПК на друг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ичество битов информации, переданных за 1 секун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1219320"/>
            <a:ext cx="76201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то не является свойством информац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ня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ратк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ла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остовер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838080"/>
            <a:ext cx="876312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Что такое информацион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зры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жедневные новости из горячих то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зросшее количество газет и журна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урный рост потоков и объемов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щение через ИНТЕР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762120"/>
            <a:ext cx="822960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овременный компьютер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эт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стройство для работы с текс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ногофункциональное устройство для работы с информ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ыстродействующее вычислительное устрой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стройство для хранения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0" y="-14057280"/>
            <a:ext cx="4572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838080"/>
            <a:ext cx="7772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За минимальную единиц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измерения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ринят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Кб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б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685800"/>
            <a:ext cx="73911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акое утверждение вер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Кбайт=2Мбай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Кбайт&gt;2Мбай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Кбайт&lt;2Мбай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09T13:27:2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