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DC7B-D2A7-4971-A115-EA2D91DD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56DF-44C8-449C-B149-A7236183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54A-AF62-4EA6-96C7-2395B622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B69E-5ED3-46CB-9125-637E4874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7DD0-31A8-485F-8618-C0C7B467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6322-3AE9-445B-9048-4FCC0A09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73C5-FF5F-41FE-95B2-118A94F4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5E98-5CEF-40C4-993B-DFC7A06D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A34D-CFEF-4E29-9754-969CAA1D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AE55-1474-4578-AB02-0605D595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A6B7-E374-4EEE-876D-6BAB7B7B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6C0A-7CD3-4FAE-A11F-C57E1373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7480-08E3-4904-B9A4-2A8B4D88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2AB4-DD66-47AD-9465-8028C290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8E02-5CD7-4CFA-98CC-DB41B058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7AC4-7600-4DD4-B80E-7E86D2AF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20F2-1F09-4661-91FE-C33D1982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7BA4-1FDA-42B6-B2BF-6022A254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7DBA-AED4-45C7-9D21-0C26E16B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C773-3D35-4E20-85CE-D191E582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308F-BBC4-4B05-9F4D-94A30959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4A9F-1055-43B5-8FAF-74C8E674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10DC-4CC2-4CB1-9C49-722F83BB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8DCC-2CD8-4E1B-843D-AC73A9C9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987C-E1EC-4717-AA0B-FE03C1A9AB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89C0-AFA3-4877-B131-9D587EF92A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80880" y="5562720"/>
            <a:ext cx="8458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 ИНФОРМАТИКЕ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0"/>
            <a:ext cx="7924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ЫЙ  УМНЫЙ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9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7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4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495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2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0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1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8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9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6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7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4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5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1905120"/>
            <a:ext cx="79246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II ТУР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2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3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0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1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8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9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6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7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4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5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2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3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0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1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8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9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6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7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4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5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228600"/>
            <a:ext cx="8763120" cy="4114800"/>
          </a:xfrm>
          <a:prstGeom prst="ellipse">
            <a:avLst/>
          </a:prstGeom>
          <a:solidFill>
            <a:srgbClr val="0099cc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735520" y="811080"/>
            <a:ext cx="2952360" cy="3406680"/>
            <a:chOff x="5735520" y="811080"/>
            <a:chExt cx="2952360" cy="3406680"/>
          </a:xfrm>
        </p:grpSpPr>
        <p:sp>
          <p:nvSpPr>
            <p:cNvPr id="86" name=""/>
            <p:cNvSpPr/>
            <p:nvPr/>
          </p:nvSpPr>
          <p:spPr>
            <a:xfrm>
              <a:off x="5735520" y="811080"/>
              <a:ext cx="2952360" cy="108000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Ж З И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35520" y="1974600"/>
              <a:ext cx="2952360" cy="107964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 С 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35520" y="3137760"/>
              <a:ext cx="2952360" cy="108000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Щ Ы 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097080" y="228600"/>
            <a:ext cx="2952360" cy="4571640"/>
            <a:chOff x="3097080" y="228600"/>
            <a:chExt cx="2952360" cy="4571640"/>
          </a:xfrm>
        </p:grpSpPr>
        <p:sp>
          <p:nvSpPr>
            <p:cNvPr id="90" name=""/>
            <p:cNvSpPr/>
            <p:nvPr/>
          </p:nvSpPr>
          <p:spPr>
            <a:xfrm>
              <a:off x="3097080" y="3719520"/>
              <a:ext cx="2952360" cy="108072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Э Ю 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97080" y="228600"/>
              <a:ext cx="2952360" cy="108072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Г Д 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97080" y="1392480"/>
              <a:ext cx="2952360" cy="108000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 О П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97080" y="2556000"/>
              <a:ext cx="2952360" cy="108072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 Ч Ш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58640" y="811080"/>
            <a:ext cx="2952360" cy="3406680"/>
            <a:chOff x="458640" y="811080"/>
            <a:chExt cx="2952360" cy="3406680"/>
          </a:xfrm>
        </p:grpSpPr>
        <p:sp>
          <p:nvSpPr>
            <p:cNvPr id="95" name=""/>
            <p:cNvSpPr/>
            <p:nvPr/>
          </p:nvSpPr>
          <p:spPr>
            <a:xfrm>
              <a:off x="458640" y="811080"/>
              <a:ext cx="2952360" cy="108000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Б В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8640" y="1974600"/>
              <a:ext cx="2952360" cy="107964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К Л 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8640" y="3137760"/>
              <a:ext cx="2952360" cy="1080000"/>
            </a:xfrm>
            <a:prstGeom prst="ellipse">
              <a:avLst/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path path="rect">
                <a:fillToRect l="50000" t="50000" r="50000" b="50000"/>
              </a:path>
            </a:gra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У Ф Х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"/>
          <p:cNvSpPr txBox="1"/>
          <p:nvPr/>
        </p:nvSpPr>
        <p:spPr>
          <a:xfrm>
            <a:off x="914400" y="4800600"/>
            <a:ext cx="7467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a4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основное устройство</a:t>
            </a:r>
            <a:endParaRPr b="0" lang="en-US" sz="1800" spc="1" strike="noStrike">
              <a:ln w="25560">
                <a:solidFill>
                  <a:srgbClr val="0000a4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a4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вывода информации</a:t>
            </a:r>
            <a:endParaRPr b="0" lang="en-US" sz="1800" spc="1" strike="noStrike">
              <a:ln w="25560">
                <a:solidFill>
                  <a:srgbClr val="0000a4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7960" y="990720"/>
            <a:ext cx="3142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421160" y="3886200"/>
            <a:ext cx="3142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088040" y="3276720"/>
            <a:ext cx="3146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344840" y="2743200"/>
            <a:ext cx="3146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54280" y="3276720"/>
            <a:ext cx="3142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88040" y="2133720"/>
            <a:ext cx="3146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421160" y="1600200"/>
            <a:ext cx="3142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012080" y="990720"/>
            <a:ext cx="3142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421160" y="380880"/>
            <a:ext cx="3142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54280" y="2133720"/>
            <a:ext cx="3142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0000a4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5791320"/>
            <a:ext cx="1182600" cy="7617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5680" y="5791320"/>
            <a:ext cx="1184040" cy="7617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22400" y="5791320"/>
            <a:ext cx="1182960" cy="7617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83080" y="5791320"/>
            <a:ext cx="1182960" cy="7617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19480" y="5791320"/>
            <a:ext cx="1182600" cy="7617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18480" y="5791320"/>
            <a:ext cx="1182600" cy="7617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66040" y="5791320"/>
            <a:ext cx="1182600" cy="7617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2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3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9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0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1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7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8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9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48769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15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6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7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5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53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4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5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6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0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2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7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8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4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4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0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91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2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3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8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4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0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5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6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7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2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8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9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0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1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3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4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9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0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6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2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8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2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3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4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7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8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9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0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8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0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4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5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6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7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1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2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3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4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7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8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0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5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1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2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3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6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3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4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5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7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6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2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0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81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2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3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6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2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0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4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5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6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0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19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0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1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2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4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9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5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1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7" name="" descr=""/>
          <p:cNvPicPr/>
          <p:nvPr/>
        </p:nvPicPr>
        <p:blipFill>
          <a:blip r:embed="rId2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"/>
          <p:cNvGraphicFramePr/>
          <p:nvPr/>
        </p:nvGraphicFramePr>
        <p:xfrm>
          <a:off x="304920" y="304920"/>
          <a:ext cx="8540640" cy="6324480"/>
        </p:xfrm>
        <a:graphic>
          <a:graphicData uri="http://schemas.openxmlformats.org/drawingml/2006/table">
            <a:tbl>
              <a:tblPr/>
              <a:tblGrid>
                <a:gridCol w="1423800"/>
                <a:gridCol w="1422360"/>
                <a:gridCol w="1424160"/>
                <a:gridCol w="1423800"/>
                <a:gridCol w="1422360"/>
                <a:gridCol w="142416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5" name=""/>
          <p:cNvSpPr txBox="1"/>
          <p:nvPr/>
        </p:nvSpPr>
        <p:spPr>
          <a:xfrm>
            <a:off x="7621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733920" y="1676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477120" y="609480"/>
            <a:ext cx="39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362320" y="533520"/>
            <a:ext cx="390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098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18148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001000" y="60948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14400" y="1600200"/>
            <a:ext cx="3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286000" y="1676520"/>
            <a:ext cx="390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9528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2133720" y="2666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772400" y="27432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248520" y="27432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62120" y="3733920"/>
            <a:ext cx="76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1337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581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9528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32448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7772400" y="16765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2133720" y="4724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8769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32448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85800" y="5791320"/>
            <a:ext cx="7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5053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7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3244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96080" y="3809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9528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133720" y="58672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2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77724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429000" y="58672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3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32448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8769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772400" y="480060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762120" y="4800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5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505320" y="380988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4d4d4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22320">
                <a:solidFill>
                  <a:srgbClr val="4d4d4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69120"/>
            <a:ext cx="53352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04-08T12:36:45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