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8.gif" ContentType="image/gif"/>
  <Override PartName="/ppt/media/image4.jpeg" ContentType="image/jpeg"/>
  <Override PartName="/ppt/media/image3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DED-5E49-48AC-9339-75C38E83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E2E-A030-4966-9F49-0A425EB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30A-FFA9-4707-BC82-C1CB840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BA3-79C3-4FF8-8BCB-F462F0CA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486-CCCB-4A24-92DA-6ABE151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0C-562F-42F8-B5FC-6530FA3D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396-5D84-4594-AF30-F93A9496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A52-F13D-4B1F-BE82-205FF802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11B-F9EF-4B3C-8E52-71C05C8D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14D-7428-4A88-A1E8-A8BCB59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817-DF4A-4773-9865-8D676C5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25B-D6BD-4136-8021-827A08A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73F-3FBD-41DB-973E-FF35712AD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x_6b2aa0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4"/>
          <p:cNvGrpSpPr/>
          <p:nvPr/>
        </p:nvGrpSpPr>
        <p:grpSpPr>
          <a:xfrm>
            <a:off x="1476360" y="1298520"/>
            <a:ext cx="6624360" cy="5559120"/>
            <a:chOff x="1476360" y="1298520"/>
            <a:chExt cx="6624360" cy="5559120"/>
          </a:xfrm>
        </p:grpSpPr>
        <p:sp>
          <p:nvSpPr>
            <p:cNvPr id="78" name="AutoShape 5"/>
            <p:cNvSpPr/>
            <p:nvPr/>
          </p:nvSpPr>
          <p:spPr>
            <a:xfrm>
              <a:off x="1476360" y="1298520"/>
              <a:ext cx="6624360" cy="55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2539800" y="1539360"/>
              <a:ext cx="4594680" cy="45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4957920" y="1539360"/>
              <a:ext cx="3240" cy="45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2539800" y="3957480"/>
              <a:ext cx="459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539800" y="2748600"/>
              <a:ext cx="24199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957920" y="2989800"/>
              <a:ext cx="2176560" cy="21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539800" y="3957480"/>
              <a:ext cx="459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4474800" y="2748240"/>
              <a:ext cx="241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H="1" flipV="1">
              <a:off x="6649920" y="2989800"/>
              <a:ext cx="2415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5682960" y="37162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5682960" y="5407560"/>
              <a:ext cx="484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Прямоугольник 14" descr=""/>
          <p:cNvPicPr/>
          <p:nvPr/>
        </p:nvPicPr>
        <p:blipFill>
          <a:blip r:embed="rId1"/>
          <a:stretch/>
        </p:blipFill>
        <p:spPr>
          <a:xfrm>
            <a:off x="1292400" y="189000"/>
            <a:ext cx="7284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2338809-1307112078363.jpg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189000"/>
            <a:ext cx="4749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ких фигур и сколько вы насчитал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3780000" y="2205000"/>
            <a:ext cx="1512720" cy="115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19640" y="3357720"/>
            <a:ext cx="2166840" cy="280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788000" y="1773360"/>
            <a:ext cx="43344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 rot="10800000">
            <a:off x="4356000" y="2637000"/>
            <a:ext cx="432000" cy="2887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0800000">
            <a:off x="457200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92436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3780000" y="1773360"/>
            <a:ext cx="43308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10800000">
            <a:off x="4716000" y="6165360"/>
            <a:ext cx="792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 rot="10800000">
            <a:off x="3419640" y="6165360"/>
            <a:ext cx="79200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ой приближается праздник?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ова решае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e8fcdefab39189d95fd80bebd8e.jpg"/>
          <p:cNvPicPr/>
          <p:nvPr/>
        </p:nvPicPr>
        <p:blipFill>
          <a:blip r:embed="rId1"/>
          <a:stretch/>
        </p:blipFill>
        <p:spPr>
          <a:xfrm>
            <a:off x="3780000" y="1413000"/>
            <a:ext cx="508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1315922501masha_i_medvedq.jpg"/>
          <p:cNvPicPr/>
          <p:nvPr/>
        </p:nvPicPr>
        <p:blipFill>
          <a:blip r:embed="rId1"/>
          <a:stretch/>
        </p:blipFill>
        <p:spPr>
          <a:xfrm>
            <a:off x="250920" y="260280"/>
            <a:ext cx="5292720" cy="52833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2341440" y="4943520"/>
            <a:ext cx="7351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927036"/>
          <p:cNvPicPr/>
          <p:nvPr/>
        </p:nvPicPr>
        <p:blipFill>
          <a:blip r:embed="rId1"/>
          <a:stretch/>
        </p:blipFill>
        <p:spPr>
          <a:xfrm>
            <a:off x="2268360" y="1916280"/>
            <a:ext cx="4521240" cy="4506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-212760"/>
            <a:ext cx="457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326175020-40-72&amp;n=17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583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1280" y="6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0 +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11280" y="2276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90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860720" y="385596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9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05800" y="5440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2 –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302160" y="620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0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26200" y="527544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5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84360" y="378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0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55640" y="907920"/>
            <a:ext cx="1295280" cy="28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755640" y="691920"/>
            <a:ext cx="525636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6012000" y="836640"/>
            <a:ext cx="1008000" cy="316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4716360" y="2637000"/>
            <a:ext cx="216072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788000" y="2708280"/>
            <a:ext cx="309708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>
            <a:off x="1835280" y="5445000"/>
            <a:ext cx="597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-262080" y="-360360"/>
            <a:ext cx="96314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65507_6"/>
          <p:cNvPicPr/>
          <p:nvPr/>
        </p:nvPicPr>
        <p:blipFill>
          <a:blip r:embed="rId1"/>
          <a:stretch/>
        </p:blipFill>
        <p:spPr>
          <a:xfrm>
            <a:off x="1116000" y="1209600"/>
            <a:ext cx="7037280" cy="5532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103400" y="85680"/>
            <a:ext cx="7070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ные значения выражений расположите в порядке убы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5280" y="28396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80       100         70         30         2          5    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         У           Е           Н         К         И          Б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!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Работа по учебнику: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. 64 - № 137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анимашки рыбки"/>
          <p:cNvPicPr/>
          <p:nvPr/>
        </p:nvPicPr>
        <p:blipFill>
          <a:blip r:embed="rId1"/>
          <a:stretch/>
        </p:blipFill>
        <p:spPr>
          <a:xfrm>
            <a:off x="5254560" y="-53172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анимашки рыбки"/>
          <p:cNvPicPr/>
          <p:nvPr/>
        </p:nvPicPr>
        <p:blipFill>
          <a:blip r:embed="rId2"/>
          <a:stretch/>
        </p:blipFill>
        <p:spPr>
          <a:xfrm>
            <a:off x="7093080" y="5157720"/>
            <a:ext cx="234288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анимашки рыбки"/>
          <p:cNvPicPr/>
          <p:nvPr/>
        </p:nvPicPr>
        <p:blipFill>
          <a:blip r:embed="rId3"/>
          <a:stretch/>
        </p:blipFill>
        <p:spPr>
          <a:xfrm>
            <a:off x="395280" y="57340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анимашки рыбки"/>
          <p:cNvPicPr/>
          <p:nvPr/>
        </p:nvPicPr>
        <p:blipFill>
          <a:blip r:embed="rId4"/>
          <a:stretch/>
        </p:blipFill>
        <p:spPr>
          <a:xfrm>
            <a:off x="324000" y="333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нимашки рыбки"/>
          <p:cNvPicPr/>
          <p:nvPr/>
        </p:nvPicPr>
        <p:blipFill>
          <a:blip r:embed="rId5"/>
          <a:stretch/>
        </p:blipFill>
        <p:spPr>
          <a:xfrm>
            <a:off x="5364000" y="3933720"/>
            <a:ext cx="2578320" cy="1582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5.jpg"/>
          <p:cNvPicPr/>
          <p:nvPr/>
        </p:nvPicPr>
        <p:blipFill>
          <a:blip r:embed="rId6"/>
          <a:stretch/>
        </p:blipFill>
        <p:spPr>
          <a:xfrm>
            <a:off x="1547640" y="1125360"/>
            <a:ext cx="3346560" cy="5059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7"/>
          <a:stretch/>
        </p:blipFill>
        <p:spPr>
          <a:xfrm>
            <a:off x="1676520" y="-19080"/>
            <a:ext cx="6108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 + 7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1 –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7 – 8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20 + 1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0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0 + 1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 – 8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8 – 9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9 + 5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4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6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3 – 3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0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4 – 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643280" y="0"/>
            <a:ext cx="73080" cy="685800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11 из 136000"/>
          <p:cNvPicPr/>
          <p:nvPr/>
        </p:nvPicPr>
        <p:blipFill>
          <a:blip r:embed="rId1"/>
          <a:stretch/>
        </p:blipFill>
        <p:spPr>
          <a:xfrm>
            <a:off x="395280" y="0"/>
            <a:ext cx="35640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im5-tub-ru.yandex.net/i?id=99237846-19-72&amp;n=17"/>
          <p:cNvPicPr/>
          <p:nvPr/>
        </p:nvPicPr>
        <p:blipFill>
          <a:blip r:embed="rId2"/>
          <a:stretch/>
        </p:blipFill>
        <p:spPr>
          <a:xfrm>
            <a:off x="5148360" y="0"/>
            <a:ext cx="360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29814"/>
          <p:cNvPicPr/>
          <p:nvPr/>
        </p:nvPicPr>
        <p:blipFill>
          <a:blip r:embed="rId1"/>
          <a:stretch/>
        </p:blipFill>
        <p:spPr>
          <a:xfrm>
            <a:off x="971640" y="2276640"/>
            <a:ext cx="3168720" cy="3938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-36360" y="128520"/>
            <a:ext cx="9210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2:52:39Z</dcterms:created>
  <dc:creator>user</dc:creator>
  <dc:description/>
  <dc:language>en-US</dc:language>
  <cp:lastModifiedBy>Ёля</cp:lastModifiedBy>
  <dcterms:modified xsi:type="dcterms:W3CDTF">2012-02-25T04:58:41Z</dcterms:modified>
  <cp:revision>18</cp:revision>
  <dc:subject/>
  <dc:title>Слайд 1</dc:title>
</cp:coreProperties>
</file>