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F27-376A-4362-B5B5-E8461C84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CA5-EABD-4BA6-8508-6D46754A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FF1-61F6-4EB8-A747-2E004251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41B-2464-4F56-9CE4-8B2AACEC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8E5A-96F5-42D8-986B-C40C58D8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B161-ABEA-4496-9FF6-B0723465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DA15-EFC3-4470-9581-6AC60435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150E-8B3B-4643-BCBF-8557A9B4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A519-FFD8-4118-BF41-BF364795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73B6-D117-4AF1-B6CD-ED0AB6BF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02CF-3D9F-409B-9775-8EC83164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2B8-4F3E-4227-B759-4D27EFFB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D2F9-EA1A-42B5-9A09-72265918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ED8A-F7D7-4BF4-8A9F-B84DE442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DEBC-1D58-4BF3-B8E1-AD33A576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CFD0-5F77-4DE4-A288-0C0E310B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7CE1-67B8-4D02-9F2F-C9762271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D62-0274-4E98-882A-8D792DF5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FBA-36D4-46CE-A354-DC42DF99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5FB-2417-41B5-93F9-E6E05303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FF8-90E4-402D-B93F-0281317E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FB66-6E5D-4FDB-B2A8-F3183C96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9D2-5294-43F2-945D-FC567D7C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2FF-6B33-43D2-A3F7-CD6FD633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6846-4BB1-4813-B324-B9F7BC0CA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78F3-9FCC-4ADF-A2A1-FA1EF503B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463400" y="189000"/>
            <a:ext cx="596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инская средняя общеобразовательная школа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инский муниципальны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неж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395280" y="2565360"/>
            <a:ext cx="842472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ссный час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 "Курить или не курить"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298480" y="5084640"/>
            <a:ext cx="35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ласс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ченко Еле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8000"/>
                </a:solidFill>
                <a:latin typeface="Times New Roman"/>
              </a:rPr>
              <a:t>Государственная политика</a:t>
            </a:r>
            <a:br>
              <a:rPr sz="3700"/>
            </a:br>
            <a:r>
              <a:rPr b="0" i="1" lang="ru-RU" sz="3700" spc="-1" strike="noStrike">
                <a:solidFill>
                  <a:srgbClr val="008000"/>
                </a:solidFill>
                <a:latin typeface="Times New Roman"/>
              </a:rPr>
              <a:t>и правильная реклама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4" name="Picture 7" descr="Картинка 22 из 8030"/>
          <p:cNvPicPr/>
          <p:nvPr/>
        </p:nvPicPr>
        <p:blipFill>
          <a:blip r:embed="rId1"/>
          <a:stretch/>
        </p:blipFill>
        <p:spPr>
          <a:xfrm>
            <a:off x="684360" y="1844640"/>
            <a:ext cx="4174920" cy="3162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Картинка 91 из 8032"/>
          <p:cNvPicPr/>
          <p:nvPr/>
        </p:nvPicPr>
        <p:blipFill>
          <a:blip r:embed="rId2"/>
          <a:stretch/>
        </p:blipFill>
        <p:spPr>
          <a:xfrm>
            <a:off x="4211640" y="3500280"/>
            <a:ext cx="4602240" cy="306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595[1][1]"/>
          <p:cNvPicPr/>
          <p:nvPr/>
        </p:nvPicPr>
        <p:blipFill>
          <a:blip r:embed="rId3"/>
          <a:stretch/>
        </p:blipFill>
        <p:spPr>
          <a:xfrm>
            <a:off x="5148360" y="1989000"/>
            <a:ext cx="3816360" cy="2865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image"/>
          <p:cNvPicPr/>
          <p:nvPr/>
        </p:nvPicPr>
        <p:blipFill>
          <a:blip r:embed="rId4"/>
          <a:stretch/>
        </p:blipFill>
        <p:spPr>
          <a:xfrm>
            <a:off x="468360" y="3213000"/>
            <a:ext cx="4105080" cy="29322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б истории табака и вреде курения»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1547640" y="1484280"/>
            <a:ext cx="6705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. Родина табака.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Южная Афри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Южная Америк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Южный полю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"/>
          <p:cNvPicPr/>
          <p:nvPr/>
        </p:nvPicPr>
        <p:blipFill>
          <a:blip r:embed="rId1"/>
          <a:stretch/>
        </p:blipFill>
        <p:spPr>
          <a:xfrm>
            <a:off x="5076720" y="1989000"/>
            <a:ext cx="2849760" cy="332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5"/>
          <p:cNvSpPr/>
          <p:nvPr/>
        </p:nvSpPr>
        <p:spPr>
          <a:xfrm>
            <a:off x="61128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2. Когда Колумб в 1492 году высадился на побережье Кубы, то он встретил жителей с головнями в руках и с травой, употребляемой для курения, которую они называли..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77172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сигар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папирус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самокрут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Картинка 10 из 66300"/>
          <p:cNvPicPr/>
          <p:nvPr/>
        </p:nvPicPr>
        <p:blipFill>
          <a:blip r:embed="rId1"/>
          <a:stretch/>
        </p:blipFill>
        <p:spPr>
          <a:xfrm>
            <a:off x="4859280" y="2133720"/>
            <a:ext cx="3505320" cy="3232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/>
          <p:cNvSpPr/>
          <p:nvPr/>
        </p:nvSpPr>
        <p:spPr>
          <a:xfrm>
            <a:off x="539640" y="5229360"/>
            <a:ext cx="243864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3. Кто обнаружил в табаке никотин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Жан Жак Русс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Жан Поль Бельмонд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Жан Ник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3"/>
          <p:cNvPicPr/>
          <p:nvPr/>
        </p:nvPicPr>
        <p:blipFill>
          <a:blip r:embed="rId1"/>
          <a:stretch/>
        </p:blipFill>
        <p:spPr>
          <a:xfrm>
            <a:off x="4643280" y="1844640"/>
            <a:ext cx="3306960" cy="36687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4. В какой стране табак в 16 веке был объявлен «забавой дьявола"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Исп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Итал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Бразил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4"/>
          <p:cNvPicPr/>
          <p:nvPr/>
        </p:nvPicPr>
        <p:blipFill>
          <a:blip r:embed="rId1"/>
          <a:stretch/>
        </p:blipFill>
        <p:spPr>
          <a:xfrm>
            <a:off x="4686480" y="2176560"/>
            <a:ext cx="3509640" cy="32605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5. Большие дозы никотина действуют подобно яду...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мышьяк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урар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синильной кислот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5 и 12"/>
          <p:cNvPicPr/>
          <p:nvPr/>
        </p:nvPicPr>
        <p:blipFill>
          <a:blip r:embed="rId1"/>
          <a:stretch/>
        </p:blipFill>
        <p:spPr>
          <a:xfrm>
            <a:off x="4876920" y="1752480"/>
            <a:ext cx="3962160" cy="28479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>
            <a:hlinkClick r:id="" action="ppaction://hlinkshowjump?jump=nextslide"/>
          </p:cNvPr>
          <p:cNvSpPr/>
          <p:nvPr/>
        </p:nvSpPr>
        <p:spPr>
          <a:xfrm>
            <a:off x="817236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6. Самый популярный способ употребления табака в США до 19 века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кур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нюха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жевани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6"/>
          <p:cNvPicPr/>
          <p:nvPr/>
        </p:nvPicPr>
        <p:blipFill>
          <a:blip r:embed="rId1"/>
          <a:stretch/>
        </p:blipFill>
        <p:spPr>
          <a:xfrm>
            <a:off x="4911840" y="1905120"/>
            <a:ext cx="3054240" cy="36687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7. В 1934 году во французском городке Ницца компания молодежи устроила соревнование: кто выкурит больше папирос. Двое "Победителей" не смогли получить приз, так как скончались, выкурив по..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377208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40 папиро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60 папиро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80 папиро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7"/>
          <p:cNvPicPr/>
          <p:nvPr/>
        </p:nvPicPr>
        <p:blipFill>
          <a:blip r:embed="rId1"/>
          <a:stretch/>
        </p:blipFill>
        <p:spPr>
          <a:xfrm>
            <a:off x="5580000" y="2300400"/>
            <a:ext cx="3024360" cy="2862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>
            <a:hlinkClick r:id="" action="ppaction://hlinkshowjump?jump=nextslide"/>
          </p:cNvPr>
          <p:cNvSpPr/>
          <p:nvPr/>
        </p:nvSpPr>
        <p:spPr>
          <a:xfrm>
            <a:off x="817236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8. Кого называют «курильщиками поневоле"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тех, кто находится в обществе курящи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тех, которых заставляют курить принудительн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тех, кто курит в тюрьм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6"/>
          <p:cNvPicPr/>
          <p:nvPr/>
        </p:nvPicPr>
        <p:blipFill>
          <a:blip r:embed="rId1"/>
          <a:stretch/>
        </p:blipFill>
        <p:spPr>
          <a:xfrm>
            <a:off x="4686480" y="2816280"/>
            <a:ext cx="3771720" cy="22161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/>
          <p:cNvSpPr/>
          <p:nvPr/>
        </p:nvSpPr>
        <p:spPr>
          <a:xfrm>
            <a:off x="324000" y="580536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Цел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анализировать предрасположенность к курению у учащихся класс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знакомить учащихся с данными статистики и тем, какой вред здоровью может принести курение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паганда здорового образа жизн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9. Когда, кем и откуда был впервые завезен табак в Европу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в XVI в. испанцами из Амери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в XVII в. китайцам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 XVIII в. англичанами из Инди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9"/>
          <p:cNvPicPr/>
          <p:nvPr/>
        </p:nvPicPr>
        <p:blipFill>
          <a:blip r:embed="rId1"/>
          <a:stretch/>
        </p:blipFill>
        <p:spPr>
          <a:xfrm>
            <a:off x="4932360" y="1989000"/>
            <a:ext cx="3809880" cy="262116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>
            <a:off x="611280" y="5373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0. Существуют ли сигареты, которые не приносят вред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сигареты с фильтр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сигареты с низким содержанием никотин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не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10"/>
          <p:cNvPicPr/>
          <p:nvPr/>
        </p:nvPicPr>
        <p:blipFill>
          <a:blip r:embed="rId1"/>
          <a:stretch/>
        </p:blipFill>
        <p:spPr>
          <a:xfrm>
            <a:off x="5665680" y="2244600"/>
            <a:ext cx="2517840" cy="32594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/>
          <p:cNvSpPr/>
          <p:nvPr/>
        </p:nvSpPr>
        <p:spPr>
          <a:xfrm>
            <a:off x="468360" y="5157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1.  Сколько веществ содержится в табачном дыме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20-3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200-3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свыше 40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22"/>
          <p:cNvPicPr/>
          <p:nvPr/>
        </p:nvPicPr>
        <p:blipFill>
          <a:blip r:embed="rId1"/>
          <a:stretch/>
        </p:blipFill>
        <p:spPr>
          <a:xfrm>
            <a:off x="4788000" y="1989000"/>
            <a:ext cx="3809880" cy="27417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12. Сколько процентов вредных веществ способен задержать сигаретный фильтр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не более 20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40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100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12"/>
          <p:cNvPicPr/>
          <p:nvPr/>
        </p:nvPicPr>
        <p:blipFill>
          <a:blip r:embed="rId1"/>
          <a:stretch/>
        </p:blipFill>
        <p:spPr>
          <a:xfrm>
            <a:off x="5289480" y="2176560"/>
            <a:ext cx="2828880" cy="34290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/>
          <p:cNvSpPr/>
          <p:nvPr/>
        </p:nvSpPr>
        <p:spPr>
          <a:xfrm>
            <a:off x="468360" y="5157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3. Какие заболевания считаются наиболее связанными с курением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аллерг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рак легког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гастри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14"/>
          <p:cNvPicPr/>
          <p:nvPr/>
        </p:nvPicPr>
        <p:blipFill>
          <a:blip r:embed="rId1"/>
          <a:stretch/>
        </p:blipFill>
        <p:spPr>
          <a:xfrm>
            <a:off x="4686480" y="2313000"/>
            <a:ext cx="3771720" cy="26892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14. Сколько микрочастиц сажи содержится в 1 см</a:t>
            </a:r>
            <a:r>
              <a:rPr b="0" lang="ru-RU" sz="2400" spc="-1" strike="noStrike" baseline="30000">
                <a:solidFill>
                  <a:srgbClr val="336666"/>
                </a:solidFill>
                <a:latin typeface="Arial Black"/>
              </a:rPr>
              <a:t>3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 табачного дыма?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до 3 000 0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до 10 000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до 100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3"/>
          <p:cNvPicPr/>
          <p:nvPr/>
        </p:nvPicPr>
        <p:blipFill>
          <a:blip r:embed="rId1"/>
          <a:stretch/>
        </p:blipFill>
        <p:spPr>
          <a:xfrm>
            <a:off x="4987800" y="2108160"/>
            <a:ext cx="3276720" cy="34416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/>
          <p:cNvSpPr/>
          <p:nvPr/>
        </p:nvSpPr>
        <p:spPr>
          <a:xfrm>
            <a:off x="468360" y="537372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5. Верно ли, что в большинстве стран модно курить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курить никогда не было модн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урить модн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мода на курение прошл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дь"/>
          <p:cNvPicPr/>
          <p:nvPr/>
        </p:nvPicPr>
        <p:blipFill>
          <a:blip r:embed="rId1"/>
          <a:stretch/>
        </p:blipFill>
        <p:spPr>
          <a:xfrm>
            <a:off x="5651640" y="1844640"/>
            <a:ext cx="29415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>
            <a:hlinkClick r:id="" action="ppaction://hlinkshowjump?jump=nextslide"/>
          </p:cNvPr>
          <p:cNvSpPr/>
          <p:nvPr/>
        </p:nvSpPr>
        <p:spPr>
          <a:xfrm>
            <a:off x="824400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6. Что такое пассивное курение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нахождение в помещении, где куря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огда куришь за компани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когда активно не затягиваешься сигарето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228600" y="586728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16"/>
          <p:cNvPicPr/>
          <p:nvPr/>
        </p:nvPicPr>
        <p:blipFill>
          <a:blip r:embed="rId1"/>
          <a:stretch/>
        </p:blipFill>
        <p:spPr>
          <a:xfrm>
            <a:off x="4716360" y="2133720"/>
            <a:ext cx="3772080" cy="22161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7. Что вреднее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дым от сигарет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дым от газовой горелк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ыхлопные газ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nextslide"/>
          </p:cNvPr>
          <p:cNvSpPr/>
          <p:nvPr/>
        </p:nvSpPr>
        <p:spPr>
          <a:xfrm>
            <a:off x="8317080" y="5734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иои"/>
          <p:cNvPicPr/>
          <p:nvPr/>
        </p:nvPicPr>
        <p:blipFill>
          <a:blip r:embed="rId1"/>
          <a:stretch/>
        </p:blipFill>
        <p:spPr>
          <a:xfrm>
            <a:off x="4716360" y="2133720"/>
            <a:ext cx="3772080" cy="30002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8.Какие профессии менее доступны для курящих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спортсмен-профессионал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токар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ра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5e1e0ce0d3f9bfc0fb1199b40d98b3cf"/>
          <p:cNvPicPr/>
          <p:nvPr/>
        </p:nvPicPr>
        <p:blipFill>
          <a:blip r:embed="rId1"/>
          <a:stretch/>
        </p:blipFill>
        <p:spPr>
          <a:xfrm>
            <a:off x="4610160" y="2313000"/>
            <a:ext cx="3771720" cy="24350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Фото: Fotobank"/>
          <p:cNvPicPr/>
          <p:nvPr/>
        </p:nvPicPr>
        <p:blipFill>
          <a:blip r:embed="rId1"/>
          <a:stretch/>
        </p:blipFill>
        <p:spPr>
          <a:xfrm>
            <a:off x="611280" y="3716280"/>
            <a:ext cx="3527280" cy="2932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Картинка 1 из 14827"/>
          <p:cNvPicPr/>
          <p:nvPr/>
        </p:nvPicPr>
        <p:blipFill>
          <a:blip r:embed="rId2"/>
          <a:stretch/>
        </p:blipFill>
        <p:spPr>
          <a:xfrm>
            <a:off x="5796000" y="2708280"/>
            <a:ext cx="2762280" cy="394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Картинка 8 из 14827"/>
          <p:cNvPicPr/>
          <p:nvPr/>
        </p:nvPicPr>
        <p:blipFill>
          <a:blip r:embed="rId3"/>
          <a:stretch/>
        </p:blipFill>
        <p:spPr>
          <a:xfrm>
            <a:off x="1332000" y="260280"/>
            <a:ext cx="424800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9. При каком царе табак появился в России?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при Иване Грозно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при Петре 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при Екатерине 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9"/>
          <p:cNvPicPr/>
          <p:nvPr/>
        </p:nvPicPr>
        <p:blipFill>
          <a:blip r:embed="rId1"/>
          <a:stretch/>
        </p:blipFill>
        <p:spPr>
          <a:xfrm>
            <a:off x="5338800" y="1905120"/>
            <a:ext cx="2465280" cy="403848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5"/>
          <p:cNvSpPr/>
          <p:nvPr/>
        </p:nvSpPr>
        <p:spPr>
          <a:xfrm>
            <a:off x="468360" y="5229360"/>
            <a:ext cx="2438280" cy="76176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8229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20. Какой русский царь ввел запрет на курение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Алексей Михайлови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Петр 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Екатерина I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20"/>
          <p:cNvPicPr/>
          <p:nvPr/>
        </p:nvPicPr>
        <p:blipFill>
          <a:blip r:embed="rId1"/>
          <a:stretch/>
        </p:blipFill>
        <p:spPr>
          <a:xfrm>
            <a:off x="5638680" y="1971720"/>
            <a:ext cx="25466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5"/>
          <p:cNvSpPr/>
          <p:nvPr/>
        </p:nvSpPr>
        <p:spPr>
          <a:xfrm>
            <a:off x="539640" y="5300640"/>
            <a:ext cx="243864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21. Какое основное действие угарного газа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образование карбоксигемоглобина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вызывает кашел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влияет на работу печен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1"/>
          <p:cNvPicPr/>
          <p:nvPr/>
        </p:nvPicPr>
        <p:blipFill>
          <a:blip r:embed="rId1"/>
          <a:stretch/>
        </p:blipFill>
        <p:spPr>
          <a:xfrm>
            <a:off x="5591160" y="2041560"/>
            <a:ext cx="2668680" cy="34797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>
            <a:hlinkClick r:id="" action="ppaction://hlinkshowjump?jump=nextslide"/>
          </p:cNvPr>
          <p:cNvSpPr/>
          <p:nvPr/>
        </p:nvSpPr>
        <p:spPr>
          <a:xfrm>
            <a:off x="8317080" y="5805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22. Как много взрослых мужчин в нашей стране курит? 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10%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30%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более 50 %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22"/>
          <p:cNvPicPr/>
          <p:nvPr/>
        </p:nvPicPr>
        <p:blipFill>
          <a:blip r:embed="rId1"/>
          <a:stretch/>
        </p:blipFill>
        <p:spPr>
          <a:xfrm>
            <a:off x="4724280" y="1828800"/>
            <a:ext cx="3943440" cy="28368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468360" y="5300640"/>
            <a:ext cx="2438280" cy="76212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>
            <a:hlinkClick r:id="" action="ppaction://hlinkshowjump?jump=nextslide"/>
          </p:cNvPr>
          <p:cNvSpPr/>
          <p:nvPr/>
        </p:nvSpPr>
        <p:spPr>
          <a:xfrm>
            <a:off x="824400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7" descr="1 172"/>
          <p:cNvPicPr/>
          <p:nvPr/>
        </p:nvPicPr>
        <p:blipFill>
          <a:blip r:embed="rId1"/>
          <a:stretch/>
        </p:blipFill>
        <p:spPr>
          <a:xfrm>
            <a:off x="2195640" y="1557360"/>
            <a:ext cx="4108320" cy="3081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IMG_4454"/>
          <p:cNvPicPr/>
          <p:nvPr/>
        </p:nvPicPr>
        <p:blipFill>
          <a:blip r:embed="rId2"/>
          <a:stretch/>
        </p:blipFill>
        <p:spPr>
          <a:xfrm>
            <a:off x="4859280" y="220500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232" name="WordArt 7"/>
          <p:cNvSpPr txBox="1"/>
          <p:nvPr/>
        </p:nvSpPr>
        <p:spPr>
          <a:xfrm>
            <a:off x="826920" y="692280"/>
            <a:ext cx="770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ыбираем жизнь без сигарет!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3" name="Picture 13" descr="IMG_4462"/>
          <p:cNvPicPr/>
          <p:nvPr/>
        </p:nvPicPr>
        <p:blipFill>
          <a:blip r:embed="rId3"/>
          <a:stretch/>
        </p:blipFill>
        <p:spPr>
          <a:xfrm>
            <a:off x="324000" y="2205000"/>
            <a:ext cx="4321080" cy="3241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IMG_4461"/>
          <p:cNvPicPr/>
          <p:nvPr/>
        </p:nvPicPr>
        <p:blipFill>
          <a:blip r:embed="rId4"/>
          <a:stretch/>
        </p:blipFill>
        <p:spPr>
          <a:xfrm>
            <a:off x="2556000" y="3284640"/>
            <a:ext cx="4325760" cy="3244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IMG_4466"/>
          <p:cNvPicPr/>
          <p:nvPr/>
        </p:nvPicPr>
        <p:blipFill>
          <a:blip r:embed="rId5"/>
          <a:stretch/>
        </p:blipFill>
        <p:spPr>
          <a:xfrm>
            <a:off x="1332000" y="1413000"/>
            <a:ext cx="6624720" cy="5257800"/>
          </a:xfrm>
          <a:prstGeom prst="rect">
            <a:avLst/>
          </a:prstGeom>
          <a:ln w="0">
            <a:noFill/>
          </a:ln>
        </p:spPr>
      </p:pic>
      <p:sp>
        <p:nvSpPr>
          <p:cNvPr id="236" name="WordArt 10"/>
          <p:cNvSpPr txBox="1"/>
          <p:nvPr/>
        </p:nvSpPr>
        <p:spPr>
          <a:xfrm>
            <a:off x="324000" y="3213000"/>
            <a:ext cx="8424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ыбираем - ЗДОРОВЬ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0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Умение справляться со стрессо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Собственное усвоение хороших привыче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Правильное питани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Защита окружающей сред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indefinite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indefinite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indefinite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1" dur="indefinite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2" dur="indefinite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8" dur="indefinite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indefinite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3" dur="indefinite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4" dur="indefinite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344960" y="734040"/>
            <a:ext cx="6309000" cy="35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 Black"/>
              </a:rPr>
              <a:t>«Здоровье есть величайшее сокровище, перед которым всё остальное ничто!» А.Шопенгауэр </a:t>
            </a: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lang="ru-RU" sz="3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39" name="Picture 9" descr="IMG_4466"/>
          <p:cNvPicPr/>
          <p:nvPr/>
        </p:nvPicPr>
        <p:blipFill>
          <a:blip r:embed="rId1"/>
          <a:stretch/>
        </p:blipFill>
        <p:spPr>
          <a:xfrm>
            <a:off x="1908000" y="2205000"/>
            <a:ext cx="5616720" cy="4457880"/>
          </a:xfrm>
          <a:prstGeom prst="rect">
            <a:avLst/>
          </a:prstGeom>
          <a:ln w="0">
            <a:noFill/>
          </a:ln>
        </p:spPr>
      </p:pic>
      <p:sp>
        <p:nvSpPr>
          <p:cNvPr id="240" name="WordArt 10"/>
          <p:cNvSpPr txBox="1"/>
          <p:nvPr/>
        </p:nvSpPr>
        <p:spPr>
          <a:xfrm>
            <a:off x="250920" y="5516640"/>
            <a:ext cx="87138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ыбираем - ЗДОРОВЬ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60000">
    <p:newsflash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езультаты диагностики предрасположенности к курения учащихся 7 «А» класса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5 учащихся - нет предрасположенности к курению, сам процесс курения не одобряется (74%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 учащихся - нейтральное отношение к курению, возможно приобщение к нему при случае (24%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 учащийся - положительное отношение к курению, возможно, подросток уже приобщился к нему (2%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татисти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ждых 100 человек, умерших от хронических заболеваний легких, 75 кури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ждых 100 человек, умерших от ишемической болезни сердца, 25 кури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ждых 100 человек, начавших курить, заядлыми курильщиками становятся 8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7-й длительно курящий человек страдает эндартериитом – тяжелым заболеванием кровеносных со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человек начал курить в15 лет, продолжительность его жизни уменьшается более чем на 8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куривая 20 сигарет в день, человек дышит воздухом, загрязненность которого в 580-1100 раз превышает санитарные нор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00 химических веществ, содержащихся в табачном дыме, наносят непоправимый вред здоровью не только курящих, но и тех, кто находится рядом с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777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i="1" lang="ru-RU" sz="3500" spc="-1" strike="noStrike">
                <a:solidFill>
                  <a:srgbClr val="008000"/>
                </a:solidFill>
                <a:latin typeface="Times New Roman"/>
              </a:rPr>
              <a:t>В дыме табака содержится более     80 ядовитых веществ</a:t>
            </a:r>
            <a:r>
              <a:rPr b="1" i="1" lang="ru-RU" sz="3500" spc="-1" strike="noStrike">
                <a:solidFill>
                  <a:srgbClr val="336666"/>
                </a:solidFill>
                <a:latin typeface="Times New Roman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5 и 12"/>
          <p:cNvPicPr/>
          <p:nvPr/>
        </p:nvPicPr>
        <p:blipFill>
          <a:blip r:embed="rId1"/>
          <a:stretch/>
        </p:blipFill>
        <p:spPr>
          <a:xfrm>
            <a:off x="1763640" y="1844640"/>
            <a:ext cx="6120000" cy="4397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2" descr="post-19-1143712483[1]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4386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70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Наглядный пример различия между лег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курильщика и легкими человека, который не кур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48240" y="3324240"/>
          <a:ext cx="1657440" cy="76212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3"/>
          <p:cNvSpPr/>
          <p:nvPr/>
        </p:nvSpPr>
        <p:spPr>
          <a:xfrm>
            <a:off x="4163760" y="1095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Картинка 1 из 1494"/>
          <p:cNvPicPr/>
          <p:nvPr/>
        </p:nvPicPr>
        <p:blipFill>
          <a:blip r:embed="rId1"/>
          <a:stretch/>
        </p:blipFill>
        <p:spPr>
          <a:xfrm>
            <a:off x="395280" y="1844640"/>
            <a:ext cx="5724360" cy="38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385"/>
          <p:cNvPicPr/>
          <p:nvPr/>
        </p:nvPicPr>
        <p:blipFill>
          <a:blip r:embed="rId2"/>
          <a:stretch/>
        </p:blipFill>
        <p:spPr>
          <a:xfrm>
            <a:off x="6012000" y="2060640"/>
            <a:ext cx="2840040" cy="3313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вреждённое сердце курильщи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slow" advTm="60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2" name="Picture 3" descr="Graph_2_big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580000"/>
          </a:xfrm>
          <a:prstGeom prst="rect">
            <a:avLst/>
          </a:prstGeom>
          <a:ln w="76320">
            <a:solidFill>
              <a:srgbClr val="d6e0e0"/>
            </a:solidFill>
            <a:miter/>
          </a:ln>
        </p:spPr>
      </p:pic>
    </p:spTree>
  </p:cSld>
  <p:transition spd="slow" advTm="6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21:09:10Z</dcterms:created>
  <dc:creator>SSE</dc:creator>
  <dc:description/>
  <cp:keywords/>
  <dc:language>en-US</dc:language>
  <cp:lastModifiedBy>Ёля</cp:lastModifiedBy>
  <dcterms:modified xsi:type="dcterms:W3CDTF">2012-02-20T15:07:14Z</dcterms:modified>
  <cp:revision>6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