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358-AB92-4D96-BF5D-47C7B6F7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506-CADC-456B-8D9A-88D3E73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78230-CFB3-49DC-A5F4-A8F46D2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6784A-8D5F-46FC-BB36-9A66803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E3E09-5216-46E2-AC3E-F52676B8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D6B07-EB6F-4CD7-8858-FB63CAC1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D6DAF-79BC-4F42-8603-1BD4B2E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E0849-66D8-4296-A040-E8C96929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72AB7-615A-40DB-B8F2-A227DA9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8E896-D4AC-4D3B-A644-8DAB4380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A9F88-44B3-4FC8-A506-62967AE9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40EA5-594C-4FC2-940A-2E60B97A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530-018D-4CD1-8CE7-605A0CC0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A5FBF-1404-48D1-A8BD-42A0D2E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DD473-661E-414E-B41C-0456B3A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2DD72-B73F-43BD-B0B3-B9FD0731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CA2F5-C203-40A1-82BF-341F347A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0B363-AFE1-45E3-9979-8CF3EC5D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6387C-BECA-4325-8B79-24D9DA3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9094F-60A3-40BD-B40E-BD8E09A9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69B47-D7C6-49A0-B9E8-F6DC20E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A3AE0-A347-47CB-A85C-2BEE7184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9506B-56EB-413D-84DD-8386F9FA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5A5-E34C-4C49-BE34-2DC96321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E37BA-6E2D-4363-8337-45FDCD45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514F4-E700-4359-AE7F-E017359B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BF623-2FA8-40ED-94A4-F060EB8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A46B4-A982-4B12-AA03-111D36E7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2C96B-C0A1-4FB3-B82C-59DA3492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E2F0F-43F3-4727-9C42-76C256EC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DFFAA-3839-41FF-B88A-F45FE52C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360CD-9E5E-4872-BC28-FF0D47E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C859E-F90C-4721-B3E8-1B19B9F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7510F-DF97-4AFE-AD8F-B32DF3A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34D8-BD39-4F73-9550-50329BCB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C6F31-1ED6-4AA6-A9C8-AB0B5679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79D6F-566F-4A37-9FE0-C3592285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8A673-3FB9-4EA5-B3C3-65CC0420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0D7BE-B1A7-4706-B50C-71148349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6953B-549A-4F66-8B0A-BDF7FE3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2D30A-5709-4167-A51A-4A88EBD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33B48-DDD1-4A01-A271-21710BA4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39A9F-8D92-4CF9-86B6-1E7BD71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D4A8B-EF2E-4FBF-9EB9-C1B92B69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4016F-4282-488F-9FBF-532CB93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F91F-EDCD-49CB-86CA-36B01FEF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0E47C-3879-41D6-8683-F0F1C54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38E27-81D1-41A9-8119-1AC689D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95805-3268-443A-8D83-75168776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68FD5-BB4F-4635-9988-3D2A0433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B6998-1307-4717-A139-EFED8864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E27E-B582-496F-BE5C-3BB38AC9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5BE2-D16B-4474-A4E1-07FB665A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1078-235B-4D93-841F-126704B2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76E3-8853-4F91-8270-9D8CC82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274-AE49-4B9F-A6C7-C1138140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87F-6745-49B7-9D0D-E7B97CA4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629A-F07D-4AB6-B2B9-B67634A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418F-87B1-4909-BFA8-41E80380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06E5-517F-4394-84E7-F669F34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892F-9E8B-4A64-9B1D-5ACD05F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AACE-EB21-4887-A0E0-D10F2B96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8DE5-6F9F-4C6A-8B55-E39822B0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00AB-27D2-43C2-9AB7-1B8989D8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4ACF-C9EF-47F9-BEC5-C1875EBE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320A-998D-4841-8997-68C784E8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E8BC-C99E-478E-941B-BE5CDF3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740-A0FA-4B9B-9A58-99D6342E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5C4D-56CF-4DCE-BBF6-238F255D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3B29-6234-4ED1-9ABF-91BC963D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E4C4-725C-45E8-9F15-BD32675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BE00-8156-4677-BC86-F04BA131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873A-5F09-4B2D-B4A2-E3B7512B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C8F1-3849-4666-861F-349BC19A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44C3-141A-4C85-A3E8-531A6745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3A79-D269-43E6-83BB-5E8203A1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98C7-C72F-4C21-8EC5-1177F34E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9DFE-6570-4B09-87A8-D63E619F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2D7-3435-479D-9DB9-07FBB95D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1C2B-E44C-427F-A6E7-BF2EA9A0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D90B-661C-4F78-8BA8-517CA5D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3D57-4C84-48C4-9263-ECF9BF60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AC61-156C-4E2F-BCFD-61DF60B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C245-38CD-4344-92E3-5C015BF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3198-8769-44F2-B762-3562830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E9E0-E4A2-4003-B917-74840E0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A323-698C-4E4A-B58A-15748BA1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06D8-5A77-4922-B648-DF418356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C588-C43B-452C-92B2-B2A3C2B2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B25-D38F-46AC-9E3E-4DE1EEB4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4A18E-05EB-4DE7-BA80-8ADBE764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6C86-0619-4DE7-8FB9-23C892DB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D77C-A210-4EFC-80CB-5C14ED0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F82BD-D6B8-47D0-991E-A50661B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7DBD-C72F-4BE1-9787-33367421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F41F-EE3E-4E06-9550-85B0BD7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D967-E3C2-48AC-BC03-4DF6653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1A2E-7C2E-40EE-9E55-37A6243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0DFA-4CA2-4461-A6FB-E77F1EE1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3A1F-E5CC-46C7-A93F-FAADB468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AFC-1351-4D62-AA47-2472BD14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C036-DA5E-4C2F-B63F-0B1EA0D4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80ED-09DD-4FF5-9A85-5D6716D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EB1B-911A-4F18-8E6D-8A357793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7571-3490-4B85-AF23-C52C6784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CE60-6AA6-42EE-8DF8-08F76837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7348-99DC-4B6B-A20F-BDFE8AF6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628B1-C5C7-4E50-A752-EEDF57A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B233-6D89-40DF-A846-3906FFE3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B009-6B99-408C-8D4B-202DC0E0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C3680-4D2D-4A9C-BC0C-E319CB1B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FB9-8ACD-4899-8D52-6182DCB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3E24-80D4-41B8-8465-74811E8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341D-6709-4A5B-BB90-6F0AD3D8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1F0E-0058-44CA-8F31-92EF8FC7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613A-AED9-4DCE-990C-8EF19129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F68F2-F1DA-4AB2-BEBE-05EB2AC0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B7B9-57E0-4B3F-A1D3-B78F8E20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BCAAE-351D-441D-A21C-EA7D8CC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DA0D-AA7C-48FC-8834-FE99820D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6371F-0B08-4487-83CC-AF44E112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79FED-EFAE-4BA6-B6B7-09CCA95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C66-D7D6-4C24-8A82-4DA5F83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9991B-8675-453C-87F0-A4C9B89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77A9-EE9A-4025-B8F3-33E3056D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64FE-685F-40D1-8AF0-57233A14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BF1E0-2F13-45E7-AB7B-985AA2B0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DF42-A1D7-46F5-AE9E-FEE3AA1F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83FB4-4773-4B7B-A747-484BEA48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563C-EA59-4853-AE04-3BAB9223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95BE1-6EE2-42DD-A44C-C8EE1EB3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28E19-FEB3-434F-872F-D0144315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316B7-93CB-4A22-B53D-8EEA3633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F70-6E11-43E0-AD1E-871A52A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6EA3-3D39-4356-B932-5D23D22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24A5A-FC66-4FF0-A47B-50F3A0C6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BD836-6E4E-494A-A72A-B91CEC3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5BB0A-3868-4FC7-BEBF-3069E761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0795B-3CDE-4EE8-B2D0-DC908A0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CCA62-9895-41C3-AEF7-977FCE0C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56215-889E-4288-9B46-D8EE3BB6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CF7BB-E7B4-4CAB-9779-E5426069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C4E9A-458F-4218-8791-AB013991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F7A40-FDFC-49A4-BF7F-CA20BCF4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768-66C2-49F0-892E-BC0CE0AE2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2AB9-98DB-4813-906F-83339C3E2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A7F3-CC15-4615-B452-6889A435F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6CA9-02A8-48A0-B77D-B68F17A93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9FB8-56BC-4968-9301-243DD66F8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363B-57E4-4DCB-9064-D4F1094D7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61D-A55D-4E2C-B004-3EF0B382C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A467-E001-4A97-9ACF-FCB592273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7BD3-A1F9-4D02-9207-6CE896625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DC5-90AB-4B28-867D-3995CA4C2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AF3D-A140-4E7A-8075-968BB4D49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41D-A56C-4645-8DDA-E22B97956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no Pro Smbd"/>
              </a:rPr>
              <a:t>Здравствуй,  школ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5" descr="62286315.png"/>
          <p:cNvPicPr/>
          <p:nvPr/>
        </p:nvPicPr>
        <p:blipFill>
          <a:blip r:embed="rId1"/>
          <a:stretch/>
        </p:blipFill>
        <p:spPr>
          <a:xfrm>
            <a:off x="0" y="1071720"/>
            <a:ext cx="9286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Содержимое 3" descr="f_j031.jpg"/>
          <p:cNvPicPr/>
          <p:nvPr/>
        </p:nvPicPr>
        <p:blipFill>
          <a:blip r:embed="rId1"/>
          <a:stretch/>
        </p:blipFill>
        <p:spPr>
          <a:xfrm>
            <a:off x="207180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Содержимое 3" descr="42030763_22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Содержимое 3" descr="f_k031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Содержимое 3" descr="erg2.jpg"/>
          <p:cNvPicPr/>
          <p:nvPr/>
        </p:nvPicPr>
        <p:blipFill>
          <a:blip r:embed="rId1"/>
          <a:stretch/>
        </p:blipFill>
        <p:spPr>
          <a:xfrm>
            <a:off x="14292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4" descr="Mal.jpg"/>
          <p:cNvPicPr/>
          <p:nvPr/>
        </p:nvPicPr>
        <p:blipFill>
          <a:blip r:embed="rId2"/>
          <a:stretch/>
        </p:blipFill>
        <p:spPr>
          <a:xfrm>
            <a:off x="4500720" y="3214800"/>
            <a:ext cx="62150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Содержимое 9" descr="087425a81db2.jpg"/>
          <p:cNvPicPr/>
          <p:nvPr/>
        </p:nvPicPr>
        <p:blipFill>
          <a:blip r:embed="rId1"/>
          <a:stretch/>
        </p:blipFill>
        <p:spPr>
          <a:xfrm>
            <a:off x="228600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Содержимое 3" descr="0013-013-Pravila-raboty-za-kompjuterom.jpg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2" descr="C:\Documents and Settings\Иванка\Рабочий стол\ibm_1.gif"/>
          <p:cNvPicPr/>
          <p:nvPr/>
        </p:nvPicPr>
        <p:blipFill>
          <a:blip r:embed="rId1"/>
          <a:stretch/>
        </p:blipFill>
        <p:spPr>
          <a:xfrm>
            <a:off x="1143000" y="214200"/>
            <a:ext cx="6572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Содержимое 3" descr="profilaktika onemeniya ryk.jpg"/>
          <p:cNvPicPr/>
          <p:nvPr/>
        </p:nvPicPr>
        <p:blipFill>
          <a:blip r:embed="rId1"/>
          <a:stretch/>
        </p:blipFill>
        <p:spPr>
          <a:xfrm>
            <a:off x="214200" y="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4" descr="10.gif"/>
          <p:cNvPicPr/>
          <p:nvPr/>
        </p:nvPicPr>
        <p:blipFill>
          <a:blip r:embed="rId2"/>
          <a:stretch/>
        </p:blipFill>
        <p:spPr>
          <a:xfrm>
            <a:off x="4500720" y="2714760"/>
            <a:ext cx="450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42030774_33.jpg"/>
          <p:cNvPicPr/>
          <p:nvPr/>
        </p:nvPicPr>
        <p:blipFill>
          <a:blip r:embed="rId1"/>
          <a:stretch/>
        </p:blipFill>
        <p:spPr>
          <a:xfrm>
            <a:off x="221472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Содержимое 3" descr="Artem-computer_10-spina.jpg"/>
          <p:cNvPicPr/>
          <p:nvPr/>
        </p:nvPicPr>
        <p:blipFill>
          <a:blip r:embed="rId1"/>
          <a:stretch/>
        </p:blipFill>
        <p:spPr>
          <a:xfrm>
            <a:off x="164304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28800" y="274680"/>
            <a:ext cx="371484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Чтобы</a:t>
            </a: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компьютер  был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 друг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Содержимое 3" descr="7816.jpg"/>
          <p:cNvPicPr/>
          <p:nvPr/>
        </p:nvPicPr>
        <p:blipFill>
          <a:blip r:embed="rId1"/>
          <a:stretch/>
        </p:blipFill>
        <p:spPr>
          <a:xfrm>
            <a:off x="0" y="142920"/>
            <a:ext cx="5429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no Pro Smbd"/>
            </a:endParaRPr>
          </a:p>
        </p:txBody>
      </p:sp>
      <p:pic>
        <p:nvPicPr>
          <p:cNvPr id="533" name="Содержимое 5" descr="f7caafddb99b.png"/>
          <p:cNvPicPr/>
          <p:nvPr/>
        </p:nvPicPr>
        <p:blipFill>
          <a:blip r:embed="rId1"/>
          <a:stretch/>
        </p:blipFill>
        <p:spPr>
          <a:xfrm>
            <a:off x="1366920" y="1600200"/>
            <a:ext cx="6410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Содержимое 3" descr="242efe6d6234bc36a615557af826aa34_full.jpg"/>
          <p:cNvPicPr/>
          <p:nvPr/>
        </p:nvPicPr>
        <p:blipFill>
          <a:blip r:embed="rId1"/>
          <a:stretch/>
        </p:blipFill>
        <p:spPr>
          <a:xfrm>
            <a:off x="714240" y="0"/>
            <a:ext cx="7143840" cy="57862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1714680" y="578628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МОНИТ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1640" y="2857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СИСТЕМНЫЙ БЛ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Содержимое 3" descr="26979.jpg"/>
          <p:cNvPicPr/>
          <p:nvPr/>
        </p:nvPicPr>
        <p:blipFill>
          <a:blip r:embed="rId1"/>
          <a:stretch/>
        </p:blipFill>
        <p:spPr>
          <a:xfrm>
            <a:off x="357120" y="428760"/>
            <a:ext cx="4143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2560" y="5143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КОМПЬЮТЕРНАЯ    МЫШ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Содержимое 3" descr="676063808.jpg"/>
          <p:cNvPicPr/>
          <p:nvPr/>
        </p:nvPicPr>
        <p:blipFill>
          <a:blip r:embed="rId1"/>
          <a:stretch/>
        </p:blipFill>
        <p:spPr>
          <a:xfrm>
            <a:off x="642960" y="571680"/>
            <a:ext cx="4753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ЗВУКОВЫЕ    КОЛО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Содержимое 3" descr="creative-gigaworks-t40-20080512044852598-000.jpg"/>
          <p:cNvPicPr/>
          <p:nvPr/>
        </p:nvPicPr>
        <p:blipFill>
          <a:blip r:embed="rId1"/>
          <a:stretch/>
        </p:blipFill>
        <p:spPr>
          <a:xfrm>
            <a:off x="500040" y="35712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7120" y="48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КЛАВИАТУ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Содержимое 3" descr="klava2-2110.jpg"/>
          <p:cNvPicPr/>
          <p:nvPr/>
        </p:nvPicPr>
        <p:blipFill>
          <a:blip r:embed="rId1"/>
          <a:stretch/>
        </p:blipFill>
        <p:spPr>
          <a:xfrm>
            <a:off x="357120" y="428760"/>
            <a:ext cx="66438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72080" y="2642760"/>
            <a:ext cx="44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ДИС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Содержимое 3" descr="lflash.jpg"/>
          <p:cNvPicPr/>
          <p:nvPr/>
        </p:nvPicPr>
        <p:blipFill>
          <a:blip r:embed="rId1"/>
          <a:stretch/>
        </p:blipFill>
        <p:spPr>
          <a:xfrm>
            <a:off x="1285920" y="1500120"/>
            <a:ext cx="3643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Содержимое 3" descr="default.jpeg"/>
          <p:cNvPicPr/>
          <p:nvPr/>
        </p:nvPicPr>
        <p:blipFill>
          <a:blip r:embed="rId1"/>
          <a:stretch/>
        </p:blipFill>
        <p:spPr>
          <a:xfrm>
            <a:off x="214200" y="214200"/>
            <a:ext cx="8286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1:43:39Z</dcterms:created>
  <dc:creator>www.PHILka.RU</dc:creator>
  <dc:description/>
  <dc:language>en-US</dc:language>
  <cp:lastModifiedBy>Ёля</cp:lastModifiedBy>
  <dcterms:modified xsi:type="dcterms:W3CDTF">2011-10-25T05:31:10Z</dcterms:modified>
  <cp:revision>15</cp:revision>
  <dc:subject/>
  <dc:title>Слайд 1</dc:title>
</cp:coreProperties>
</file>